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B559-385F-4576-AC9F-BA72EA0EFB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56EF-8AA9-4BA3-8BC1-8A55542D9A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4FEE-FB9E-4E57-B8B5-8041BF8E7E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C0F-87A1-41B7-91C7-3D79F61E547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3135-6EA1-40F5-AD4D-D2598F6990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AE9C-A11D-4045-A64C-AEC8741D39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ted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1BAA-A955-468A-A8BA-CEDA5C20F24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F20F-C472-4DB8-8E81-7C8C246303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D12C-73C8-498E-ADBF-30408B5AB0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98C0-614E-4204-93FF-C28F6A5B5E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88DC-10F2-4670-A8B3-36A2DCA9F4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6BE-18F9-4711-8DD1-569683E885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3299-9135-43F9-8E0E-7697465D42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433F-B857-4E76-A247-DA212ED5E7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9CE-2309-49D2-AC05-53BB2F55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55C-DE37-4A3B-AC55-BD9ECD3B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C1A-7B62-4524-BDB2-78E6E7F4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CA9-7D83-49E6-BEA9-6722C5A1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EC2B-E56B-4216-A187-E1133ECB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7246-4B6B-4FBE-8BA2-8377180E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2D3B-854C-4D47-A37B-57765E37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3C3E-50D5-4DB4-A033-BD262285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9D2A-D478-4FB5-BC6F-F4EF3BF8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A1F3-213D-4524-B230-C219359D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56CA-E911-4C0B-BE43-5FB0AC68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E54-72E1-482C-B991-C1599AB8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27C4-435E-49EF-8482-CDC7A412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A3C8-FCF8-4ABC-84D5-5B26FAE0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67C6-EE8A-429A-89EE-EF3ED100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8EC5-7418-4903-9A22-A8111094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6EC2-C415-4803-9B0A-164FB165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9B83-E3C4-48B2-8C60-44BBD198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236D-D81B-416B-B5E5-6ECA9893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1D87-AB00-455B-AB36-B3BB9A01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BB6BB-39A0-481D-9346-A3605C33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C186-E45D-40F2-B925-22AF7A7D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51B-B0DB-48B5-9DF1-6FBC4C5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D39A-D676-4325-9AD8-9D8EFC32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F203-5CAF-4BFB-B5CE-9F3E41D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85F4-3EF5-4B93-A288-6B07B589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0689-3A70-4428-BEC5-ED27B025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787A-B334-44F9-8C33-64E432FD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C55C-555B-408A-A033-61424189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18A5-925C-40D7-82C7-8908748A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17C5F-99B2-4FC3-97A9-C75928A8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FEAA-C63C-4B60-937A-3D6D0A95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78720-AA3B-4500-AD27-0E5A75C6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4CB-10EE-4B9D-982B-2C284848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A4703-FB44-434F-ADE1-9916467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2684-BDB1-4CCC-A3CA-C3C72D3E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93071-5212-4DBC-9A65-3427F37F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18573-A051-4F32-B45C-447108C7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3650F-90AD-4B48-A51F-9E71FFBB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4968-D597-49BC-9008-5C342EB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6B22-625F-4770-8738-7798A360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2503-4CBA-4A86-9FF7-6326DF22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70CC-AF15-47CF-A971-25FE10EB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88A-63DF-4ED8-807E-7AB7D484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EBE-3B5D-4AD3-A679-AF6E941D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99C-B66C-4C03-A98B-B3A9168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AF7-5371-4B41-9DC1-7B51B0F3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D5BE-35EB-4453-B886-9C060531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E880-FBAC-4DA6-ABC6-E48A3232909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FB3F-2518-4E76-86A4-EEBB8BEC3B6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C215-0B76-4341-9E21-341BB68F15F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ECE0-ACDC-4A51-A376-A8F0617B41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9EB7-0B37-4F34-9648-892A9FCF1C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64216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"/>
              </a:rPr>
              <a:t>Evaluating the Effectiveness of Axiomatic Approaches in Web Track </a:t>
            </a:r>
            <a:br>
              <a:rPr sz="4000"/>
            </a:br>
            <a:br>
              <a:rPr sz="2800"/>
            </a:br>
            <a:r>
              <a:rPr b="1" i="1" lang="en-US" sz="2600" spc="-1" strike="noStrike">
                <a:solidFill>
                  <a:srgbClr val="7f7f7f"/>
                </a:solidFill>
                <a:latin typeface="Arial"/>
                <a:ea typeface="Arial"/>
              </a:rPr>
              <a:t>TREC 2013 Web Track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547640" y="4508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ilin Yang and Hui F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Dela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24" descr="https://www.udel.edu/lock-down/ocm-graphics/internal/InterlockingUD1C.jpg"/>
          <p:cNvPicPr/>
          <p:nvPr/>
        </p:nvPicPr>
        <p:blipFill>
          <a:blip r:embed="rId1"/>
          <a:stretch/>
        </p:blipFill>
        <p:spPr>
          <a:xfrm>
            <a:off x="6931080" y="6137280"/>
            <a:ext cx="496800" cy="64764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A22E-8B50-4FCB-A0BF-5814514F8BA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" descr="infolab-logo.png"/>
          <p:cNvPicPr/>
          <p:nvPr/>
        </p:nvPicPr>
        <p:blipFill>
          <a:blip r:embed="rId2"/>
          <a:stretch/>
        </p:blipFill>
        <p:spPr>
          <a:xfrm>
            <a:off x="7415280" y="6093000"/>
            <a:ext cx="1747800" cy="765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ypeilin\Desktop\1.png"/>
          <p:cNvPicPr/>
          <p:nvPr/>
        </p:nvPicPr>
        <p:blipFill>
          <a:blip r:embed="rId3"/>
          <a:stretch/>
        </p:blipFill>
        <p:spPr>
          <a:xfrm>
            <a:off x="755640" y="4149720"/>
            <a:ext cx="1295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5AE9-66AB-4224-BDD6-5C90AF1383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Semantic Term Matching Constraints</a:t>
            </a:r>
            <a:br>
              <a:rPr sz="3600"/>
            </a:b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(STMC2 &amp; STMC3)</a:t>
            </a:r>
            <a:r>
              <a:rPr b="1" lang="en-US" sz="3600" spc="-1" strike="noStrike">
                <a:solidFill>
                  <a:srgbClr val="000099"/>
                </a:solidFill>
                <a:latin typeface="Calibri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57200" y="1073160"/>
            <a:ext cx="8458200" cy="12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3f1f"/>
                </a:solidFill>
                <a:latin typeface="Calibri"/>
                <a:ea typeface="宋体"/>
              </a:rPr>
              <a:t>Semantic Term Matching heuristic II:</a:t>
            </a:r>
            <a:r>
              <a:rPr b="0" lang="en-US" sz="1800" spc="-1" strike="noStrike">
                <a:solidFill>
                  <a:srgbClr val="5e3f1f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5e3f1f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5e3f1f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5e3f1f"/>
                </a:solidFill>
                <a:latin typeface="Calibri"/>
                <a:ea typeface="宋体"/>
              </a:rPr>
              <a:t>	</a:t>
            </a:r>
            <a:r>
              <a:rPr b="0" lang="en-US" sz="2000" spc="-1" strike="noStrike">
                <a:solidFill>
                  <a:srgbClr val="5e3f1f"/>
                </a:solidFill>
                <a:latin typeface="Calibri"/>
                <a:ea typeface="宋体"/>
              </a:rPr>
              <a:t>Favor semantically similar terms(SMTC3);                          </a:t>
            </a:r>
            <a:r>
              <a:rPr b="0" lang="en-US" sz="2000" spc="-1" strike="noStrike">
                <a:solidFill>
                  <a:srgbClr val="5e3f1f"/>
                </a:solidFill>
                <a:latin typeface="Calibri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3f1f"/>
                </a:solidFill>
                <a:latin typeface="Calibri"/>
                <a:ea typeface="宋体"/>
              </a:rPr>
              <a:t>	</a:t>
            </a:r>
            <a:r>
              <a:rPr b="0" lang="en-US" sz="2000" spc="-1" strike="noStrike">
                <a:solidFill>
                  <a:srgbClr val="5e3f1f"/>
                </a:solidFill>
                <a:latin typeface="Calibri"/>
                <a:ea typeface="宋体"/>
              </a:rPr>
              <a:t>Avoid over-favoring semantically similar terms (SMTC2)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Line 19"/>
          <p:cNvSpPr/>
          <p:nvPr/>
        </p:nvSpPr>
        <p:spPr>
          <a:xfrm>
            <a:off x="685800" y="4648320"/>
            <a:ext cx="8305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5943600" y="49989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Group 35"/>
          <p:cNvGrpSpPr/>
          <p:nvPr/>
        </p:nvGrpSpPr>
        <p:grpSpPr>
          <a:xfrm>
            <a:off x="457200" y="2506680"/>
            <a:ext cx="8229600" cy="2065320"/>
            <a:chOff x="457200" y="2506680"/>
            <a:chExt cx="8229600" cy="2065320"/>
          </a:xfrm>
        </p:grpSpPr>
        <p:sp>
          <p:nvSpPr>
            <p:cNvPr id="347" name="Text Box 5"/>
            <p:cNvSpPr/>
            <p:nvPr/>
          </p:nvSpPr>
          <p:spPr>
            <a:xfrm>
              <a:off x="762120" y="41673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he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7"/>
                <p:cNvSpPr txBox="1"/>
                <p:nvPr/>
              </p:nvSpPr>
              <p:spPr>
                <a:xfrm>
                  <a:off x="1447920" y="4259160"/>
                  <a:ext cx="182880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Text Box 8"/>
            <p:cNvSpPr/>
            <p:nvPr/>
          </p:nvSpPr>
          <p:spPr>
            <a:xfrm>
              <a:off x="762120" y="2963880"/>
              <a:ext cx="5257800" cy="12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L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Q={q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,q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}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be a query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be non-query term such th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(d,q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)&gt;0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.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({q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},{q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})=S({q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},{q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}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|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|=|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|&gt;1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(q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,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)=|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|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(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,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)=|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|-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457200" y="2506680"/>
              <a:ext cx="6324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MTC3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Object 18"/>
                <p:cNvSpPr txBox="1"/>
                <p:nvPr/>
              </p:nvSpPr>
              <p:spPr>
                <a:xfrm>
                  <a:off x="6248520" y="4199040"/>
                  <a:ext cx="217152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2" name="Rectangle 33"/>
            <p:cNvSpPr/>
            <p:nvPr/>
          </p:nvSpPr>
          <p:spPr>
            <a:xfrm>
              <a:off x="6172200" y="2743200"/>
              <a:ext cx="2514600" cy="1371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Q:  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afety car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1: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afety safety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2: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afety driver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36"/>
          <p:cNvGrpSpPr/>
          <p:nvPr/>
        </p:nvGrpSpPr>
        <p:grpSpPr>
          <a:xfrm>
            <a:off x="533520" y="4770360"/>
            <a:ext cx="8229600" cy="1935360"/>
            <a:chOff x="533520" y="4770360"/>
            <a:chExt cx="8229600" cy="1935360"/>
          </a:xfrm>
        </p:grpSpPr>
        <p:sp>
          <p:nvSpPr>
            <p:cNvPr id="354" name="Rectangle 22"/>
            <p:cNvSpPr/>
            <p:nvPr/>
          </p:nvSpPr>
          <p:spPr>
            <a:xfrm>
              <a:off x="533520" y="477036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MTC2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 Box 23"/>
            <p:cNvSpPr/>
            <p:nvPr/>
          </p:nvSpPr>
          <p:spPr>
            <a:xfrm>
              <a:off x="838440" y="5227560"/>
              <a:ext cx="51051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Le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Q={q}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be a query an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be non-query term such th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(q,d)&gt;0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I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|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|=1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(q,D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)=1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|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|=k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,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(d,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)=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24"/>
                <p:cNvSpPr txBox="1"/>
                <p:nvPr/>
              </p:nvSpPr>
              <p:spPr>
                <a:xfrm>
                  <a:off x="1419480" y="638028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Text Box 25"/>
            <p:cNvSpPr/>
            <p:nvPr/>
          </p:nvSpPr>
          <p:spPr>
            <a:xfrm>
              <a:off x="838440" y="6294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he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Object 26"/>
                <p:cNvSpPr txBox="1"/>
                <p:nvPr/>
              </p:nvSpPr>
              <p:spPr>
                <a:xfrm>
                  <a:off x="6172200" y="6294600"/>
                  <a:ext cx="221004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Rectangle 34"/>
            <p:cNvSpPr/>
            <p:nvPr/>
          </p:nvSpPr>
          <p:spPr>
            <a:xfrm>
              <a:off x="6248520" y="4800600"/>
              <a:ext cx="2514600" cy="1371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Q:  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r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1: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r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2: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river driver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FAD1-1DFB-4941-9E49-ACB5BFF698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Group 30"/>
          <p:cNvGrpSpPr/>
          <p:nvPr/>
        </p:nvGrpSpPr>
        <p:grpSpPr>
          <a:xfrm>
            <a:off x="2209680" y="2540160"/>
            <a:ext cx="6934320" cy="1825200"/>
            <a:chOff x="2209680" y="2540160"/>
            <a:chExt cx="6934320" cy="1825200"/>
          </a:xfrm>
        </p:grpSpPr>
        <mc:AlternateContent>
          <mc:Choice xmlns:a14="http://schemas.microsoft.com/office/drawing/2010/main" Requires="a14">
            <p:sp>
              <p:nvSpPr>
                <p:cNvPr id="362" name="Object 23"/>
                <p:cNvSpPr txBox="1"/>
                <p:nvPr/>
              </p:nvSpPr>
              <p:spPr>
                <a:xfrm>
                  <a:off x="2209680" y="3149640"/>
                  <a:ext cx="6934320" cy="12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</m:e>
                      </m:d>
                      <m:r>
                        <m:t xml:space="preserve">,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d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eigh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´</m:t>
                                </m:r>
                                <m:f>
                                  <m:num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d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q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t xml:space="preserve">´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dÎ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opKSi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therwise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63" name="AutoShape 24"/>
            <p:cNvSpPr/>
            <p:nvPr/>
          </p:nvSpPr>
          <p:spPr>
            <a:xfrm>
              <a:off x="3581280" y="2540160"/>
              <a:ext cx="304920" cy="60948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Rectangle 27"/>
          <p:cNvSpPr/>
          <p:nvPr/>
        </p:nvSpPr>
        <p:spPr>
          <a:xfrm>
            <a:off x="5508720" y="3141720"/>
            <a:ext cx="838080" cy="385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Incorporate Semantic Term Matc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16"/>
              <p:cNvSpPr txBox="1"/>
              <p:nvPr/>
            </p:nvSpPr>
            <p:spPr>
              <a:xfrm>
                <a:off x="2292480" y="1219320"/>
                <a:ext cx="37828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35"/>
          <p:cNvGrpSpPr/>
          <p:nvPr/>
        </p:nvGrpSpPr>
        <p:grpSpPr>
          <a:xfrm>
            <a:off x="826920" y="3341520"/>
            <a:ext cx="7848720" cy="1801440"/>
            <a:chOff x="826920" y="3341520"/>
            <a:chExt cx="7848720" cy="1801440"/>
          </a:xfrm>
        </p:grpSpPr>
        <p:sp>
          <p:nvSpPr>
            <p:cNvPr id="368" name="Oval 33"/>
            <p:cNvSpPr/>
            <p:nvPr/>
          </p:nvSpPr>
          <p:spPr>
            <a:xfrm>
              <a:off x="6541920" y="3341520"/>
              <a:ext cx="381240" cy="5335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826920" y="4653000"/>
              <a:ext cx="7848720" cy="489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STMCs can provide an upper bound and a lower bound.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8526-212F-427B-ABFF-B630C489B4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Semantic Term Matching in 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879560" y="1676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419720" y="1371600"/>
            <a:ext cx="2666880" cy="1447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X Basic Retriev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No Semant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m Match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5105520" y="3581280"/>
            <a:ext cx="1752480" cy="8384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2895480" y="1905120"/>
            <a:ext cx="1524240" cy="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18"/>
          <p:cNvSpPr/>
          <p:nvPr/>
        </p:nvSpPr>
        <p:spPr>
          <a:xfrm flipV="1">
            <a:off x="5943600" y="2819520"/>
            <a:ext cx="0" cy="76176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19"/>
          <p:cNvSpPr/>
          <p:nvPr/>
        </p:nvSpPr>
        <p:spPr>
          <a:xfrm>
            <a:off x="7162920" y="2209680"/>
            <a:ext cx="761760" cy="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35"/>
          <p:cNvSpPr/>
          <p:nvPr/>
        </p:nvSpPr>
        <p:spPr>
          <a:xfrm>
            <a:off x="7924680" y="1295280"/>
            <a:ext cx="1143000" cy="1905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 2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M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  0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Group 1"/>
          <p:cNvGrpSpPr/>
          <p:nvPr/>
        </p:nvGrpSpPr>
        <p:grpSpPr>
          <a:xfrm>
            <a:off x="2271600" y="2133720"/>
            <a:ext cx="2611800" cy="3352680"/>
            <a:chOff x="2271600" y="2133720"/>
            <a:chExt cx="2611800" cy="3352680"/>
          </a:xfrm>
        </p:grpSpPr>
        <p:sp>
          <p:nvSpPr>
            <p:cNvPr id="380" name="Text Box 10"/>
            <p:cNvSpPr/>
            <p:nvPr/>
          </p:nvSpPr>
          <p:spPr>
            <a:xfrm>
              <a:off x="2721600" y="3124080"/>
              <a:ext cx="216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Top K semanticall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similar term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Line 11"/>
            <p:cNvSpPr/>
            <p:nvPr/>
          </p:nvSpPr>
          <p:spPr>
            <a:xfrm flipV="1">
              <a:off x="3719520" y="2590560"/>
              <a:ext cx="0" cy="53316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Line 12"/>
            <p:cNvSpPr/>
            <p:nvPr/>
          </p:nvSpPr>
          <p:spPr>
            <a:xfrm>
              <a:off x="3719520" y="2590920"/>
              <a:ext cx="685800" cy="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 flipV="1">
              <a:off x="3719520" y="3810240"/>
              <a:ext cx="0" cy="76176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9"/>
            <p:cNvSpPr/>
            <p:nvPr/>
          </p:nvSpPr>
          <p:spPr>
            <a:xfrm>
              <a:off x="2728800" y="4648320"/>
              <a:ext cx="2057400" cy="838080"/>
            </a:xfrm>
            <a:prstGeom prst="rect">
              <a:avLst/>
            </a:prstGeom>
            <a:noFill/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Working set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to compute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semantic similarit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Line 36"/>
            <p:cNvSpPr/>
            <p:nvPr/>
          </p:nvSpPr>
          <p:spPr>
            <a:xfrm>
              <a:off x="2271600" y="2133720"/>
              <a:ext cx="0" cy="289548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Line 37"/>
            <p:cNvSpPr/>
            <p:nvPr/>
          </p:nvSpPr>
          <p:spPr>
            <a:xfrm>
              <a:off x="2271600" y="5029200"/>
              <a:ext cx="457200" cy="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46"/>
          <p:cNvGrpSpPr/>
          <p:nvPr/>
        </p:nvGrpSpPr>
        <p:grpSpPr>
          <a:xfrm>
            <a:off x="76320" y="2895480"/>
            <a:ext cx="5638680" cy="3581640"/>
            <a:chOff x="76320" y="2895480"/>
            <a:chExt cx="5638680" cy="3581640"/>
          </a:xfrm>
        </p:grpSpPr>
        <p:sp>
          <p:nvSpPr>
            <p:cNvPr id="388" name="AutoShape 38"/>
            <p:cNvSpPr/>
            <p:nvPr/>
          </p:nvSpPr>
          <p:spPr>
            <a:xfrm>
              <a:off x="457200" y="5638680"/>
              <a:ext cx="1752480" cy="83844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40"/>
            <p:cNvSpPr/>
            <p:nvPr/>
          </p:nvSpPr>
          <p:spPr>
            <a:xfrm>
              <a:off x="76320" y="4343400"/>
              <a:ext cx="1981080" cy="9144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ny reasonable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trieval function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Line 41"/>
            <p:cNvSpPr/>
            <p:nvPr/>
          </p:nvSpPr>
          <p:spPr>
            <a:xfrm>
              <a:off x="2057400" y="4800600"/>
              <a:ext cx="685800" cy="15228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Line 42"/>
            <p:cNvSpPr/>
            <p:nvPr/>
          </p:nvSpPr>
          <p:spPr>
            <a:xfrm flipV="1">
              <a:off x="2209680" y="5257800"/>
              <a:ext cx="533520" cy="45720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Line 43"/>
            <p:cNvSpPr/>
            <p:nvPr/>
          </p:nvSpPr>
          <p:spPr>
            <a:xfrm flipH="1">
              <a:off x="4419720" y="2895480"/>
              <a:ext cx="761760" cy="175284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Line 44"/>
            <p:cNvSpPr/>
            <p:nvPr/>
          </p:nvSpPr>
          <p:spPr>
            <a:xfrm flipH="1">
              <a:off x="4800600" y="4419720"/>
              <a:ext cx="914400" cy="53316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Text Box 29"/>
          <p:cNvSpPr/>
          <p:nvPr/>
        </p:nvSpPr>
        <p:spPr>
          <a:xfrm>
            <a:off x="4267080" y="914400"/>
            <a:ext cx="3200400" cy="3988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ic Retrieval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0"/>
          <p:cNvSpPr/>
          <p:nvPr/>
        </p:nvSpPr>
        <p:spPr>
          <a:xfrm>
            <a:off x="2590920" y="5638680"/>
            <a:ext cx="4419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m Semantic Similarity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1"/>
          <p:cNvSpPr/>
          <p:nvPr/>
        </p:nvSpPr>
        <p:spPr>
          <a:xfrm>
            <a:off x="0" y="2117880"/>
            <a:ext cx="4419720" cy="3988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mantic Term Matching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7B62-75DD-4689-B158-DBB1FED8C4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Term Semantic Similarity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438280" y="1689120"/>
                <a:ext cx="3810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MI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;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Rectangle 10"/>
          <p:cNvSpPr/>
          <p:nvPr/>
        </p:nvSpPr>
        <p:spPr>
          <a:xfrm>
            <a:off x="1164240" y="1093680"/>
            <a:ext cx="70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rm co-occurrence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emantic relationshi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5638680" y="1676520"/>
            <a:ext cx="38124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Group 37"/>
          <p:cNvGrpSpPr/>
          <p:nvPr/>
        </p:nvGrpSpPr>
        <p:grpSpPr>
          <a:xfrm>
            <a:off x="380880" y="2514600"/>
            <a:ext cx="8610840" cy="1968480"/>
            <a:chOff x="380880" y="2514600"/>
            <a:chExt cx="8610840" cy="1968480"/>
          </a:xfrm>
        </p:grpSpPr>
        <p:grpSp>
          <p:nvGrpSpPr>
            <p:cNvPr id="403" name="Group 24"/>
            <p:cNvGrpSpPr/>
            <p:nvPr/>
          </p:nvGrpSpPr>
          <p:grpSpPr>
            <a:xfrm>
              <a:off x="380880" y="2514600"/>
              <a:ext cx="3962520" cy="1968480"/>
              <a:chOff x="380880" y="2514600"/>
              <a:chExt cx="3962520" cy="1968480"/>
            </a:xfrm>
          </p:grpSpPr>
          <p:sp>
            <p:nvSpPr>
              <p:cNvPr id="404" name="Text Box 14"/>
              <p:cNvSpPr/>
              <p:nvPr/>
            </p:nvSpPr>
            <p:spPr>
              <a:xfrm>
                <a:off x="1600200" y="2514600"/>
                <a:ext cx="1143000" cy="368280"/>
              </a:xfrm>
              <a:prstGeom prst="rect">
                <a:avLst/>
              </a:prstGeom>
              <a:noFill/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SSC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Text Box 16"/>
              <p:cNvSpPr/>
              <p:nvPr/>
            </p:nvSpPr>
            <p:spPr>
              <a:xfrm>
                <a:off x="380880" y="3327480"/>
                <a:ext cx="3962520" cy="398880"/>
              </a:xfrm>
              <a:prstGeom prst="rect">
                <a:avLst/>
              </a:prstGeom>
              <a:noFill/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C mostly contains correct sense of q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Text Box 18"/>
              <p:cNvSpPr/>
              <p:nvPr/>
            </p:nvSpPr>
            <p:spPr>
              <a:xfrm>
                <a:off x="838080" y="4114800"/>
                <a:ext cx="335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op M ranked document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Line 20"/>
              <p:cNvSpPr/>
              <p:nvPr/>
            </p:nvSpPr>
            <p:spPr>
              <a:xfrm>
                <a:off x="2209680" y="2971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Line 21"/>
              <p:cNvSpPr/>
              <p:nvPr/>
            </p:nvSpPr>
            <p:spPr>
              <a:xfrm>
                <a:off x="2209680" y="3809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9" name="Group 25"/>
            <p:cNvGrpSpPr/>
            <p:nvPr/>
          </p:nvGrpSpPr>
          <p:grpSpPr>
            <a:xfrm>
              <a:off x="4419720" y="2514600"/>
              <a:ext cx="4572000" cy="1968480"/>
              <a:chOff x="4419720" y="2514600"/>
              <a:chExt cx="4572000" cy="1968480"/>
            </a:xfrm>
          </p:grpSpPr>
          <p:sp>
            <p:nvSpPr>
              <p:cNvPr id="410" name="Text Box 15"/>
              <p:cNvSpPr/>
              <p:nvPr/>
            </p:nvSpPr>
            <p:spPr>
              <a:xfrm>
                <a:off x="6019920" y="2514600"/>
                <a:ext cx="1218960" cy="368280"/>
              </a:xfrm>
              <a:prstGeom prst="rect">
                <a:avLst/>
              </a:prstGeom>
              <a:noFill/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SSC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Text Box 17"/>
              <p:cNvSpPr/>
              <p:nvPr/>
            </p:nvSpPr>
            <p:spPr>
              <a:xfrm>
                <a:off x="4419720" y="3327480"/>
                <a:ext cx="4572000" cy="398880"/>
              </a:xfrm>
              <a:prstGeom prst="rect">
                <a:avLst/>
              </a:prstGeom>
              <a:noFill/>
              <a:ln w="9360">
                <a:solidFill>
                  <a:srgbClr val="eeec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q should not occur in every document of 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Text Box 19"/>
              <p:cNvSpPr/>
              <p:nvPr/>
            </p:nvSpPr>
            <p:spPr>
              <a:xfrm>
                <a:off x="4419720" y="4114800"/>
                <a:ext cx="411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1f497d"/>
                    </a:solidFill>
                    <a:latin typeface="Calibri"/>
                  </a:rPr>
                  <a:t>+       r×M</a:t>
                </a:r>
                <a:r>
                  <a:rPr b="0" lang="en-US" sz="1800" spc="-1" strike="noStrike">
                    <a:solidFill>
                      <a:srgbClr val="1f497d"/>
                    </a:solidFill>
                    <a:latin typeface="Calibri"/>
                  </a:rPr>
                  <a:t>  random document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Line 22"/>
              <p:cNvSpPr/>
              <p:nvPr/>
            </p:nvSpPr>
            <p:spPr>
              <a:xfrm>
                <a:off x="6553080" y="3809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23"/>
              <p:cNvSpPr/>
              <p:nvPr/>
            </p:nvSpPr>
            <p:spPr>
              <a:xfrm>
                <a:off x="6553080" y="2971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5" name="Group 36"/>
          <p:cNvGrpSpPr/>
          <p:nvPr/>
        </p:nvGrpSpPr>
        <p:grpSpPr>
          <a:xfrm>
            <a:off x="457200" y="4114800"/>
            <a:ext cx="8305920" cy="1532520"/>
            <a:chOff x="457200" y="4114800"/>
            <a:chExt cx="8305920" cy="1532520"/>
          </a:xfrm>
        </p:grpSpPr>
        <p:sp>
          <p:nvSpPr>
            <p:cNvPr id="416" name="Rectangle 26"/>
            <p:cNvSpPr/>
            <p:nvPr/>
          </p:nvSpPr>
          <p:spPr>
            <a:xfrm>
              <a:off x="762120" y="4114800"/>
              <a:ext cx="77724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 Box 30"/>
            <p:cNvSpPr/>
            <p:nvPr/>
          </p:nvSpPr>
          <p:spPr>
            <a:xfrm>
              <a:off x="457200" y="4800600"/>
              <a:ext cx="830592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a0000"/>
                  </a:solidFill>
                  <a:latin typeface="Calibri"/>
                </a:rPr>
                <a:t>Documents can be either from collection or external resource (i.e. Web)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a0000"/>
                  </a:solidFill>
                  <a:latin typeface="Calibri"/>
                </a:rPr>
                <a:t>Top ranked documents can be returned by any retrieval function</a:t>
              </a:r>
              <a:r>
                <a:rPr b="1" lang="en-US" sz="1800" spc="-1" strike="noStrike">
                  <a:solidFill>
                    <a:srgbClr val="4a0000"/>
                  </a:solidFill>
                  <a:latin typeface="Calibri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8" name="Group 34"/>
          <p:cNvGrpSpPr/>
          <p:nvPr/>
        </p:nvGrpSpPr>
        <p:grpSpPr>
          <a:xfrm>
            <a:off x="762120" y="4114800"/>
            <a:ext cx="7772400" cy="2438280"/>
            <a:chOff x="762120" y="4114800"/>
            <a:chExt cx="7772400" cy="2438280"/>
          </a:xfrm>
        </p:grpSpPr>
        <p:sp>
          <p:nvSpPr>
            <p:cNvPr id="419" name="Rectangle 12"/>
            <p:cNvSpPr/>
            <p:nvPr/>
          </p:nvSpPr>
          <p:spPr>
            <a:xfrm>
              <a:off x="762120" y="6019920"/>
              <a:ext cx="7772400" cy="533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SSCs provide an upper bound and a lower bound for 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Oval 33"/>
            <p:cNvSpPr/>
            <p:nvPr/>
          </p:nvSpPr>
          <p:spPr>
            <a:xfrm>
              <a:off x="4835520" y="4114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14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Calibri"/>
              </a:rPr>
              <a:t>Results of Submitted Ru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539640" y="927000"/>
          <a:ext cx="8229600" cy="1381320"/>
        </p:xfrm>
        <a:graphic>
          <a:graphicData uri="http://schemas.openxmlformats.org/drawingml/2006/table">
            <a:tbl>
              <a:tblPr/>
              <a:tblGrid>
                <a:gridCol w="1811520"/>
                <a:gridCol w="1481040"/>
                <a:gridCol w="1644840"/>
                <a:gridCol w="1645920"/>
                <a:gridCol w="16462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un 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ans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RR@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RR-IA@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InfolabWE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InfolabWE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7C1C-E6BE-484C-89E1-3F86B6E079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476360" y="4653000"/>
          <a:ext cx="6095880" cy="1854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DInfolabWE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DInfolabWE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-IA (alpha=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-IA (alpha=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-IA (alpha=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-IA (alpha=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1500120" y="249228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DInfolabWE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DInfolabWE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 (alpha=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 (alpha=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 (alpha=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6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R (alpha=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1237-7EDB-4BD2-B501-62AC683EDC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1" descr="compare_gd_1b2-1.png"/>
          <p:cNvPicPr/>
          <p:nvPr/>
        </p:nvPicPr>
        <p:blipFill>
          <a:blip r:embed="rId1"/>
          <a:stretch/>
        </p:blipFill>
        <p:spPr>
          <a:xfrm>
            <a:off x="-711360" y="189000"/>
            <a:ext cx="103968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65CD-F9D0-48A0-9118-09FFCDB608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1" descr="diff_gd.png"/>
          <p:cNvPicPr/>
          <p:nvPr/>
        </p:nvPicPr>
        <p:blipFill>
          <a:blip r:embed="rId1"/>
          <a:stretch/>
        </p:blipFill>
        <p:spPr>
          <a:xfrm>
            <a:off x="-252360" y="0"/>
            <a:ext cx="9793080" cy="652932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"/>
          <p:cNvSpPr/>
          <p:nvPr/>
        </p:nvSpPr>
        <p:spPr>
          <a:xfrm>
            <a:off x="1258920" y="5210280"/>
            <a:ext cx="6913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sier querie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riski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2B92-F9EB-4FFA-89B2-EE928C630AC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4" descr="diff_nd.png"/>
          <p:cNvPicPr/>
          <p:nvPr/>
        </p:nvPicPr>
        <p:blipFill>
          <a:blip r:embed="rId1"/>
          <a:stretch/>
        </p:blipFill>
        <p:spPr>
          <a:xfrm>
            <a:off x="-468360" y="165240"/>
            <a:ext cx="9864720" cy="6576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1187280" y="5641920"/>
            <a:ext cx="6913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sier querie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riski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52CB-7A47-4DA0-9EBC-E46950961C3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Picture 4" descr="diff_gd_type.png"/>
          <p:cNvPicPr/>
          <p:nvPr/>
        </p:nvPicPr>
        <p:blipFill>
          <a:blip r:embed="rId1"/>
          <a:stretch/>
        </p:blipFill>
        <p:spPr>
          <a:xfrm>
            <a:off x="-541440" y="-387360"/>
            <a:ext cx="10153800" cy="676908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6"/>
          <p:cNvCxnSpPr/>
          <p:nvPr/>
        </p:nvCxnSpPr>
        <p:spPr>
          <a:xfrm>
            <a:off x="3347640" y="3644640"/>
            <a:ext cx="5256720" cy="1585080"/>
          </a:xfrm>
          <a:prstGeom prst="straightConnector1">
            <a:avLst/>
          </a:prstGeom>
          <a:ln w="76320">
            <a:solidFill>
              <a:srgbClr val="000090"/>
            </a:solidFill>
            <a:prstDash val="dash"/>
            <a:miter/>
          </a:ln>
        </p:spPr>
      </p:cxnSp>
      <p:cxnSp>
        <p:nvCxnSpPr>
          <p:cNvPr id="437" name="Straight Arrow Connector 7"/>
          <p:cNvCxnSpPr/>
          <p:nvPr/>
        </p:nvCxnSpPr>
        <p:spPr>
          <a:xfrm>
            <a:off x="5435640" y="3644640"/>
            <a:ext cx="3240720" cy="1585080"/>
          </a:xfrm>
          <a:prstGeom prst="straightConnector1">
            <a:avLst/>
          </a:prstGeom>
          <a:ln w="76320">
            <a:solidFill>
              <a:srgbClr val="008000"/>
            </a:solidFill>
            <a:prstDash val="lgDashDot"/>
            <a:miter/>
          </a:ln>
        </p:spPr>
      </p:cxnSp>
      <p:sp>
        <p:nvSpPr>
          <p:cNvPr id="438" name="TextBox 12"/>
          <p:cNvSpPr/>
          <p:nvPr/>
        </p:nvSpPr>
        <p:spPr>
          <a:xfrm>
            <a:off x="1258920" y="5210280"/>
            <a:ext cx="6913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eted querie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riski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350A-4143-4E1B-B918-6FD57B9478C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2" descr="diff_nd_type.png"/>
          <p:cNvPicPr/>
          <p:nvPr/>
        </p:nvPicPr>
        <p:blipFill>
          <a:blip r:embed="rId1"/>
          <a:stretch/>
        </p:blipFill>
        <p:spPr>
          <a:xfrm>
            <a:off x="-612720" y="68400"/>
            <a:ext cx="10225080" cy="6816600"/>
          </a:xfrm>
          <a:prstGeom prst="rect">
            <a:avLst/>
          </a:prstGeom>
          <a:ln w="0">
            <a:noFill/>
          </a:ln>
        </p:spPr>
      </p:pic>
      <p:cxnSp>
        <p:nvCxnSpPr>
          <p:cNvPr id="441" name="Straight Arrow Connector 3"/>
          <p:cNvCxnSpPr/>
          <p:nvPr/>
        </p:nvCxnSpPr>
        <p:spPr>
          <a:xfrm>
            <a:off x="4716000" y="3573000"/>
            <a:ext cx="2592720" cy="2304360"/>
          </a:xfrm>
          <a:prstGeom prst="straightConnector1">
            <a:avLst/>
          </a:prstGeom>
          <a:ln w="76320">
            <a:solidFill>
              <a:srgbClr val="000090"/>
            </a:solidFill>
            <a:prstDash val="dash"/>
            <a:miter/>
          </a:ln>
        </p:spPr>
      </p:cxnSp>
      <p:cxnSp>
        <p:nvCxnSpPr>
          <p:cNvPr id="442" name="Straight Arrow Connector 5"/>
          <p:cNvCxnSpPr/>
          <p:nvPr/>
        </p:nvCxnSpPr>
        <p:spPr>
          <a:xfrm>
            <a:off x="6588000" y="3500280"/>
            <a:ext cx="1945440" cy="3169440"/>
          </a:xfrm>
          <a:prstGeom prst="straightConnector1">
            <a:avLst/>
          </a:prstGeom>
          <a:ln w="76320">
            <a:solidFill>
              <a:srgbClr val="008000"/>
            </a:solidFill>
            <a:prstDash val="lgDashDot"/>
            <a:miter/>
          </a:ln>
        </p:spPr>
      </p:cxnSp>
      <p:sp>
        <p:nvSpPr>
          <p:cNvPr id="443" name="TextBox 8"/>
          <p:cNvSpPr/>
          <p:nvPr/>
        </p:nvSpPr>
        <p:spPr>
          <a:xfrm>
            <a:off x="684360" y="5661000"/>
            <a:ext cx="691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eted querie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risk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768C-FA2D-4398-B827-B37F875025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1143000" y="42670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ost of existing keyword matching based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4724280" y="2362320"/>
                <a:ext cx="32194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Text Box 4"/>
          <p:cNvSpPr/>
          <p:nvPr/>
        </p:nvSpPr>
        <p:spPr>
          <a:xfrm>
            <a:off x="1523880" y="1558800"/>
            <a:ext cx="2819520" cy="231156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  : 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1: dr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2: fis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Semantic term matching is importa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833400" y="4292640"/>
                <a:ext cx="2514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7"/>
          <p:cNvSpPr/>
          <p:nvPr/>
        </p:nvSpPr>
        <p:spPr>
          <a:xfrm>
            <a:off x="6095880" y="2330280"/>
            <a:ext cx="381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6095880" y="2330280"/>
            <a:ext cx="381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79280" y="5305320"/>
            <a:ext cx="88678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How to integrate term semantic relationship?</a:t>
            </a:r>
            <a:r>
              <a:rPr b="1" lang="en-US" sz="34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0"/>
                </a:solidFill>
                <a:latin typeface="Calibri"/>
              </a:rPr>
              <a:t>Further Analysis of UDInfolabWEB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D9F4-C623-4626-8FE2-45EE0CFF5AA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79280" y="1092240"/>
            <a:ext cx="8964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37 out of 50 queries, it performs better than the reported median performa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7 out of 50 queries, it achieves the best performa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332000" y="2852640"/>
          <a:ext cx="7127640" cy="3292560"/>
        </p:xfrm>
        <a:graphic>
          <a:graphicData uri="http://schemas.openxmlformats.org/drawingml/2006/table">
            <a:tbl>
              <a:tblPr/>
              <a:tblGrid>
                <a:gridCol w="1636560"/>
                <a:gridCol w="2292480"/>
                <a:gridCol w="31986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les of 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gains tax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seven deadly s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r d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rge bush sr 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ghanistan 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d town scottsd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g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 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9EB3-51F6-4EE4-A5BB-16F6E145471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Conclusions and Future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xiomatic approaches are effec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ts effective varies for different quer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i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isk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eted quer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iski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uture wo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ing different sets of constraints for different queries for risk minimiz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410920" y="1413000"/>
            <a:ext cx="4681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0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Questions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AE39-9DD0-4924-AA5B-4B5F3304C38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3724-46F3-4686-AAEC-A26FABF778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5880" y="43920"/>
            <a:ext cx="85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Basic Idea of Axiomatic Approach</a:t>
            </a:r>
            <a:br>
              <a:rPr sz="4000"/>
            </a:b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[Fang et. al. 04, Fang and Zhai 05, Fang and Zhai,06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380880" y="1295280"/>
            <a:ext cx="8305920" cy="4953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971800" y="1828800"/>
            <a:ext cx="3429000" cy="3429000"/>
            <a:chOff x="2971800" y="1828800"/>
            <a:chExt cx="3429000" cy="3429000"/>
          </a:xfrm>
        </p:grpSpPr>
        <p:grpSp>
          <p:nvGrpSpPr>
            <p:cNvPr id="190" name="Group 5"/>
            <p:cNvGrpSpPr/>
            <p:nvPr/>
          </p:nvGrpSpPr>
          <p:grpSpPr>
            <a:xfrm>
              <a:off x="3505320" y="1828800"/>
              <a:ext cx="2895480" cy="2743200"/>
              <a:chOff x="3505320" y="1828800"/>
              <a:chExt cx="2895480" cy="2743200"/>
            </a:xfrm>
          </p:grpSpPr>
          <p:sp>
            <p:nvSpPr>
              <p:cNvPr id="191" name="Oval 6"/>
              <p:cNvSpPr/>
              <p:nvPr/>
            </p:nvSpPr>
            <p:spPr>
              <a:xfrm>
                <a:off x="3505320" y="1828800"/>
                <a:ext cx="2895480" cy="274320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 Box 7"/>
              <p:cNvSpPr/>
              <p:nvPr/>
            </p:nvSpPr>
            <p:spPr>
              <a:xfrm>
                <a:off x="4572000" y="1981440"/>
                <a:ext cx="838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Calibri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8000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Group 8"/>
            <p:cNvGrpSpPr/>
            <p:nvPr/>
          </p:nvGrpSpPr>
          <p:grpSpPr>
            <a:xfrm>
              <a:off x="2971800" y="2514600"/>
              <a:ext cx="2895480" cy="2743200"/>
              <a:chOff x="2971800" y="2514600"/>
              <a:chExt cx="2895480" cy="2743200"/>
            </a:xfrm>
          </p:grpSpPr>
          <p:sp>
            <p:nvSpPr>
              <p:cNvPr id="194" name="Oval 9"/>
              <p:cNvSpPr/>
              <p:nvPr/>
            </p:nvSpPr>
            <p:spPr>
              <a:xfrm>
                <a:off x="2971800" y="2514600"/>
                <a:ext cx="2895480" cy="2743200"/>
              </a:xfrm>
              <a:prstGeom prst="ellipse">
                <a:avLst/>
              </a:prstGeom>
              <a:noFill/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Text Box 10"/>
              <p:cNvSpPr/>
              <p:nvPr/>
            </p:nvSpPr>
            <p:spPr>
              <a:xfrm>
                <a:off x="3124080" y="3581640"/>
                <a:ext cx="837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80"/>
                    </a:solidFill>
                    <a:latin typeface="Calibri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8080"/>
                    </a:solidFill>
                    <a:latin typeface="Calibri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6" name="Group 11"/>
          <p:cNvGrpSpPr/>
          <p:nvPr/>
        </p:nvGrpSpPr>
        <p:grpSpPr>
          <a:xfrm>
            <a:off x="3962520" y="2743200"/>
            <a:ext cx="2895480" cy="1853640"/>
            <a:chOff x="3962520" y="2743200"/>
            <a:chExt cx="2895480" cy="1853640"/>
          </a:xfrm>
        </p:grpSpPr>
        <p:grpSp>
          <p:nvGrpSpPr>
            <p:cNvPr id="197" name="Group 12"/>
            <p:cNvGrpSpPr/>
            <p:nvPr/>
          </p:nvGrpSpPr>
          <p:grpSpPr>
            <a:xfrm>
              <a:off x="6172200" y="4191120"/>
              <a:ext cx="685800" cy="405720"/>
              <a:chOff x="6172200" y="4191120"/>
              <a:chExt cx="685800" cy="405720"/>
            </a:xfrm>
          </p:grpSpPr>
          <p:sp>
            <p:nvSpPr>
              <p:cNvPr id="198" name="Oval 13"/>
              <p:cNvSpPr/>
              <p:nvPr/>
            </p:nvSpPr>
            <p:spPr>
              <a:xfrm>
                <a:off x="6172200" y="4419720"/>
                <a:ext cx="152280" cy="15228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Text Box 14"/>
              <p:cNvSpPr/>
              <p:nvPr/>
            </p:nvSpPr>
            <p:spPr>
              <a:xfrm>
                <a:off x="6400800" y="41911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Calibri"/>
                  </a:rPr>
                  <a:t>f</a:t>
                </a:r>
                <a:r>
                  <a:rPr b="1" lang="en-US" sz="1800" spc="-1" strike="noStrike" baseline="-25000">
                    <a:solidFill>
                      <a:srgbClr val="660066"/>
                    </a:solidFill>
                    <a:latin typeface="Calibri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Group 15"/>
            <p:cNvGrpSpPr/>
            <p:nvPr/>
          </p:nvGrpSpPr>
          <p:grpSpPr>
            <a:xfrm>
              <a:off x="3962520" y="2743200"/>
              <a:ext cx="685800" cy="405720"/>
              <a:chOff x="3962520" y="2743200"/>
              <a:chExt cx="685800" cy="405720"/>
            </a:xfrm>
          </p:grpSpPr>
          <p:sp>
            <p:nvSpPr>
              <p:cNvPr id="201" name="Oval 16"/>
              <p:cNvSpPr/>
              <p:nvPr/>
            </p:nvSpPr>
            <p:spPr>
              <a:xfrm>
                <a:off x="3962520" y="2971800"/>
                <a:ext cx="152280" cy="15228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Text Box 17"/>
              <p:cNvSpPr/>
              <p:nvPr/>
            </p:nvSpPr>
            <p:spPr>
              <a:xfrm>
                <a:off x="4191120" y="274320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Calibri"/>
                  </a:rPr>
                  <a:t>f</a:t>
                </a:r>
                <a:r>
                  <a:rPr b="1" lang="en-US" sz="1800" spc="-1" strike="noStrike" baseline="-25000">
                    <a:solidFill>
                      <a:srgbClr val="660066"/>
                    </a:solidFill>
                    <a:latin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3" name="Group 18"/>
            <p:cNvGrpSpPr/>
            <p:nvPr/>
          </p:nvGrpSpPr>
          <p:grpSpPr>
            <a:xfrm>
              <a:off x="4648320" y="3505320"/>
              <a:ext cx="685800" cy="405720"/>
              <a:chOff x="4648320" y="3505320"/>
              <a:chExt cx="685800" cy="405720"/>
            </a:xfrm>
          </p:grpSpPr>
          <p:sp>
            <p:nvSpPr>
              <p:cNvPr id="204" name="Oval 19"/>
              <p:cNvSpPr/>
              <p:nvPr/>
            </p:nvSpPr>
            <p:spPr>
              <a:xfrm>
                <a:off x="4648320" y="3733920"/>
                <a:ext cx="152280" cy="15228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Text Box 20"/>
              <p:cNvSpPr/>
              <p:nvPr/>
            </p:nvSpPr>
            <p:spPr>
              <a:xfrm>
                <a:off x="4876920" y="350532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Calibri"/>
                  </a:rPr>
                  <a:t>f</a:t>
                </a:r>
                <a:r>
                  <a:rPr b="1" lang="en-US" sz="1800" spc="-1" strike="noStrike" baseline="-25000">
                    <a:solidFill>
                      <a:srgbClr val="660066"/>
                    </a:solidFill>
                    <a:latin typeface="Calibri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6" name="Text Box 21"/>
          <p:cNvSpPr/>
          <p:nvPr/>
        </p:nvSpPr>
        <p:spPr>
          <a:xfrm>
            <a:off x="1295280" y="2057400"/>
            <a:ext cx="2667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Group 22"/>
          <p:cNvGrpSpPr/>
          <p:nvPr/>
        </p:nvGrpSpPr>
        <p:grpSpPr>
          <a:xfrm>
            <a:off x="4267080" y="3200400"/>
            <a:ext cx="3683160" cy="3659040"/>
            <a:chOff x="4267080" y="3200400"/>
            <a:chExt cx="3683160" cy="3659040"/>
          </a:xfrm>
        </p:grpSpPr>
        <p:grpSp>
          <p:nvGrpSpPr>
            <p:cNvPr id="208" name="Group 23"/>
            <p:cNvGrpSpPr/>
            <p:nvPr/>
          </p:nvGrpSpPr>
          <p:grpSpPr>
            <a:xfrm>
              <a:off x="4267080" y="3200400"/>
              <a:ext cx="2895480" cy="2743200"/>
              <a:chOff x="4267080" y="3200400"/>
              <a:chExt cx="2895480" cy="2743200"/>
            </a:xfrm>
          </p:grpSpPr>
          <p:sp>
            <p:nvSpPr>
              <p:cNvPr id="209" name="Oval 24"/>
              <p:cNvSpPr/>
              <p:nvPr/>
            </p:nvSpPr>
            <p:spPr>
              <a:xfrm>
                <a:off x="4267080" y="3200400"/>
                <a:ext cx="2895480" cy="2743200"/>
              </a:xfrm>
              <a:prstGeom prst="ellipse">
                <a:avLst/>
              </a:prstGeom>
              <a:noFill/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Text Box 25"/>
              <p:cNvSpPr/>
              <p:nvPr/>
            </p:nvSpPr>
            <p:spPr>
              <a:xfrm>
                <a:off x="5486040" y="5257800"/>
                <a:ext cx="838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cc33"/>
                    </a:solidFill>
                    <a:latin typeface="Calibri"/>
                  </a:rPr>
                  <a:t>C</a:t>
                </a:r>
                <a:r>
                  <a:rPr b="1" lang="en-US" sz="1800" spc="-1" strike="noStrike" baseline="-25000">
                    <a:solidFill>
                      <a:srgbClr val="33cc33"/>
                    </a:solidFill>
                    <a:latin typeface="Calibri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1" name="Rectangle 26"/>
            <p:cNvSpPr/>
            <p:nvPr/>
          </p:nvSpPr>
          <p:spPr>
            <a:xfrm>
              <a:off x="4726080" y="6338880"/>
              <a:ext cx="322416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Retrieval constrai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Line 27"/>
            <p:cNvSpPr/>
            <p:nvPr/>
          </p:nvSpPr>
          <p:spPr>
            <a:xfrm flipH="1" flipV="1">
              <a:off x="6171840" y="5866920"/>
              <a:ext cx="228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Group 28"/>
          <p:cNvGrpSpPr/>
          <p:nvPr/>
        </p:nvGrpSpPr>
        <p:grpSpPr>
          <a:xfrm>
            <a:off x="1255680" y="1125360"/>
            <a:ext cx="7924680" cy="2590920"/>
            <a:chOff x="1255680" y="1125360"/>
            <a:chExt cx="7924680" cy="2590920"/>
          </a:xfrm>
        </p:grpSpPr>
        <p:grpSp>
          <p:nvGrpSpPr>
            <p:cNvPr id="214" name="Group 29"/>
            <p:cNvGrpSpPr/>
            <p:nvPr/>
          </p:nvGrpSpPr>
          <p:grpSpPr>
            <a:xfrm>
              <a:off x="1560600" y="1125360"/>
              <a:ext cx="7619760" cy="2590920"/>
              <a:chOff x="1560600" y="1125360"/>
              <a:chExt cx="7619760" cy="2590920"/>
            </a:xfrm>
          </p:grpSpPr>
          <p:grpSp>
            <p:nvGrpSpPr>
              <p:cNvPr id="215" name="Group 30"/>
              <p:cNvGrpSpPr/>
              <p:nvPr/>
            </p:nvGrpSpPr>
            <p:grpSpPr>
              <a:xfrm>
                <a:off x="4589280" y="1125360"/>
                <a:ext cx="4591080" cy="2590920"/>
                <a:chOff x="4589280" y="1125360"/>
                <a:chExt cx="4591080" cy="2590920"/>
              </a:xfrm>
            </p:grpSpPr>
            <p:graphicFrame>
              <p:nvGraphicFramePr>
                <p:cNvPr id="216" name="Object 31"/>
                <p:cNvGraphicFramePr/>
                <p:nvPr/>
              </p:nvGraphicFramePr>
              <p:xfrm>
                <a:off x="4589280" y="3627360"/>
                <a:ext cx="36720" cy="363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17" name="Object 31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589280" y="3627360"/>
                          <a:ext cx="36720" cy="36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18" name="Group 32"/>
                <p:cNvGrpSpPr/>
                <p:nvPr/>
              </p:nvGrpSpPr>
              <p:grpSpPr>
                <a:xfrm>
                  <a:off x="5370120" y="1125360"/>
                  <a:ext cx="3810240" cy="2590920"/>
                  <a:chOff x="5370120" y="1125360"/>
                  <a:chExt cx="3810240" cy="2590920"/>
                </a:xfrm>
              </p:grpSpPr>
              <p:sp>
                <p:nvSpPr>
                  <p:cNvPr id="219" name="Line 33"/>
                  <p:cNvSpPr/>
                  <p:nvPr/>
                </p:nvSpPr>
                <p:spPr>
                  <a:xfrm flipH="1">
                    <a:off x="5370120" y="1582560"/>
                    <a:ext cx="2590920" cy="2133720"/>
                  </a:xfrm>
                  <a:prstGeom prst="line">
                    <a:avLst/>
                  </a:prstGeom>
                  <a:ln w="38160">
                    <a:solidFill>
                      <a:srgbClr val="9966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" name="Text Box 34"/>
                  <p:cNvSpPr/>
                  <p:nvPr/>
                </p:nvSpPr>
                <p:spPr>
                  <a:xfrm>
                    <a:off x="7580160" y="1125360"/>
                    <a:ext cx="1600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996600"/>
                        </a:solidFill>
                        <a:latin typeface="Calibri"/>
                      </a:rPr>
                      <a:t>Our targe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221" name="Rectangle 35"/>
              <p:cNvSpPr/>
              <p:nvPr/>
            </p:nvSpPr>
            <p:spPr>
              <a:xfrm>
                <a:off x="1560600" y="2039760"/>
                <a:ext cx="2133360" cy="38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Text Box 36"/>
            <p:cNvSpPr/>
            <p:nvPr/>
          </p:nvSpPr>
          <p:spPr>
            <a:xfrm>
              <a:off x="1255680" y="2054160"/>
              <a:ext cx="281952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unction spac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12F5-995D-4480-93A4-3C85F48346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Semantic Term Matching in AX</a:t>
            </a:r>
            <a:br>
              <a:rPr sz="4000"/>
            </a:b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[Fang et. al. 04, Fang and Zhai 05, Fang and Zhai,06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879560" y="1676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419720" y="1371600"/>
            <a:ext cx="2666880" cy="1447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X Basic Retriev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No Semant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m Match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105520" y="3581280"/>
            <a:ext cx="1752480" cy="8384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2895480" y="1905120"/>
            <a:ext cx="1524240" cy="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18"/>
          <p:cNvSpPr/>
          <p:nvPr/>
        </p:nvSpPr>
        <p:spPr>
          <a:xfrm flipV="1">
            <a:off x="5943600" y="2819520"/>
            <a:ext cx="0" cy="76176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7162920" y="2209680"/>
            <a:ext cx="761760" cy="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7924680" y="1295280"/>
            <a:ext cx="1143000" cy="1905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 2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M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  0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1"/>
          <p:cNvGrpSpPr/>
          <p:nvPr/>
        </p:nvGrpSpPr>
        <p:grpSpPr>
          <a:xfrm>
            <a:off x="2271600" y="2133720"/>
            <a:ext cx="2611800" cy="3352680"/>
            <a:chOff x="2271600" y="2133720"/>
            <a:chExt cx="2611800" cy="3352680"/>
          </a:xfrm>
        </p:grpSpPr>
        <p:sp>
          <p:nvSpPr>
            <p:cNvPr id="233" name="Text Box 10"/>
            <p:cNvSpPr/>
            <p:nvPr/>
          </p:nvSpPr>
          <p:spPr>
            <a:xfrm>
              <a:off x="2721600" y="3124080"/>
              <a:ext cx="216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Top K semanticall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similar term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Line 11"/>
            <p:cNvSpPr/>
            <p:nvPr/>
          </p:nvSpPr>
          <p:spPr>
            <a:xfrm flipV="1">
              <a:off x="3719520" y="2590560"/>
              <a:ext cx="0" cy="53316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>
              <a:off x="3719520" y="2590920"/>
              <a:ext cx="685800" cy="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V="1">
              <a:off x="3719520" y="3810240"/>
              <a:ext cx="0" cy="76176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2728800" y="4648320"/>
              <a:ext cx="2057400" cy="838080"/>
            </a:xfrm>
            <a:prstGeom prst="rect">
              <a:avLst/>
            </a:prstGeom>
            <a:noFill/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Working set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to compute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semantic similarit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Line 36"/>
            <p:cNvSpPr/>
            <p:nvPr/>
          </p:nvSpPr>
          <p:spPr>
            <a:xfrm>
              <a:off x="2271600" y="2133720"/>
              <a:ext cx="0" cy="289548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Line 37"/>
            <p:cNvSpPr/>
            <p:nvPr/>
          </p:nvSpPr>
          <p:spPr>
            <a:xfrm>
              <a:off x="2271600" y="5029200"/>
              <a:ext cx="457200" cy="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46"/>
          <p:cNvGrpSpPr/>
          <p:nvPr/>
        </p:nvGrpSpPr>
        <p:grpSpPr>
          <a:xfrm>
            <a:off x="76320" y="2895480"/>
            <a:ext cx="5638680" cy="3581640"/>
            <a:chOff x="76320" y="2895480"/>
            <a:chExt cx="5638680" cy="3581640"/>
          </a:xfrm>
        </p:grpSpPr>
        <p:sp>
          <p:nvSpPr>
            <p:cNvPr id="241" name="AutoShape 38"/>
            <p:cNvSpPr/>
            <p:nvPr/>
          </p:nvSpPr>
          <p:spPr>
            <a:xfrm>
              <a:off x="457200" y="5638680"/>
              <a:ext cx="1752480" cy="83844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40"/>
            <p:cNvSpPr/>
            <p:nvPr/>
          </p:nvSpPr>
          <p:spPr>
            <a:xfrm>
              <a:off x="76320" y="4343400"/>
              <a:ext cx="1981080" cy="9144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ny reasonable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trieval function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Line 41"/>
            <p:cNvSpPr/>
            <p:nvPr/>
          </p:nvSpPr>
          <p:spPr>
            <a:xfrm>
              <a:off x="2057400" y="4800600"/>
              <a:ext cx="685800" cy="15228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42"/>
            <p:cNvSpPr/>
            <p:nvPr/>
          </p:nvSpPr>
          <p:spPr>
            <a:xfrm flipV="1">
              <a:off x="2209680" y="5257800"/>
              <a:ext cx="533520" cy="45720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43"/>
            <p:cNvSpPr/>
            <p:nvPr/>
          </p:nvSpPr>
          <p:spPr>
            <a:xfrm flipH="1">
              <a:off x="4419720" y="2895480"/>
              <a:ext cx="761760" cy="175284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44"/>
            <p:cNvSpPr/>
            <p:nvPr/>
          </p:nvSpPr>
          <p:spPr>
            <a:xfrm flipH="1">
              <a:off x="4800600" y="4419720"/>
              <a:ext cx="914400" cy="53316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45"/>
          <p:cNvGrpSpPr/>
          <p:nvPr/>
        </p:nvGrpSpPr>
        <p:grpSpPr>
          <a:xfrm>
            <a:off x="0" y="914400"/>
            <a:ext cx="7467480" cy="5123160"/>
            <a:chOff x="0" y="914400"/>
            <a:chExt cx="7467480" cy="5123160"/>
          </a:xfrm>
        </p:grpSpPr>
        <p:sp>
          <p:nvSpPr>
            <p:cNvPr id="248" name="Text Box 29"/>
            <p:cNvSpPr/>
            <p:nvPr/>
          </p:nvSpPr>
          <p:spPr>
            <a:xfrm>
              <a:off x="4267080" y="914400"/>
              <a:ext cx="3200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Basic Retrieval Constrai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 Box 30"/>
            <p:cNvSpPr/>
            <p:nvPr/>
          </p:nvSpPr>
          <p:spPr>
            <a:xfrm>
              <a:off x="2590920" y="5638680"/>
              <a:ext cx="44193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Term Semantic Similarity Constrai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 Box 31"/>
            <p:cNvSpPr/>
            <p:nvPr/>
          </p:nvSpPr>
          <p:spPr>
            <a:xfrm>
              <a:off x="0" y="2117880"/>
              <a:ext cx="44197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emantic Term Matching Constrai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7A1D-C099-4055-85BE-5C8271D73D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Semantic Term Matching in 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879560" y="1676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419720" y="1371600"/>
            <a:ext cx="2666880" cy="1447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X Basic Retriev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No Semant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m Match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5105520" y="3581280"/>
            <a:ext cx="1752480" cy="8384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2895480" y="1905120"/>
            <a:ext cx="1524240" cy="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18"/>
          <p:cNvSpPr/>
          <p:nvPr/>
        </p:nvSpPr>
        <p:spPr>
          <a:xfrm flipV="1">
            <a:off x="5943600" y="2819520"/>
            <a:ext cx="0" cy="76176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7162920" y="2209680"/>
            <a:ext cx="761760" cy="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7924680" y="1295280"/>
            <a:ext cx="1143000" cy="1905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 2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M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  0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Group 1"/>
          <p:cNvGrpSpPr/>
          <p:nvPr/>
        </p:nvGrpSpPr>
        <p:grpSpPr>
          <a:xfrm>
            <a:off x="2271600" y="2133720"/>
            <a:ext cx="2611800" cy="3352680"/>
            <a:chOff x="2271600" y="2133720"/>
            <a:chExt cx="2611800" cy="3352680"/>
          </a:xfrm>
        </p:grpSpPr>
        <p:sp>
          <p:nvSpPr>
            <p:cNvPr id="261" name="Text Box 10"/>
            <p:cNvSpPr/>
            <p:nvPr/>
          </p:nvSpPr>
          <p:spPr>
            <a:xfrm>
              <a:off x="2721600" y="3124080"/>
              <a:ext cx="216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Top K semanticall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similar term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ine 11"/>
            <p:cNvSpPr/>
            <p:nvPr/>
          </p:nvSpPr>
          <p:spPr>
            <a:xfrm flipV="1">
              <a:off x="3719520" y="2590560"/>
              <a:ext cx="0" cy="53316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12"/>
            <p:cNvSpPr/>
            <p:nvPr/>
          </p:nvSpPr>
          <p:spPr>
            <a:xfrm>
              <a:off x="3719520" y="2590920"/>
              <a:ext cx="685800" cy="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Line 14"/>
            <p:cNvSpPr/>
            <p:nvPr/>
          </p:nvSpPr>
          <p:spPr>
            <a:xfrm flipV="1">
              <a:off x="3719520" y="3810240"/>
              <a:ext cx="0" cy="76176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2728800" y="4648320"/>
              <a:ext cx="2057400" cy="838080"/>
            </a:xfrm>
            <a:prstGeom prst="rect">
              <a:avLst/>
            </a:prstGeom>
            <a:noFill/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Working set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to compute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semantic similarit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36"/>
            <p:cNvSpPr/>
            <p:nvPr/>
          </p:nvSpPr>
          <p:spPr>
            <a:xfrm>
              <a:off x="2271600" y="2133720"/>
              <a:ext cx="0" cy="289548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37"/>
            <p:cNvSpPr/>
            <p:nvPr/>
          </p:nvSpPr>
          <p:spPr>
            <a:xfrm>
              <a:off x="2271600" y="5029200"/>
              <a:ext cx="457200" cy="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46"/>
          <p:cNvGrpSpPr/>
          <p:nvPr/>
        </p:nvGrpSpPr>
        <p:grpSpPr>
          <a:xfrm>
            <a:off x="76320" y="2895480"/>
            <a:ext cx="5638680" cy="3581640"/>
            <a:chOff x="76320" y="2895480"/>
            <a:chExt cx="5638680" cy="3581640"/>
          </a:xfrm>
        </p:grpSpPr>
        <p:sp>
          <p:nvSpPr>
            <p:cNvPr id="269" name="AutoShape 38"/>
            <p:cNvSpPr/>
            <p:nvPr/>
          </p:nvSpPr>
          <p:spPr>
            <a:xfrm>
              <a:off x="457200" y="5638680"/>
              <a:ext cx="1752480" cy="83844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Rectangle 40"/>
            <p:cNvSpPr/>
            <p:nvPr/>
          </p:nvSpPr>
          <p:spPr>
            <a:xfrm>
              <a:off x="76320" y="4343400"/>
              <a:ext cx="1981080" cy="9144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ny reasonable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trieval function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Line 41"/>
            <p:cNvSpPr/>
            <p:nvPr/>
          </p:nvSpPr>
          <p:spPr>
            <a:xfrm>
              <a:off x="2057400" y="4800600"/>
              <a:ext cx="685800" cy="15228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Line 42"/>
            <p:cNvSpPr/>
            <p:nvPr/>
          </p:nvSpPr>
          <p:spPr>
            <a:xfrm flipV="1">
              <a:off x="2209680" y="5257800"/>
              <a:ext cx="533520" cy="45720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Line 43"/>
            <p:cNvSpPr/>
            <p:nvPr/>
          </p:nvSpPr>
          <p:spPr>
            <a:xfrm flipH="1">
              <a:off x="4419720" y="2895480"/>
              <a:ext cx="761760" cy="175284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Line 44"/>
            <p:cNvSpPr/>
            <p:nvPr/>
          </p:nvSpPr>
          <p:spPr>
            <a:xfrm flipH="1">
              <a:off x="4800600" y="4419720"/>
              <a:ext cx="914400" cy="53316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Text Box 29"/>
          <p:cNvSpPr/>
          <p:nvPr/>
        </p:nvSpPr>
        <p:spPr>
          <a:xfrm>
            <a:off x="4267080" y="914400"/>
            <a:ext cx="3200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ic Retrieval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2590920" y="5638680"/>
            <a:ext cx="4419360" cy="3988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m Semantic Similarity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0" y="2117880"/>
            <a:ext cx="4419720" cy="3988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mantic Term Matching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Basic Retrieval Constrai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DEBF-99AD-44A3-A64E-2D9B0160AB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95280" y="1628640"/>
          <a:ext cx="8353440" cy="4449960"/>
        </p:xfrm>
        <a:graphic>
          <a:graphicData uri="http://schemas.openxmlformats.org/drawingml/2006/table">
            <a:tbl>
              <a:tblPr/>
              <a:tblGrid>
                <a:gridCol w="1728720"/>
                <a:gridCol w="66247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tra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ui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C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favor a document with more occurrences of a query te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C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nsure that the amount of increase in score due to adding a query term repeatedly must decrease as more terms are ad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C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favor a document matching more distinct query te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enalize the words popular in the collection and assign higher weights to discriminative te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C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enalize a long document (assuming equal TF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C2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-L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void over-penalizing a long doc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-L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gulate the interaction of TF and document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B3FA-A33B-4035-B776-AB1684BC40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Derived Basic AX Retrieval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990720" y="1370160"/>
                <a:ext cx="723888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  <m:r>
                          <m:t xml:space="preserve">∩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⋅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vdl</m:t>
                                </m:r>
                              </m:den>
                            </m:f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84" name="Group 16"/>
          <p:cNvGrpSpPr/>
          <p:nvPr/>
        </p:nvGrpSpPr>
        <p:grpSpPr>
          <a:xfrm>
            <a:off x="304920" y="2301840"/>
            <a:ext cx="9448560" cy="6080040"/>
            <a:chOff x="304920" y="2301840"/>
            <a:chExt cx="9448560" cy="6080040"/>
          </a:xfrm>
        </p:grpSpPr>
        <p:pic>
          <p:nvPicPr>
            <p:cNvPr id="285" name="Picture 11" descr="all"/>
            <p:cNvPicPr/>
            <p:nvPr/>
          </p:nvPicPr>
          <p:blipFill>
            <a:blip r:embed="rId1"/>
            <a:stretch/>
          </p:blipFill>
          <p:spPr>
            <a:xfrm>
              <a:off x="1752480" y="2666880"/>
              <a:ext cx="5639040" cy="3946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86" name="Object 3"/>
                <p:cNvSpPr txBox="1"/>
                <p:nvPr/>
              </p:nvSpPr>
              <p:spPr>
                <a:xfrm>
                  <a:off x="2533680" y="8166240"/>
                  <a:ext cx="1141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87" name="Line 5"/>
            <p:cNvSpPr/>
            <p:nvPr/>
          </p:nvSpPr>
          <p:spPr>
            <a:xfrm>
              <a:off x="2133720" y="2682720"/>
              <a:ext cx="6858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380880" y="230184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alibri"/>
                </a:rPr>
                <a:t>Derived Func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04920" y="33526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alibri"/>
                </a:rPr>
                <a:t>Modified Okap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>
              <a:off x="2057400" y="3673440"/>
              <a:ext cx="457200" cy="3808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Line 9"/>
            <p:cNvSpPr/>
            <p:nvPr/>
          </p:nvSpPr>
          <p:spPr>
            <a:xfrm flipH="1">
              <a:off x="6248520" y="3825720"/>
              <a:ext cx="1218960" cy="7621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 flipH="1">
              <a:off x="6553080" y="4664160"/>
              <a:ext cx="990720" cy="6094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Text Box 12"/>
            <p:cNvSpPr/>
            <p:nvPr/>
          </p:nvSpPr>
          <p:spPr>
            <a:xfrm>
              <a:off x="7467480" y="365760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alibri"/>
                </a:rPr>
                <a:t>Pivote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7467480" y="44956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alibri"/>
                </a:rPr>
                <a:t>Okap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F9C5-58B3-400A-82DE-5962EA0515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Semantic Term Matching in 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879560" y="1676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419720" y="1371600"/>
            <a:ext cx="2666880" cy="1447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X Basic Retriev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No Semant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m Match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5105520" y="3581280"/>
            <a:ext cx="1752480" cy="8384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2895480" y="1905120"/>
            <a:ext cx="1524240" cy="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ine 18"/>
          <p:cNvSpPr/>
          <p:nvPr/>
        </p:nvSpPr>
        <p:spPr>
          <a:xfrm flipV="1">
            <a:off x="5943600" y="2819520"/>
            <a:ext cx="0" cy="76176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ine 19"/>
          <p:cNvSpPr/>
          <p:nvPr/>
        </p:nvSpPr>
        <p:spPr>
          <a:xfrm>
            <a:off x="7162920" y="2209680"/>
            <a:ext cx="761760" cy="0"/>
          </a:xfrm>
          <a:prstGeom prst="line">
            <a:avLst/>
          </a:prstGeom>
          <a:ln w="507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35"/>
          <p:cNvSpPr/>
          <p:nvPr/>
        </p:nvSpPr>
        <p:spPr>
          <a:xfrm>
            <a:off x="7924680" y="1295280"/>
            <a:ext cx="1143000" cy="1905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3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 2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Calibri"/>
              </a:rPr>
              <a:t>M</a:t>
            </a: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  0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oup 1"/>
          <p:cNvGrpSpPr/>
          <p:nvPr/>
        </p:nvGrpSpPr>
        <p:grpSpPr>
          <a:xfrm>
            <a:off x="2271600" y="2133720"/>
            <a:ext cx="2611800" cy="3352680"/>
            <a:chOff x="2271600" y="2133720"/>
            <a:chExt cx="2611800" cy="3352680"/>
          </a:xfrm>
        </p:grpSpPr>
        <p:sp>
          <p:nvSpPr>
            <p:cNvPr id="305" name="Text Box 10"/>
            <p:cNvSpPr/>
            <p:nvPr/>
          </p:nvSpPr>
          <p:spPr>
            <a:xfrm>
              <a:off x="2721600" y="3124080"/>
              <a:ext cx="216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Top K semanticall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similar term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11"/>
            <p:cNvSpPr/>
            <p:nvPr/>
          </p:nvSpPr>
          <p:spPr>
            <a:xfrm flipV="1">
              <a:off x="3719520" y="2590560"/>
              <a:ext cx="0" cy="53316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12"/>
            <p:cNvSpPr/>
            <p:nvPr/>
          </p:nvSpPr>
          <p:spPr>
            <a:xfrm>
              <a:off x="3719520" y="2590920"/>
              <a:ext cx="685800" cy="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14"/>
            <p:cNvSpPr/>
            <p:nvPr/>
          </p:nvSpPr>
          <p:spPr>
            <a:xfrm flipV="1">
              <a:off x="3719520" y="3810240"/>
              <a:ext cx="0" cy="76176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2728800" y="4648320"/>
              <a:ext cx="2057400" cy="838080"/>
            </a:xfrm>
            <a:prstGeom prst="rect">
              <a:avLst/>
            </a:prstGeom>
            <a:noFill/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Working set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to compute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alibri"/>
                </a:rPr>
                <a:t>semantic similarit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36"/>
            <p:cNvSpPr/>
            <p:nvPr/>
          </p:nvSpPr>
          <p:spPr>
            <a:xfrm>
              <a:off x="2271600" y="2133720"/>
              <a:ext cx="0" cy="289548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37"/>
            <p:cNvSpPr/>
            <p:nvPr/>
          </p:nvSpPr>
          <p:spPr>
            <a:xfrm>
              <a:off x="2271600" y="5029200"/>
              <a:ext cx="457200" cy="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Group 46"/>
          <p:cNvGrpSpPr/>
          <p:nvPr/>
        </p:nvGrpSpPr>
        <p:grpSpPr>
          <a:xfrm>
            <a:off x="76320" y="2895480"/>
            <a:ext cx="5638680" cy="3581640"/>
            <a:chOff x="76320" y="2895480"/>
            <a:chExt cx="5638680" cy="3581640"/>
          </a:xfrm>
        </p:grpSpPr>
        <p:sp>
          <p:nvSpPr>
            <p:cNvPr id="313" name="AutoShape 38"/>
            <p:cNvSpPr/>
            <p:nvPr/>
          </p:nvSpPr>
          <p:spPr>
            <a:xfrm>
              <a:off x="457200" y="5638680"/>
              <a:ext cx="1752480" cy="83844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collec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40"/>
            <p:cNvSpPr/>
            <p:nvPr/>
          </p:nvSpPr>
          <p:spPr>
            <a:xfrm>
              <a:off x="76320" y="4343400"/>
              <a:ext cx="1981080" cy="9144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ny reasonable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trieval function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41"/>
            <p:cNvSpPr/>
            <p:nvPr/>
          </p:nvSpPr>
          <p:spPr>
            <a:xfrm>
              <a:off x="2057400" y="4800600"/>
              <a:ext cx="685800" cy="15228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42"/>
            <p:cNvSpPr/>
            <p:nvPr/>
          </p:nvSpPr>
          <p:spPr>
            <a:xfrm flipV="1">
              <a:off x="2209680" y="5257800"/>
              <a:ext cx="533520" cy="45720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 flipH="1">
              <a:off x="4419720" y="2895480"/>
              <a:ext cx="761760" cy="175284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Line 44"/>
            <p:cNvSpPr/>
            <p:nvPr/>
          </p:nvSpPr>
          <p:spPr>
            <a:xfrm flipH="1">
              <a:off x="4800600" y="4419720"/>
              <a:ext cx="914400" cy="533160"/>
            </a:xfrm>
            <a:prstGeom prst="line">
              <a:avLst/>
            </a:prstGeom>
            <a:ln cap="rnd" w="507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Text Box 29"/>
          <p:cNvSpPr/>
          <p:nvPr/>
        </p:nvSpPr>
        <p:spPr>
          <a:xfrm>
            <a:off x="4267080" y="914400"/>
            <a:ext cx="3200400" cy="3988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ic Retrieval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30"/>
          <p:cNvSpPr/>
          <p:nvPr/>
        </p:nvSpPr>
        <p:spPr>
          <a:xfrm>
            <a:off x="2590920" y="5638680"/>
            <a:ext cx="4419360" cy="3988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m Semantic Similarity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31"/>
          <p:cNvSpPr/>
          <p:nvPr/>
        </p:nvSpPr>
        <p:spPr>
          <a:xfrm>
            <a:off x="0" y="2117880"/>
            <a:ext cx="4419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mantic Term Matching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5486-C587-46A5-AD29-94D5C1A272D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alibri"/>
              </a:rPr>
              <a:t>Semantic Term Matching Constraints </a:t>
            </a:r>
            <a:r>
              <a:rPr b="1" lang="en-US" sz="3600" spc="-1" strike="noStrike">
                <a:solidFill>
                  <a:srgbClr val="000099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Calibri"/>
                <a:ea typeface="宋体"/>
              </a:rPr>
              <a:t>(STMC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MC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3946680" y="5562720"/>
                <a:ext cx="1076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6" name="Text Box 5"/>
          <p:cNvSpPr/>
          <p:nvPr/>
        </p:nvSpPr>
        <p:spPr>
          <a:xfrm>
            <a:off x="685800" y="1346040"/>
            <a:ext cx="7848720" cy="125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3f1f"/>
                </a:solidFill>
                <a:latin typeface="Calibri"/>
                <a:ea typeface="宋体"/>
              </a:rPr>
              <a:t>Semantic Term Matching Heuristic I:    </a:t>
            </a:r>
            <a:r>
              <a:rPr b="1" lang="en-US" sz="2800" spc="-1" strike="noStrike">
                <a:solidFill>
                  <a:srgbClr val="5e3f1f"/>
                </a:solidFill>
                <a:latin typeface="Calibri"/>
                <a:ea typeface="宋体"/>
              </a:rPr>
              <a:t>	</a:t>
            </a:r>
            <a:r>
              <a:rPr b="1" lang="en-US" sz="2800" spc="-1" strike="noStrike">
                <a:solidFill>
                  <a:srgbClr val="5e3f1f"/>
                </a:solidFill>
                <a:latin typeface="Calibri"/>
                <a:ea typeface="宋体"/>
              </a:rPr>
              <a:t>	</a:t>
            </a:r>
            <a:r>
              <a:rPr b="1" lang="en-US" sz="2800" spc="-1" strike="noStrike">
                <a:solidFill>
                  <a:srgbClr val="5e3f1f"/>
                </a:solidFill>
                <a:latin typeface="Calibri"/>
                <a:ea typeface="宋体"/>
              </a:rPr>
              <a:t>	</a:t>
            </a:r>
            <a:r>
              <a:rPr b="0" lang="en-US" sz="2000" spc="-1" strike="noStrike">
                <a:solidFill>
                  <a:srgbClr val="5e3f1f"/>
                </a:solidFill>
                <a:latin typeface="Calibri"/>
                <a:ea typeface="宋体"/>
              </a:rPr>
              <a:t>Give a higher score to a document with a term that is </a:t>
            </a:r>
            <a:r>
              <a:rPr b="0" lang="en-US" sz="2000" spc="-1" strike="noStrike">
                <a:solidFill>
                  <a:srgbClr val="5e3f1f"/>
                </a:solidFill>
                <a:latin typeface="Calibri"/>
                <a:ea typeface="宋体"/>
              </a:rPr>
              <a:t>	</a:t>
            </a:r>
            <a:r>
              <a:rPr b="0" lang="en-US" sz="2000" spc="-1" strike="noStrike">
                <a:solidFill>
                  <a:srgbClr val="5e3f1f"/>
                </a:solidFill>
                <a:latin typeface="Calibri"/>
                <a:ea typeface="宋体"/>
              </a:rPr>
              <a:t>more semantically related to a query t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914400" y="54864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Group 19"/>
          <p:cNvGrpSpPr/>
          <p:nvPr/>
        </p:nvGrpSpPr>
        <p:grpSpPr>
          <a:xfrm>
            <a:off x="1066680" y="4175280"/>
            <a:ext cx="4114800" cy="2386440"/>
            <a:chOff x="1066680" y="4175280"/>
            <a:chExt cx="4114800" cy="2386440"/>
          </a:xfrm>
        </p:grpSpPr>
        <p:sp>
          <p:nvSpPr>
            <p:cNvPr id="329" name="Text Box 13"/>
            <p:cNvSpPr/>
            <p:nvPr/>
          </p:nvSpPr>
          <p:spPr>
            <a:xfrm>
              <a:off x="1066680" y="5394240"/>
              <a:ext cx="41148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Calibri"/>
                </a:rPr>
                <a:t>s(q,d) is any given semantic similarity function between two terms q and d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Calibri"/>
                </a:rPr>
                <a:t>Moreover, s(t,t)&gt;s(t,u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1447560" y="4175280"/>
              <a:ext cx="1600200" cy="380520"/>
            </a:xfrm>
            <a:prstGeom prst="rect">
              <a:avLst/>
            </a:pr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Group 21"/>
          <p:cNvGrpSpPr/>
          <p:nvPr/>
        </p:nvGrpSpPr>
        <p:grpSpPr>
          <a:xfrm>
            <a:off x="990720" y="3276720"/>
            <a:ext cx="7238880" cy="1981080"/>
            <a:chOff x="990720" y="3276720"/>
            <a:chExt cx="7238880" cy="1981080"/>
          </a:xfrm>
        </p:grpSpPr>
        <p:grpSp>
          <p:nvGrpSpPr>
            <p:cNvPr id="332" name="Group 20"/>
            <p:cNvGrpSpPr/>
            <p:nvPr/>
          </p:nvGrpSpPr>
          <p:grpSpPr>
            <a:xfrm>
              <a:off x="990720" y="3276720"/>
              <a:ext cx="7238880" cy="1981080"/>
              <a:chOff x="990720" y="3276720"/>
              <a:chExt cx="7238880" cy="1981080"/>
            </a:xfrm>
          </p:grpSpPr>
          <p:grpSp>
            <p:nvGrpSpPr>
              <p:cNvPr id="333" name="Group 18"/>
              <p:cNvGrpSpPr/>
              <p:nvPr/>
            </p:nvGrpSpPr>
            <p:grpSpPr>
              <a:xfrm>
                <a:off x="990720" y="3276720"/>
                <a:ext cx="4419360" cy="1617840"/>
                <a:chOff x="990720" y="3276720"/>
                <a:chExt cx="4419360" cy="1617840"/>
              </a:xfrm>
            </p:grpSpPr>
            <p:sp>
              <p:nvSpPr>
                <p:cNvPr id="334" name="Text Box 6"/>
                <p:cNvSpPr/>
                <p:nvPr/>
              </p:nvSpPr>
              <p:spPr>
                <a:xfrm>
                  <a:off x="990720" y="4098960"/>
                  <a:ext cx="251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If                            ,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5" name="Text Box 7"/>
                <p:cNvSpPr/>
                <p:nvPr/>
              </p:nvSpPr>
              <p:spPr>
                <a:xfrm>
                  <a:off x="990720" y="449568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then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6" name="Text Box 8"/>
                <p:cNvSpPr/>
                <p:nvPr/>
              </p:nvSpPr>
              <p:spPr>
                <a:xfrm>
                  <a:off x="990720" y="3276720"/>
                  <a:ext cx="4419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Let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Q={q}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 be a query.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Let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D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1 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={d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1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}, D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2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={d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2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}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be two documents. 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37" name="Object 9"/>
                    <p:cNvSpPr txBox="1"/>
                    <p:nvPr/>
                  </p:nvSpPr>
                  <p:spPr>
                    <a:xfrm>
                      <a:off x="1447920" y="4191120"/>
                      <a:ext cx="1523880" cy="299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&gt;</m:t>
                          </m:r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338" name="Object 10"/>
                    <p:cNvSpPr txBox="1"/>
                    <p:nvPr/>
                  </p:nvSpPr>
                  <p:spPr>
                    <a:xfrm>
                      <a:off x="1600200" y="4584600"/>
                      <a:ext cx="1697040" cy="292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&gt;</m:t>
                          </m:r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339" name="Object 15"/>
                  <p:cNvSpPr txBox="1"/>
                  <p:nvPr/>
                </p:nvSpPr>
                <p:spPr>
                  <a:xfrm>
                    <a:off x="5952960" y="4900680"/>
                    <a:ext cx="2276640" cy="357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0" name="Rectangle 16"/>
            <p:cNvSpPr/>
            <p:nvPr/>
          </p:nvSpPr>
          <p:spPr>
            <a:xfrm>
              <a:off x="6095880" y="3276720"/>
              <a:ext cx="1981440" cy="1371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Q:  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r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1: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river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2: 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ish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41Z</dcterms:created>
  <dc:creator>ypeilin</dc:creator>
  <dc:description/>
  <dc:language>en-US</dc:language>
  <cp:lastModifiedBy>Hui Fang</cp:lastModifiedBy>
  <dcterms:modified xsi:type="dcterms:W3CDTF">2013-11-22T16:13:54Z</dcterms:modified>
  <cp:revision>674</cp:revision>
  <dc:subject/>
  <dc:title>Opinion-based User Profile Modeling for Contextual Suggestions</dc:title>
</cp:coreProperties>
</file>