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771B-2B92-41D3-98D4-F15212BAA0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E79-3274-4B20-B70A-D077D85E91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didate name and location are served as the query submitted to the commercial search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p, TripAdvisor, Opentable pages in the top 50 search results are coll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092-FD80-4CD3-AF0D-4E79E47C66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96B-5576-439E-989F-1B0C4ADB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B73-534F-4ADC-8EDE-8924B39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79C-EF26-4295-9226-81FEB857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4E1-7E74-4307-802F-83988E29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EE2-C9D8-4814-A266-3468306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0FF-D8AA-4A8C-A56C-DE4EAE9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676-1901-4843-9BE6-55AE64E4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99E-6200-4549-AA17-868A6185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E2A-E25F-4BF5-8741-69158C5F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2D8-54C7-4246-A75B-993942A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C87-E924-4CC5-84A3-407EC6C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C74-876D-4F5F-B750-FD41C36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83A-D5C6-4F59-A707-47F8A60786E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5CF2-7181-47CF-AAE2-42A173DA4A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305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Rockwell"/>
              </a:rPr>
              <a:t>Combining the opinion profile modeling with complex context filtering for Contextual Sug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7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Peilin Yang and Hui F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24" descr="https://www.udel.edu/lock-down/ocm-graphics/internal/InterlockingUD1C.jpg"/>
          <p:cNvPicPr/>
          <p:nvPr/>
        </p:nvPicPr>
        <p:blipFill>
          <a:blip r:embed="rId1"/>
          <a:stretch/>
        </p:blipFill>
        <p:spPr>
          <a:xfrm>
            <a:off x="6804000" y="5877000"/>
            <a:ext cx="496800" cy="64764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6778-5970-4AD5-85BA-C2D0966C17B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infolab-logo.png"/>
          <p:cNvPicPr/>
          <p:nvPr/>
        </p:nvPicPr>
        <p:blipFill>
          <a:blip r:embed="rId2"/>
          <a:stretch/>
        </p:blipFill>
        <p:spPr>
          <a:xfrm>
            <a:off x="7288200" y="5832360"/>
            <a:ext cx="1747800" cy="7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4915-89AA-4718-A5F6-745017D77A2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Profile Modeling – Candidate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左大括号 1"/>
          <p:cNvSpPr/>
          <p:nvPr/>
        </p:nvSpPr>
        <p:spPr>
          <a:xfrm>
            <a:off x="1569960" y="1052640"/>
            <a:ext cx="409680" cy="4897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78560 h 4897440"/>
              <a:gd name="textAreaBottom" fmla="*/ 471888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9"/>
                  <a:pt x="10800" y="2517"/>
                </a:cubicBezTo>
                <a:lnTo>
                  <a:pt x="10800" y="8283"/>
                </a:lnTo>
                <a:cubicBezTo>
                  <a:pt x="10800" y="9542"/>
                  <a:pt x="5400" y="10800"/>
                  <a:pt x="0" y="10800"/>
                </a:cubicBezTo>
                <a:cubicBezTo>
                  <a:pt x="5400" y="10800"/>
                  <a:pt x="10800" y="12059"/>
                  <a:pt x="10800" y="13317"/>
                </a:cubicBezTo>
                <a:lnTo>
                  <a:pt x="10800" y="19083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五角星 30"/>
          <p:cNvSpPr/>
          <p:nvPr/>
        </p:nvSpPr>
        <p:spPr>
          <a:xfrm>
            <a:off x="270036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五角星 31"/>
          <p:cNvSpPr/>
          <p:nvPr/>
        </p:nvSpPr>
        <p:spPr>
          <a:xfrm>
            <a:off x="305928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角星 32"/>
          <p:cNvSpPr/>
          <p:nvPr/>
        </p:nvSpPr>
        <p:spPr>
          <a:xfrm>
            <a:off x="341964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角星 33"/>
          <p:cNvSpPr/>
          <p:nvPr/>
        </p:nvSpPr>
        <p:spPr>
          <a:xfrm>
            <a:off x="378000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角星 34"/>
          <p:cNvSpPr/>
          <p:nvPr/>
        </p:nvSpPr>
        <p:spPr>
          <a:xfrm>
            <a:off x="2700360" y="200484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角星 35"/>
          <p:cNvSpPr/>
          <p:nvPr/>
        </p:nvSpPr>
        <p:spPr>
          <a:xfrm>
            <a:off x="3059280" y="20048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角星 36"/>
          <p:cNvSpPr/>
          <p:nvPr/>
        </p:nvSpPr>
        <p:spPr>
          <a:xfrm>
            <a:off x="3419640" y="20048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角星 37"/>
          <p:cNvSpPr/>
          <p:nvPr/>
        </p:nvSpPr>
        <p:spPr>
          <a:xfrm>
            <a:off x="3780000" y="20048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角星 38"/>
          <p:cNvSpPr/>
          <p:nvPr/>
        </p:nvSpPr>
        <p:spPr>
          <a:xfrm>
            <a:off x="414036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1"/>
          <p:cNvSpPr/>
          <p:nvPr/>
        </p:nvSpPr>
        <p:spPr>
          <a:xfrm>
            <a:off x="2630520" y="1268280"/>
            <a:ext cx="64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ly amazing food and the most friendly and inviting atmosphere that I've ever experienced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0"/>
          <p:cNvSpPr/>
          <p:nvPr/>
        </p:nvSpPr>
        <p:spPr>
          <a:xfrm>
            <a:off x="2627280" y="2382840"/>
            <a:ext cx="61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od was very reasonably priced. No soggy dough and just the right amount of sweetnes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角星 42"/>
          <p:cNvSpPr/>
          <p:nvPr/>
        </p:nvSpPr>
        <p:spPr>
          <a:xfrm>
            <a:off x="2700360" y="4365720"/>
            <a:ext cx="358920" cy="342720"/>
          </a:xfrm>
          <a:custGeom>
            <a:avLst/>
            <a:gdLst/>
            <a:ahLst/>
            <a:rect l="l" t="t" r="r" b="b"/>
            <a:pathLst>
              <a:path w="358775" h="342900">
                <a:moveTo>
                  <a:pt x="0" y="130976"/>
                </a:moveTo>
                <a:lnTo>
                  <a:pt x="137041" y="130977"/>
                </a:lnTo>
                <a:lnTo>
                  <a:pt x="179388" y="0"/>
                </a:lnTo>
                <a:lnTo>
                  <a:pt x="221734" y="130977"/>
                </a:lnTo>
                <a:lnTo>
                  <a:pt x="358775" y="130976"/>
                </a:lnTo>
                <a:lnTo>
                  <a:pt x="247906" y="211923"/>
                </a:lnTo>
                <a:lnTo>
                  <a:pt x="290255" y="342899"/>
                </a:lnTo>
                <a:lnTo>
                  <a:pt x="179388" y="261950"/>
                </a:lnTo>
                <a:lnTo>
                  <a:pt x="68520" y="342899"/>
                </a:lnTo>
                <a:lnTo>
                  <a:pt x="11086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五角星 43"/>
          <p:cNvSpPr/>
          <p:nvPr/>
        </p:nvSpPr>
        <p:spPr>
          <a:xfrm>
            <a:off x="3059280" y="4365720"/>
            <a:ext cx="360360" cy="34272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五角星 44"/>
          <p:cNvSpPr/>
          <p:nvPr/>
        </p:nvSpPr>
        <p:spPr>
          <a:xfrm>
            <a:off x="2700360" y="546084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48"/>
          <p:cNvSpPr/>
          <p:nvPr/>
        </p:nvSpPr>
        <p:spPr>
          <a:xfrm>
            <a:off x="2671920" y="471636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e ball for a dollar. I guess so? But nothing spe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49"/>
          <p:cNvSpPr/>
          <p:nvPr/>
        </p:nvSpPr>
        <p:spPr>
          <a:xfrm>
            <a:off x="2643120" y="5832360"/>
            <a:ext cx="56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've done some pretty disgusting things in my life... trust me, but I've always been considerate of other people and their boundar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直接箭头连接符 39"/>
          <p:cNvCxnSpPr/>
          <p:nvPr/>
        </p:nvCxnSpPr>
        <p:spPr>
          <a:xfrm flipH="1" flipV="1">
            <a:off x="5637960" y="2706480"/>
            <a:ext cx="172440" cy="530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15" name="直接箭头连接符 63"/>
          <p:cNvCxnSpPr/>
          <p:nvPr/>
        </p:nvCxnSpPr>
        <p:spPr>
          <a:xfrm flipV="1">
            <a:off x="6046920" y="1772640"/>
            <a:ext cx="326160" cy="14245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16" name="TextBox 59"/>
          <p:cNvSpPr/>
          <p:nvPr/>
        </p:nvSpPr>
        <p:spPr>
          <a:xfrm>
            <a:off x="3059280" y="312732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Rockwell"/>
                <a:ea typeface="宋体"/>
              </a:rPr>
              <a:t>Positive Candidate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3059280" y="361476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Rockwell"/>
              </a:rPr>
              <a:t>Negative Candidate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8" name="直接箭头连接符 69"/>
          <p:cNvCxnSpPr/>
          <p:nvPr/>
        </p:nvCxnSpPr>
        <p:spPr>
          <a:xfrm flipH="1">
            <a:off x="4318920" y="4076280"/>
            <a:ext cx="361080" cy="69444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219" name="直接箭头连接符 74"/>
          <p:cNvCxnSpPr/>
          <p:nvPr/>
        </p:nvCxnSpPr>
        <p:spPr>
          <a:xfrm flipH="1">
            <a:off x="4858920" y="4076280"/>
            <a:ext cx="289440" cy="17787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pic>
        <p:nvPicPr>
          <p:cNvPr id="220" name="Picture 4" descr="http://i.istockimg.com/file_thumbview_approve/8838887/2/stock-illustration-8838887-world-landmark-icon-set.jpg"/>
          <p:cNvPicPr/>
          <p:nvPr/>
        </p:nvPicPr>
        <p:blipFill>
          <a:blip r:embed="rId1"/>
          <a:stretch/>
        </p:blipFill>
        <p:spPr>
          <a:xfrm>
            <a:off x="284040" y="2924280"/>
            <a:ext cx="1263600" cy="115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african, afro, american, avatar, user, woman icon"/>
          <p:cNvPicPr/>
          <p:nvPr/>
        </p:nvPicPr>
        <p:blipFill>
          <a:blip r:embed="rId2"/>
          <a:stretch/>
        </p:blipFill>
        <p:spPr>
          <a:xfrm>
            <a:off x="2120760" y="1125360"/>
            <a:ext cx="506520" cy="50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vatar, hip, hippie, jamaican, user icon"/>
          <p:cNvPicPr/>
          <p:nvPr/>
        </p:nvPicPr>
        <p:blipFill>
          <a:blip r:embed="rId3"/>
          <a:stretch/>
        </p:blipFill>
        <p:spPr>
          <a:xfrm>
            <a:off x="2124000" y="5589720"/>
            <a:ext cx="506520" cy="506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avatar, boy, man, pirate, user icon"/>
          <p:cNvPicPr/>
          <p:nvPr/>
        </p:nvPicPr>
        <p:blipFill>
          <a:blip r:embed="rId4"/>
          <a:stretch/>
        </p:blipFill>
        <p:spPr>
          <a:xfrm>
            <a:off x="2124000" y="447984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avatar, chef, cook, man, user icon"/>
          <p:cNvPicPr/>
          <p:nvPr/>
        </p:nvPicPr>
        <p:blipFill>
          <a:blip r:embed="rId5"/>
          <a:stretch/>
        </p:blipFill>
        <p:spPr>
          <a:xfrm>
            <a:off x="2124000" y="2128680"/>
            <a:ext cx="506520" cy="508320"/>
          </a:xfrm>
          <a:prstGeom prst="rect">
            <a:avLst/>
          </a:prstGeom>
          <a:ln w="0">
            <a:noFill/>
          </a:ln>
        </p:spPr>
      </p:pic>
      <p:sp>
        <p:nvSpPr>
          <p:cNvPr id="225" name="直接连接符 40"/>
          <p:cNvSpPr/>
          <p:nvPr/>
        </p:nvSpPr>
        <p:spPr>
          <a:xfrm>
            <a:off x="2671920" y="1604880"/>
            <a:ext cx="5500440" cy="27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接连接符 41"/>
          <p:cNvSpPr/>
          <p:nvPr/>
        </p:nvSpPr>
        <p:spPr>
          <a:xfrm>
            <a:off x="2671920" y="1889280"/>
            <a:ext cx="3536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45"/>
          <p:cNvSpPr/>
          <p:nvPr/>
        </p:nvSpPr>
        <p:spPr>
          <a:xfrm>
            <a:off x="2725560" y="5084640"/>
            <a:ext cx="489132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接连接符 46"/>
          <p:cNvSpPr/>
          <p:nvPr/>
        </p:nvSpPr>
        <p:spPr>
          <a:xfrm>
            <a:off x="2700360" y="2708280"/>
            <a:ext cx="5832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接连接符 47"/>
          <p:cNvSpPr/>
          <p:nvPr/>
        </p:nvSpPr>
        <p:spPr>
          <a:xfrm>
            <a:off x="2700360" y="2994120"/>
            <a:ext cx="27795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48"/>
          <p:cNvSpPr/>
          <p:nvPr/>
        </p:nvSpPr>
        <p:spPr>
          <a:xfrm>
            <a:off x="2725560" y="6165720"/>
            <a:ext cx="54468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49"/>
          <p:cNvSpPr/>
          <p:nvPr/>
        </p:nvSpPr>
        <p:spPr>
          <a:xfrm>
            <a:off x="2725560" y="6453360"/>
            <a:ext cx="54468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50"/>
          <p:cNvSpPr/>
          <p:nvPr/>
        </p:nvSpPr>
        <p:spPr>
          <a:xfrm>
            <a:off x="2725560" y="6742080"/>
            <a:ext cx="105444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93F-12A8-41E0-8D79-593F273C9C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237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8" name="曲线连接符 12"/>
          <p:cNvCxnSpPr>
            <a:stCxn id="235" idx="2"/>
            <a:endCxn id="237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239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240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escription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2" name="曲线连接符 20"/>
          <p:cNvCxnSpPr>
            <a:stCxn id="237" idx="2"/>
            <a:endCxn id="240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243" name="曲线连接符 24"/>
          <p:cNvCxnSpPr>
            <a:stCxn id="240" idx="2"/>
            <a:endCxn id="241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244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Candidate Suggestion Ran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直接箭头连接符 5"/>
          <p:cNvCxnSpPr/>
          <p:nvPr/>
        </p:nvCxnSpPr>
        <p:spPr>
          <a:xfrm flipV="1">
            <a:off x="3742920" y="3212280"/>
            <a:ext cx="1545480" cy="108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直接箭头连接符 14"/>
          <p:cNvCxnSpPr/>
          <p:nvPr/>
        </p:nvCxnSpPr>
        <p:spPr>
          <a:xfrm flipV="1">
            <a:off x="3742920" y="3285360"/>
            <a:ext cx="1545480" cy="86436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直接箭头连接符 18"/>
          <p:cNvCxnSpPr/>
          <p:nvPr/>
        </p:nvCxnSpPr>
        <p:spPr>
          <a:xfrm>
            <a:off x="3779640" y="3285720"/>
            <a:ext cx="1508760" cy="86436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95F-CC26-4679-B007-E3D1DA256E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直接箭头连接符 13"/>
          <p:cNvCxnSpPr/>
          <p:nvPr/>
        </p:nvCxnSpPr>
        <p:spPr>
          <a:xfrm>
            <a:off x="3745080" y="4220640"/>
            <a:ext cx="1543680" cy="1080"/>
          </a:xfrm>
          <a:prstGeom prst="straightConnector1">
            <a:avLst/>
          </a:prstGeom>
          <a:ln w="28440">
            <a:solidFill>
              <a:srgbClr val="558ed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2" name="矩形标注 21"/>
          <p:cNvSpPr/>
          <p:nvPr/>
        </p:nvSpPr>
        <p:spPr>
          <a:xfrm>
            <a:off x="611280" y="4724280"/>
            <a:ext cx="3313080" cy="720720"/>
          </a:xfrm>
          <a:prstGeom prst="wedgeRectCallout">
            <a:avLst>
              <a:gd name="adj1" fmla="val -513"/>
              <a:gd name="adj2" fmla="val -8681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es the user dislike  exampl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标注 22"/>
          <p:cNvSpPr/>
          <p:nvPr/>
        </p:nvSpPr>
        <p:spPr>
          <a:xfrm>
            <a:off x="611280" y="1916280"/>
            <a:ext cx="3313080" cy="720720"/>
          </a:xfrm>
          <a:prstGeom prst="wedgeRectCallout">
            <a:avLst>
              <a:gd name="adj1" fmla="val -796"/>
              <a:gd name="adj2" fmla="val 85643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es the user like exampl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标注 28"/>
          <p:cNvSpPr/>
          <p:nvPr/>
        </p:nvSpPr>
        <p:spPr>
          <a:xfrm>
            <a:off x="5288040" y="4724280"/>
            <a:ext cx="3494160" cy="720720"/>
          </a:xfrm>
          <a:prstGeom prst="wedgeRectCallout">
            <a:avLst>
              <a:gd name="adj1" fmla="val 310"/>
              <a:gd name="adj2" fmla="val -8884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 other users dislike candidat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标注 29"/>
          <p:cNvSpPr/>
          <p:nvPr/>
        </p:nvSpPr>
        <p:spPr>
          <a:xfrm>
            <a:off x="5214960" y="1916280"/>
            <a:ext cx="3332160" cy="720720"/>
          </a:xfrm>
          <a:prstGeom prst="wedgeRectCallout">
            <a:avLst>
              <a:gd name="adj1" fmla="val 314"/>
              <a:gd name="adj2" fmla="val 886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宋体"/>
              </a:rPr>
              <a:t>Why do other users like candidate suggestion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ounded Rectangle 31"/>
          <p:cNvSpPr/>
          <p:nvPr/>
        </p:nvSpPr>
        <p:spPr>
          <a:xfrm>
            <a:off x="1116000" y="2924280"/>
            <a:ext cx="24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c746"/>
              </a:gs>
              <a:gs pos="100000">
                <a:srgbClr val="769535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sitive User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ounded Rectangle 32"/>
          <p:cNvSpPr/>
          <p:nvPr/>
        </p:nvSpPr>
        <p:spPr>
          <a:xfrm>
            <a:off x="1116000" y="3932280"/>
            <a:ext cx="24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Negative User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ounded Rectangle 33"/>
          <p:cNvSpPr/>
          <p:nvPr/>
        </p:nvSpPr>
        <p:spPr>
          <a:xfrm>
            <a:off x="5437080" y="2924280"/>
            <a:ext cx="266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Positive Candi.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34"/>
          <p:cNvSpPr/>
          <p:nvPr/>
        </p:nvSpPr>
        <p:spPr>
          <a:xfrm>
            <a:off x="5437080" y="3932280"/>
            <a:ext cx="266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Negative Candi. Pro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https://cdn4.iconfinder.com/data/icons/user-avatar-flat-icons/512/User_Avatar-44-512.png"/>
          <p:cNvPicPr/>
          <p:nvPr/>
        </p:nvPicPr>
        <p:blipFill>
          <a:blip r:embed="rId1"/>
          <a:stretch/>
        </p:blipFill>
        <p:spPr>
          <a:xfrm>
            <a:off x="181080" y="31528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i.istockimg.com/file_thumbview_approve/8838887/2/stock-illustration-8838887-world-landmark-icon-set.jpg"/>
          <p:cNvPicPr/>
          <p:nvPr/>
        </p:nvPicPr>
        <p:blipFill>
          <a:blip r:embed="rId2"/>
          <a:stretch/>
        </p:blipFill>
        <p:spPr>
          <a:xfrm>
            <a:off x="8205840" y="3213000"/>
            <a:ext cx="758880" cy="692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9"/>
          <p:cNvSpPr/>
          <p:nvPr/>
        </p:nvSpPr>
        <p:spPr>
          <a:xfrm>
            <a:off x="3927600" y="2843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Rockwell"/>
              </a:rPr>
              <a:t>Simi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Ranking Detai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E34-591E-4842-B47B-C5ABEDBA8E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395280" y="1528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Representations of Reviews when building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611280" y="208296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Full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F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use full text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Nouns in Reviews (</a:t>
            </a:r>
            <a:r>
              <a:rPr b="1" i="1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NR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): nouns in the revi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14"/>
          <p:cNvSpPr/>
          <p:nvPr/>
        </p:nvSpPr>
        <p:spPr>
          <a:xfrm>
            <a:off x="324000" y="1341360"/>
            <a:ext cx="84960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15"/>
          <p:cNvSpPr/>
          <p:nvPr/>
        </p:nvSpPr>
        <p:spPr>
          <a:xfrm>
            <a:off x="324000" y="3500280"/>
            <a:ext cx="84960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395280" y="3614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Similarity Measurement: Linear Interpolati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Rockwell"/>
                <a:ea typeface="宋体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12" descr="C:\Users\ypeilin\Desktop\无标题.png"/>
          <p:cNvPicPr/>
          <p:nvPr/>
        </p:nvPicPr>
        <p:blipFill>
          <a:blip r:embed="rId1"/>
          <a:stretch/>
        </p:blipFill>
        <p:spPr>
          <a:xfrm>
            <a:off x="611280" y="4334040"/>
            <a:ext cx="7777080" cy="1039680"/>
          </a:xfrm>
          <a:prstGeom prst="rect">
            <a:avLst/>
          </a:prstGeom>
          <a:ln w="0">
            <a:noFill/>
          </a:ln>
        </p:spPr>
      </p:pic>
      <p:sp>
        <p:nvSpPr>
          <p:cNvPr id="271" name="矩形 1"/>
          <p:cNvSpPr/>
          <p:nvPr/>
        </p:nvSpPr>
        <p:spPr>
          <a:xfrm>
            <a:off x="324000" y="6022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Peilin Yang and Hui Fang. Opinions Matter: A General Approach to User Profile Modeling for Contextual Suggestion.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ppear in Information Retrieval Jour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38F2-D3E1-4A95-AEE1-AB84CB08B6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276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曲线连接符 12"/>
          <p:cNvCxnSpPr>
            <a:stCxn id="274" idx="2"/>
            <a:endCxn id="276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278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279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omplex Context Fil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1" name="曲线连接符 20"/>
          <p:cNvCxnSpPr>
            <a:stCxn id="276" idx="2"/>
            <a:endCxn id="279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282" name="曲线连接符 24"/>
          <p:cNvCxnSpPr>
            <a:stCxn id="279" idx="2"/>
            <a:endCxn id="280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283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ckwell"/>
              </a:rPr>
              <a:t>Complex Context Fil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6D3-2EAA-40A2-99F3-C74B3D5F17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79280" y="98100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  <a:ea typeface="宋体"/>
              </a:rPr>
              <a:t>Basic Operation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Rockwell"/>
              </a:rPr>
              <a:t>Boost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: boost the score of the selected candi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Rockwell"/>
              </a:rPr>
              <a:t>Avoid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: remove the selected candi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Rockwell"/>
              </a:rPr>
              <a:t>Mix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: reorder the ranking list in round-robin way in terms of categ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Rockwell"/>
                <a:ea typeface="宋体"/>
              </a:rPr>
              <a:t>*** Mix applys after Boost and Aviod. It actually reorder the ranking list. So we apply Trip Duration (where Mix occurs) filter la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76360" y="3645000"/>
          <a:ext cx="7991280" cy="2697120"/>
        </p:xfrm>
        <a:graphic>
          <a:graphicData uri="http://schemas.openxmlformats.org/drawingml/2006/table">
            <a:tbl>
              <a:tblPr/>
              <a:tblGrid>
                <a:gridCol w="2592360"/>
                <a:gridCol w="1727280"/>
                <a:gridCol w="1674720"/>
                <a:gridCol w="1996920"/>
              </a:tblGrid>
              <a:tr h="49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Con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Bo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v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rip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ricy hotels and restau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Hol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FE1A-D402-4A6D-9A69-85AFE2DD08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95280" y="189000"/>
          <a:ext cx="8353440" cy="6053040"/>
        </p:xfrm>
        <a:graphic>
          <a:graphicData uri="http://schemas.openxmlformats.org/drawingml/2006/table">
            <a:tbl>
              <a:tblPr/>
              <a:tblGrid>
                <a:gridCol w="2709720"/>
                <a:gridCol w="3267360"/>
                <a:gridCol w="1728720"/>
                <a:gridCol w="64764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Contex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Bo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vo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Mi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rip Du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Travelling Al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Travelling with a group of frien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Travelling with fami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musement par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Travelling with an other grou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“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good for groups” property (Yelp and OpenTable have such informati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rip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Sp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Summ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F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Win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ark, amusement park and zo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A5B-B5CF-421A-A7A7-CCD324317F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260280"/>
          <a:ext cx="7993080" cy="6338880"/>
        </p:xfrm>
        <a:graphic>
          <a:graphicData uri="http://schemas.openxmlformats.org/drawingml/2006/table">
            <a:tbl>
              <a:tblPr/>
              <a:tblGrid>
                <a:gridCol w="2592360"/>
                <a:gridCol w="1729080"/>
                <a:gridCol w="1672920"/>
                <a:gridCol w="1998720"/>
              </a:tblGrid>
              <a:tr h="35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Contex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Bo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vo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Mi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rip Du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Night Ou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bar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ub, theaters, music ven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venues that are closed at night, e.g. brunch restaura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Day Tri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hotel, bar, pub, theaters and venues that are closed during daytim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Weekend Tri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hotels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staurants and landmarks for every 5 sugges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 Lon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hotels and oth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types of venues for every 5 sugges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755640" y="1413000"/>
          <a:ext cx="7561440" cy="2286000"/>
        </p:xfrm>
        <a:graphic>
          <a:graphicData uri="http://schemas.openxmlformats.org/drawingml/2006/table">
            <a:tbl>
              <a:tblPr/>
              <a:tblGrid>
                <a:gridCol w="1890720"/>
                <a:gridCol w="2141640"/>
                <a:gridCol w="1638360"/>
                <a:gridCol w="189072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 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Context Fi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@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CF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ull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NO_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ull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CF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un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5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NO_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un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0.6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85E1-D6E2-4912-A542-709163E2BC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1187280" y="4437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  <a:ea typeface="宋体"/>
              </a:rPr>
              <a:t>Main Finding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  <a:ea typeface="宋体"/>
              </a:rPr>
              <a:t>All the runs generally perform g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  <a:ea typeface="宋体"/>
              </a:rPr>
              <a:t>Context Filter does not work well as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上箭头 3"/>
          <p:cNvSpPr/>
          <p:nvPr/>
        </p:nvSpPr>
        <p:spPr>
          <a:xfrm>
            <a:off x="7885080" y="2565360"/>
            <a:ext cx="216000" cy="287280"/>
          </a:xfrm>
          <a:prstGeom prst="upArrow">
            <a:avLst>
              <a:gd name="adj1" fmla="val 50000"/>
              <a:gd name="adj2" fmla="val 499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上箭头 8"/>
          <p:cNvSpPr/>
          <p:nvPr/>
        </p:nvSpPr>
        <p:spPr>
          <a:xfrm>
            <a:off x="7885080" y="3357720"/>
            <a:ext cx="216000" cy="287280"/>
          </a:xfrm>
          <a:prstGeom prst="upArrow">
            <a:avLst>
              <a:gd name="adj1" fmla="val 50000"/>
              <a:gd name="adj2" fmla="val 499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755640" y="375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宋体"/>
              </a:rPr>
              <a:t>* submitted ru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11280" y="1557360"/>
          <a:ext cx="7993080" cy="3868560"/>
        </p:xfrm>
        <a:graphic>
          <a:graphicData uri="http://schemas.openxmlformats.org/drawingml/2006/table">
            <a:tbl>
              <a:tblPr/>
              <a:tblGrid>
                <a:gridCol w="2592360"/>
                <a:gridCol w="1728720"/>
                <a:gridCol w="1673280"/>
                <a:gridCol w="199872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st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os. term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ll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6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6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4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62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n-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31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85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81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6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5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673-8885-4605-88A2-F82B49FFE1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"/>
          <p:cNvSpPr/>
          <p:nvPr/>
        </p:nvSpPr>
        <p:spPr>
          <a:xfrm>
            <a:off x="3564000" y="3789360"/>
            <a:ext cx="936720" cy="1655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3564000" y="2357280"/>
            <a:ext cx="936720" cy="12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395280" y="56926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Number of reviews in top ranked results of our method is much larger than that of candidates (both relevant ones and non-relevant o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直接箭头连接符 3"/>
          <p:cNvCxnSpPr/>
          <p:nvPr/>
        </p:nvCxnSpPr>
        <p:spPr>
          <a:xfrm flipH="1" flipV="1">
            <a:off x="4500000" y="4796640"/>
            <a:ext cx="5036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直接箭头连接符 12"/>
          <p:cNvCxnSpPr/>
          <p:nvPr/>
        </p:nvCxnSpPr>
        <p:spPr>
          <a:xfrm flipH="1" flipV="1">
            <a:off x="4500000" y="3572640"/>
            <a:ext cx="503640" cy="21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CC0E-A546-47A4-827B-A37BDDEB78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曲线连接符 12"/>
          <p:cNvCxnSpPr>
            <a:stCxn id="55" idx="2"/>
            <a:endCxn id="57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59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omplex Context Fil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63" name="曲线连接符 20"/>
          <p:cNvCxnSpPr>
            <a:stCxn id="57" idx="2"/>
            <a:endCxn id="60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cxnSp>
        <p:nvCxnSpPr>
          <p:cNvPr id="64" name="曲线连接符 24"/>
          <p:cNvCxnSpPr>
            <a:stCxn id="60" idx="2"/>
            <a:endCxn id="61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pic>
        <p:nvPicPr>
          <p:cNvPr id="65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11280" y="1557360"/>
          <a:ext cx="7993080" cy="3868560"/>
        </p:xfrm>
        <a:graphic>
          <a:graphicData uri="http://schemas.openxmlformats.org/drawingml/2006/table">
            <a:tbl>
              <a:tblPr/>
              <a:tblGrid>
                <a:gridCol w="2592360"/>
                <a:gridCol w="1728720"/>
                <a:gridCol w="1673280"/>
                <a:gridCol w="199872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st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os. term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ll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6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6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4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62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n-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31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85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81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6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5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155-1E6D-48CC-AC07-41E90B3799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7093080" y="3789360"/>
            <a:ext cx="934920" cy="1655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7093080" y="2357280"/>
            <a:ext cx="934920" cy="12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395280" y="56926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In terms of number of positive terms in the reviews, the difference is even lar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直接箭头连接符 3"/>
          <p:cNvCxnSpPr/>
          <p:nvPr/>
        </p:nvCxnSpPr>
        <p:spPr>
          <a:xfrm flipV="1">
            <a:off x="6372360" y="3572640"/>
            <a:ext cx="721440" cy="2148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直接箭头连接符 12"/>
          <p:cNvCxnSpPr/>
          <p:nvPr/>
        </p:nvCxnSpPr>
        <p:spPr>
          <a:xfrm flipV="1">
            <a:off x="6372360" y="5083920"/>
            <a:ext cx="721440" cy="60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11280" y="1557360"/>
          <a:ext cx="7993080" cy="3868560"/>
        </p:xfrm>
        <a:graphic>
          <a:graphicData uri="http://schemas.openxmlformats.org/drawingml/2006/table">
            <a:tbl>
              <a:tblPr/>
              <a:tblGrid>
                <a:gridCol w="2592360"/>
                <a:gridCol w="1728720"/>
                <a:gridCol w="1673280"/>
                <a:gridCol w="199872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views cnt. (st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pos. terms cnt.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All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6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6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4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62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on-Relevant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4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31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99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85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F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81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6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NR_NO_CF (Top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1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20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ckwell"/>
                          <a:ea typeface="宋体"/>
                        </a:rPr>
                        <a:t>75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51A8-8918-42BD-B8B7-FC55075065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95280" y="56926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  <a:ea typeface="宋体"/>
              </a:rPr>
              <a:t>Our method favors venues with more reviews and positive review ter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340000" y="1989000"/>
            <a:ext cx="468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Rockwell"/>
              </a:rPr>
              <a:t>Questions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8591-9850-4F6B-8285-7062E56EC8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15C7-F483-454E-A74A-56D196E048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omplex Context Fil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324000" y="2241720"/>
            <a:ext cx="8424720" cy="2700000"/>
          </a:xfrm>
          <a:prstGeom prst="rect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25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dc311.4shared.com/img/YoGvGmEx/s7/13c3f855ff8/key_1_.png"/>
          <p:cNvPicPr/>
          <p:nvPr/>
        </p:nvPicPr>
        <p:blipFill>
          <a:blip r:embed="rId1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 2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http://www.talkinbusiness.net/cms/wp-content/uploads/2013/04/rankings.jpg"/>
          <p:cNvPicPr/>
          <p:nvPr/>
        </p:nvPicPr>
        <p:blipFill>
          <a:blip r:embed="rId2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75" name="曲线连接符 29"/>
          <p:cNvCxnSpPr>
            <a:stCxn id="71" idx="2"/>
            <a:endCxn id="73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sp>
        <p:nvSpPr>
          <p:cNvPr id="76" name="TextBox 2"/>
          <p:cNvSpPr/>
          <p:nvPr/>
        </p:nvSpPr>
        <p:spPr>
          <a:xfrm>
            <a:off x="6012000" y="11556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Similar with Last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6"/>
          <p:cNvSpPr/>
          <p:nvPr/>
        </p:nvSpPr>
        <p:spPr>
          <a:xfrm>
            <a:off x="276120" y="957240"/>
            <a:ext cx="5303880" cy="119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7"/>
          <p:cNvSpPr/>
          <p:nvPr/>
        </p:nvSpPr>
        <p:spPr>
          <a:xfrm>
            <a:off x="3009960" y="5207040"/>
            <a:ext cx="5954760" cy="119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blogging4jobs.com/wp-content/uploads/2012/10/Search_World-300x264.jpg"/>
          <p:cNvPicPr/>
          <p:nvPr/>
        </p:nvPicPr>
        <p:blipFill>
          <a:blip r:embed="rId3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  <p:cxnSp>
        <p:nvCxnSpPr>
          <p:cNvPr id="81" name="直接箭头连接符 5"/>
          <p:cNvCxnSpPr/>
          <p:nvPr/>
        </p:nvCxnSpPr>
        <p:spPr>
          <a:xfrm flipV="1">
            <a:off x="755280" y="2154960"/>
            <a:ext cx="432360" cy="3290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TextBox 6"/>
          <p:cNvSpPr/>
          <p:nvPr/>
        </p:nvSpPr>
        <p:spPr>
          <a:xfrm>
            <a:off x="276120" y="545004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Rockwel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直接箭头连接符 23"/>
          <p:cNvCxnSpPr>
            <a:endCxn id="78" idx="1"/>
          </p:cNvCxnSpPr>
          <p:nvPr/>
        </p:nvCxnSpPr>
        <p:spPr>
          <a:xfrm>
            <a:off x="1339560" y="5680080"/>
            <a:ext cx="1670760" cy="12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直接箭头连接符 30"/>
          <p:cNvCxnSpPr>
            <a:stCxn id="76" idx="2"/>
          </p:cNvCxnSpPr>
          <p:nvPr/>
        </p:nvCxnSpPr>
        <p:spPr>
          <a:xfrm flipH="1">
            <a:off x="7235280" y="1555560"/>
            <a:ext cx="3243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曲线连接符 32"/>
          <p:cNvCxnSpPr/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86" name="曲线连接符 33"/>
          <p:cNvCxnSpPr/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302F-0974-416B-A4A0-FF8B08E7B6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曲线连接符 12"/>
          <p:cNvCxnSpPr>
            <a:stCxn id="89" idx="2"/>
            <a:endCxn id="91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93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omplex Context Fil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97" name="曲线连接符 20"/>
          <p:cNvCxnSpPr>
            <a:stCxn id="91" idx="2"/>
            <a:endCxn id="94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98" name="曲线连接符 24"/>
          <p:cNvCxnSpPr>
            <a:stCxn id="94" idx="2"/>
            <a:endCxn id="95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99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Data Craw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D78-7592-45C8-AAC1-BF9BF5928E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324000" y="981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Best Effort (may have erroneous candida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116000" y="17384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Candidate Nam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e.g. TeaV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加号 3"/>
          <p:cNvSpPr/>
          <p:nvPr/>
        </p:nvSpPr>
        <p:spPr>
          <a:xfrm>
            <a:off x="3995640" y="1793880"/>
            <a:ext cx="519120" cy="533520"/>
          </a:xfrm>
          <a:custGeom>
            <a:avLst/>
            <a:gdLst/>
            <a:ahLst/>
            <a:rect l="l" t="t" r="r" b="b"/>
            <a:pathLst>
              <a:path w="519112" h="533400">
                <a:moveTo>
                  <a:pt x="68808" y="205652"/>
                </a:moveTo>
                <a:lnTo>
                  <a:pt x="198508" y="205652"/>
                </a:lnTo>
                <a:lnTo>
                  <a:pt x="198508" y="70702"/>
                </a:lnTo>
                <a:lnTo>
                  <a:pt x="320604" y="70702"/>
                </a:lnTo>
                <a:lnTo>
                  <a:pt x="320604" y="205652"/>
                </a:lnTo>
                <a:lnTo>
                  <a:pt x="450304" y="205652"/>
                </a:lnTo>
                <a:lnTo>
                  <a:pt x="450304" y="327748"/>
                </a:lnTo>
                <a:lnTo>
                  <a:pt x="320604" y="327748"/>
                </a:lnTo>
                <a:lnTo>
                  <a:pt x="320604" y="462698"/>
                </a:lnTo>
                <a:lnTo>
                  <a:pt x="198508" y="462698"/>
                </a:lnTo>
                <a:lnTo>
                  <a:pt x="198508" y="327748"/>
                </a:lnTo>
                <a:lnTo>
                  <a:pt x="68808" y="327748"/>
                </a:lnTo>
                <a:lnTo>
                  <a:pt x="68808" y="20565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4788000" y="1738440"/>
            <a:ext cx="33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Location (city+stat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  <a:ea typeface="宋体"/>
              </a:rPr>
              <a:t>e.g.  Los Angels, 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直接箭头连接符 8"/>
          <p:cNvCxnSpPr>
            <a:stCxn id="104" idx="2"/>
          </p:cNvCxnSpPr>
          <p:nvPr/>
        </p:nvCxnSpPr>
        <p:spPr>
          <a:xfrm>
            <a:off x="2518920" y="2446200"/>
            <a:ext cx="631080" cy="47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直接箭头连接符 29"/>
          <p:cNvCxnSpPr>
            <a:stCxn id="106" idx="2"/>
          </p:cNvCxnSpPr>
          <p:nvPr/>
        </p:nvCxnSpPr>
        <p:spPr>
          <a:xfrm flipH="1">
            <a:off x="5866560" y="2446200"/>
            <a:ext cx="577080" cy="47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TextBox 33"/>
          <p:cNvSpPr/>
          <p:nvPr/>
        </p:nvSpPr>
        <p:spPr>
          <a:xfrm>
            <a:off x="2311560" y="292428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  <a:ea typeface="宋体"/>
              </a:rPr>
              <a:t>Commercial Search Eng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13"/>
          <p:cNvSpPr/>
          <p:nvPr/>
        </p:nvSpPr>
        <p:spPr>
          <a:xfrm>
            <a:off x="324000" y="1557360"/>
            <a:ext cx="84960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5" descr="http://static01.nyt.com/images/2009/03/03/timestopics/yelp-395.jpg"/>
          <p:cNvPicPr/>
          <p:nvPr/>
        </p:nvPicPr>
        <p:blipFill>
          <a:blip r:embed="rId1"/>
          <a:stretch/>
        </p:blipFill>
        <p:spPr>
          <a:xfrm>
            <a:off x="826920" y="4529160"/>
            <a:ext cx="1868760" cy="123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http://www.barqar.com/wp-content/uploads/2015/07/trip-advisor-logo.png"/>
          <p:cNvPicPr/>
          <p:nvPr/>
        </p:nvPicPr>
        <p:blipFill>
          <a:blip r:embed="rId2"/>
          <a:stretch/>
        </p:blipFill>
        <p:spPr>
          <a:xfrm>
            <a:off x="3651120" y="4514760"/>
            <a:ext cx="1928880" cy="1233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http://www.underconsideration.com/brandnew/archives/open_table_logo_detail.png"/>
          <p:cNvPicPr/>
          <p:nvPr/>
        </p:nvPicPr>
        <p:blipFill>
          <a:blip r:embed="rId3"/>
          <a:stretch/>
        </p:blipFill>
        <p:spPr>
          <a:xfrm>
            <a:off x="6300720" y="4508640"/>
            <a:ext cx="1992240" cy="1239840"/>
          </a:xfrm>
          <a:prstGeom prst="rect">
            <a:avLst/>
          </a:prstGeom>
          <a:ln w="0">
            <a:noFill/>
          </a:ln>
        </p:spPr>
      </p:pic>
      <p:sp>
        <p:nvSpPr>
          <p:cNvPr id="114" name="下箭头 20"/>
          <p:cNvSpPr/>
          <p:nvPr/>
        </p:nvSpPr>
        <p:spPr>
          <a:xfrm rot="2955000">
            <a:off x="2613960" y="3128040"/>
            <a:ext cx="396720" cy="15638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下箭头 46"/>
          <p:cNvSpPr/>
          <p:nvPr/>
        </p:nvSpPr>
        <p:spPr>
          <a:xfrm>
            <a:off x="4416480" y="3386160"/>
            <a:ext cx="396720" cy="11224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下箭头 47"/>
          <p:cNvSpPr/>
          <p:nvPr/>
        </p:nvSpPr>
        <p:spPr>
          <a:xfrm rot="18761400">
            <a:off x="6413400" y="3127320"/>
            <a:ext cx="396720" cy="16570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5B80-E164-4E43-9064-012A46AE4C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Data Craw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195640" y="202896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overallRating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total_review_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Business hour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Price Range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宋体"/>
              </a:rPr>
              <a:t>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MS PGothic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  <a:ea typeface="MS PGothic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右大括号 6"/>
          <p:cNvSpPr/>
          <p:nvPr/>
        </p:nvSpPr>
        <p:spPr>
          <a:xfrm rot="10800000">
            <a:off x="1692000" y="2244240"/>
            <a:ext cx="431640" cy="3024360"/>
          </a:xfrm>
          <a:custGeom>
            <a:avLst/>
            <a:gdLst>
              <a:gd name="textAreaLeft" fmla="*/ 0 w 431640"/>
              <a:gd name="textAreaRight" fmla="*/ 155880 w 431640"/>
              <a:gd name="textAreaTop" fmla="*/ 159480 h 3024360"/>
              <a:gd name="textAreaBottom" fmla="*/ 2864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1"/>
                  <a:pt x="10800" y="3642"/>
                </a:cubicBezTo>
                <a:lnTo>
                  <a:pt x="10800" y="7158"/>
                </a:lnTo>
                <a:cubicBezTo>
                  <a:pt x="10800" y="8979"/>
                  <a:pt x="16200" y="10800"/>
                  <a:pt x="21600" y="10800"/>
                </a:cubicBezTo>
                <a:cubicBezTo>
                  <a:pt x="16200" y="10800"/>
                  <a:pt x="10800" y="12621"/>
                  <a:pt x="10800" y="14442"/>
                </a:cubicBezTo>
                <a:lnTo>
                  <a:pt x="10800" y="17958"/>
                </a:lnTo>
                <a:cubicBezTo>
                  <a:pt x="10800" y="1977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263920" y="1125360"/>
            <a:ext cx="3887640" cy="10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Total :  1,235,8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Crawled: 161,9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ockwell"/>
              </a:rPr>
              <a:t>The Road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2F8-01B3-42A8-8E4E-006602528D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4"/>
          <p:cNvSpPr/>
          <p:nvPr/>
        </p:nvSpPr>
        <p:spPr>
          <a:xfrm>
            <a:off x="468360" y="1197000"/>
            <a:ext cx="4032360" cy="7192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Data Craw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blogging4jobs.com/wp-content/uploads/2012/10/Search_World-300x264.jpg"/>
          <p:cNvPicPr/>
          <p:nvPr/>
        </p:nvPicPr>
        <p:blipFill>
          <a:blip r:embed="rId1"/>
          <a:stretch/>
        </p:blipFill>
        <p:spPr>
          <a:xfrm>
            <a:off x="4618080" y="1197000"/>
            <a:ext cx="81756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圆角矩形 11"/>
          <p:cNvSpPr/>
          <p:nvPr/>
        </p:nvSpPr>
        <p:spPr>
          <a:xfrm>
            <a:off x="4500720" y="2565360"/>
            <a:ext cx="4032000" cy="719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Profile Modeling</a:t>
            </a:r>
            <a:r>
              <a:rPr b="1" lang="en-US" sz="2400" spc="-1" strike="noStrike" baseline="30000">
                <a:solidFill>
                  <a:srgbClr val="eeece1"/>
                </a:solidFill>
                <a:latin typeface="Lucida Console"/>
                <a:ea typeface="宋体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曲线连接符 12"/>
          <p:cNvCxnSpPr>
            <a:stCxn id="124" idx="2"/>
            <a:endCxn id="126" idx="0"/>
          </p:cNvCxnSpPr>
          <p:nvPr/>
        </p:nvCxnSpPr>
        <p:spPr>
          <a:xfrm flipH="1" rot="16200000">
            <a:off x="4174920" y="224280"/>
            <a:ext cx="649800" cy="4033080"/>
          </a:xfrm>
          <a:prstGeom prst="curvedConnector5">
            <a:avLst>
              <a:gd name="adj1" fmla="val 31042"/>
              <a:gd name="adj2" fmla="val 50000"/>
              <a:gd name="adj3" fmla="val 31042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pic>
        <p:nvPicPr>
          <p:cNvPr id="128" name="Picture 4" descr="http://dc311.4shared.com/img/YoGvGmEx/s7/13c3f855ff8/key_1_.png"/>
          <p:cNvPicPr/>
          <p:nvPr/>
        </p:nvPicPr>
        <p:blipFill>
          <a:blip r:embed="rId2"/>
          <a:stretch/>
        </p:blipFill>
        <p:spPr>
          <a:xfrm>
            <a:off x="3780000" y="2637000"/>
            <a:ext cx="669600" cy="66960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 17"/>
          <p:cNvSpPr/>
          <p:nvPr/>
        </p:nvSpPr>
        <p:spPr>
          <a:xfrm>
            <a:off x="468360" y="4005360"/>
            <a:ext cx="4032360" cy="7189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andidate Suggestion Ran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圆角矩形 18"/>
          <p:cNvSpPr/>
          <p:nvPr/>
        </p:nvSpPr>
        <p:spPr>
          <a:xfrm>
            <a:off x="4500720" y="5445000"/>
            <a:ext cx="4032000" cy="72072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Lucida Console"/>
                <a:ea typeface="宋体"/>
              </a:rPr>
              <a:t>Complex Context Fil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://www.talkinbusiness.net/cms/wp-content/uploads/2013/04/rankings.jpg"/>
          <p:cNvPicPr/>
          <p:nvPr/>
        </p:nvPicPr>
        <p:blipFill>
          <a:blip r:embed="rId3"/>
          <a:stretch/>
        </p:blipFill>
        <p:spPr>
          <a:xfrm>
            <a:off x="4572000" y="4005360"/>
            <a:ext cx="1800360" cy="718920"/>
          </a:xfrm>
          <a:prstGeom prst="rect">
            <a:avLst/>
          </a:prstGeom>
          <a:ln w="0">
            <a:noFill/>
          </a:ln>
        </p:spPr>
      </p:pic>
      <p:cxnSp>
        <p:nvCxnSpPr>
          <p:cNvPr id="132" name="曲线连接符 20"/>
          <p:cNvCxnSpPr>
            <a:stCxn id="126" idx="2"/>
            <a:endCxn id="129" idx="0"/>
          </p:cNvCxnSpPr>
          <p:nvPr/>
        </p:nvCxnSpPr>
        <p:spPr>
          <a:xfrm rot="5400000">
            <a:off x="4139280" y="162864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cxnSp>
        <p:nvCxnSpPr>
          <p:cNvPr id="133" name="曲线连接符 24"/>
          <p:cNvCxnSpPr>
            <a:stCxn id="129" idx="2"/>
            <a:endCxn id="130" idx="0"/>
          </p:cNvCxnSpPr>
          <p:nvPr/>
        </p:nvCxnSpPr>
        <p:spPr>
          <a:xfrm flipH="1" rot="16200000">
            <a:off x="4139280" y="3068280"/>
            <a:ext cx="721440" cy="403308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76320">
            <a:solidFill>
              <a:srgbClr val="bfbfbf"/>
            </a:solidFill>
            <a:prstDash val="sysDash"/>
            <a:miter/>
            <a:tailEnd len="med" type="triangle" w="med"/>
          </a:ln>
        </p:spPr>
      </p:cxnSp>
      <p:sp>
        <p:nvSpPr>
          <p:cNvPr id="134" name="矩形 1"/>
          <p:cNvSpPr/>
          <p:nvPr/>
        </p:nvSpPr>
        <p:spPr>
          <a:xfrm>
            <a:off x="108000" y="614664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] P. Yang and H. Fang. Opinion-based user profile modeling for contextual suggestions. In Proceedings of the 2013 Conference on the Theory of Information Retrieval, ICTIR’13, pages 18:80–18:83, New York, NY, USA, 2013. AC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6" descr="http://www.burgesscomputer.com/wordpress/wp-content/uploads/2015/04/web-filtering.png"/>
          <p:cNvPicPr/>
          <p:nvPr/>
        </p:nvPicPr>
        <p:blipFill>
          <a:blip r:embed="rId4"/>
          <a:stretch/>
        </p:blipFill>
        <p:spPr>
          <a:xfrm>
            <a:off x="3203640" y="5450040"/>
            <a:ext cx="12222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A021-25ED-4824-B49F-7598A22CF2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Ins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46836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  <a:ea typeface="宋体"/>
              </a:rPr>
              <a:t>No single factor can capture the real reas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6"/>
          <p:cNvSpPr/>
          <p:nvPr/>
        </p:nvSpPr>
        <p:spPr>
          <a:xfrm>
            <a:off x="3492360" y="2349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Enrich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1"/>
          <p:cNvSpPr/>
          <p:nvPr/>
        </p:nvSpPr>
        <p:spPr>
          <a:xfrm>
            <a:off x="1835280" y="3303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Explore the opin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2"/>
          <p:cNvSpPr/>
          <p:nvPr/>
        </p:nvSpPr>
        <p:spPr>
          <a:xfrm>
            <a:off x="539640" y="42339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Rockwell"/>
                <a:ea typeface="宋体"/>
              </a:rPr>
              <a:t>Leverage the wisdom of crow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301-816D-45A6-8BFD-8BAF377FBD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Profile Modeling - U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avatar, hostes, user, woman icon"/>
          <p:cNvPicPr/>
          <p:nvPr/>
        </p:nvPicPr>
        <p:blipFill>
          <a:blip r:embed="rId1"/>
          <a:stretch/>
        </p:blipFill>
        <p:spPr>
          <a:xfrm>
            <a:off x="4572000" y="89388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vatar, ninja, user, warrior icon"/>
          <p:cNvPicPr/>
          <p:nvPr/>
        </p:nvPicPr>
        <p:blipFill>
          <a:blip r:embed="rId2"/>
          <a:stretch/>
        </p:blipFill>
        <p:spPr>
          <a:xfrm>
            <a:off x="4173480" y="5103720"/>
            <a:ext cx="469800" cy="4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vatar, girl, nerd, user, woman icon"/>
          <p:cNvPicPr/>
          <p:nvPr/>
        </p:nvPicPr>
        <p:blipFill>
          <a:blip r:embed="rId3"/>
          <a:stretch/>
        </p:blipFill>
        <p:spPr>
          <a:xfrm>
            <a:off x="4178160" y="4292640"/>
            <a:ext cx="48132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avatar, circus, man, user, wizard icon"/>
          <p:cNvPicPr/>
          <p:nvPr/>
        </p:nvPicPr>
        <p:blipFill>
          <a:blip r:embed="rId4"/>
          <a:stretch/>
        </p:blipFill>
        <p:spPr>
          <a:xfrm>
            <a:off x="4173480" y="5878440"/>
            <a:ext cx="490680" cy="50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avatar, genius, it, man, user icon"/>
          <p:cNvPicPr/>
          <p:nvPr/>
        </p:nvPicPr>
        <p:blipFill>
          <a:blip r:embed="rId5"/>
          <a:stretch/>
        </p:blipFill>
        <p:spPr>
          <a:xfrm>
            <a:off x="4572000" y="1747800"/>
            <a:ext cx="438120" cy="455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s://cdn4.iconfinder.com/data/icons/user-avatar-flat-icons/512/User_Avatar-44-512.png"/>
          <p:cNvPicPr/>
          <p:nvPr/>
        </p:nvPicPr>
        <p:blipFill>
          <a:blip r:embed="rId6"/>
          <a:stretch/>
        </p:blipFill>
        <p:spPr>
          <a:xfrm>
            <a:off x="250920" y="307008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0" name="左大括号 1"/>
          <p:cNvSpPr/>
          <p:nvPr/>
        </p:nvSpPr>
        <p:spPr>
          <a:xfrm>
            <a:off x="1258920" y="1052640"/>
            <a:ext cx="409680" cy="4897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78560 h 4897440"/>
              <a:gd name="textAreaBottom" fmla="*/ 471888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9"/>
                  <a:pt x="10800" y="2517"/>
                </a:cubicBezTo>
                <a:lnTo>
                  <a:pt x="10800" y="8283"/>
                </a:lnTo>
                <a:cubicBezTo>
                  <a:pt x="10800" y="9542"/>
                  <a:pt x="5400" y="10800"/>
                  <a:pt x="0" y="10800"/>
                </a:cubicBezTo>
                <a:cubicBezTo>
                  <a:pt x="5400" y="10800"/>
                  <a:pt x="10800" y="12059"/>
                  <a:pt x="10800" y="13317"/>
                </a:cubicBezTo>
                <a:lnTo>
                  <a:pt x="10800" y="19083"/>
                </a:lnTo>
                <a:cubicBezTo>
                  <a:pt x="10800" y="203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1763640" y="10843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Ruxb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五角星 3"/>
          <p:cNvSpPr/>
          <p:nvPr/>
        </p:nvSpPr>
        <p:spPr>
          <a:xfrm>
            <a:off x="2843280" y="11253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五角星 12"/>
          <p:cNvSpPr/>
          <p:nvPr/>
        </p:nvSpPr>
        <p:spPr>
          <a:xfrm>
            <a:off x="3203640" y="112536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五角星 13"/>
          <p:cNvSpPr/>
          <p:nvPr/>
        </p:nvSpPr>
        <p:spPr>
          <a:xfrm>
            <a:off x="3564000" y="1125360"/>
            <a:ext cx="360360" cy="343080"/>
          </a:xfrm>
          <a:custGeom>
            <a:avLst/>
            <a:gdLst/>
            <a:ahLst/>
            <a:rect l="l" t="t" r="r" b="b"/>
            <a:pathLst>
              <a:path w="360362" h="342900">
                <a:moveTo>
                  <a:pt x="0" y="130976"/>
                </a:moveTo>
                <a:lnTo>
                  <a:pt x="137647" y="130977"/>
                </a:lnTo>
                <a:lnTo>
                  <a:pt x="180181" y="0"/>
                </a:lnTo>
                <a:lnTo>
                  <a:pt x="222715" y="130977"/>
                </a:lnTo>
                <a:lnTo>
                  <a:pt x="360362" y="130976"/>
                </a:lnTo>
                <a:lnTo>
                  <a:pt x="249003" y="211923"/>
                </a:lnTo>
                <a:lnTo>
                  <a:pt x="291539" y="342899"/>
                </a:lnTo>
                <a:lnTo>
                  <a:pt x="180181" y="261950"/>
                </a:lnTo>
                <a:lnTo>
                  <a:pt x="68823" y="342899"/>
                </a:lnTo>
                <a:lnTo>
                  <a:pt x="111359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五角星 14"/>
          <p:cNvSpPr/>
          <p:nvPr/>
        </p:nvSpPr>
        <p:spPr>
          <a:xfrm>
            <a:off x="3924360" y="1125360"/>
            <a:ext cx="360360" cy="343080"/>
          </a:xfrm>
          <a:custGeom>
            <a:avLst/>
            <a:gdLst/>
            <a:ahLst/>
            <a:rect l="l" t="t" r="r" b="b"/>
            <a:pathLst>
              <a:path w="360363" h="342900">
                <a:moveTo>
                  <a:pt x="0" y="130976"/>
                </a:moveTo>
                <a:lnTo>
                  <a:pt x="137647" y="130977"/>
                </a:lnTo>
                <a:lnTo>
                  <a:pt x="180182" y="0"/>
                </a:lnTo>
                <a:lnTo>
                  <a:pt x="222716" y="130977"/>
                </a:lnTo>
                <a:lnTo>
                  <a:pt x="360363" y="130976"/>
                </a:lnTo>
                <a:lnTo>
                  <a:pt x="249003" y="211923"/>
                </a:lnTo>
                <a:lnTo>
                  <a:pt x="291540" y="342899"/>
                </a:lnTo>
                <a:lnTo>
                  <a:pt x="180182" y="261950"/>
                </a:lnTo>
                <a:lnTo>
                  <a:pt x="68823" y="342899"/>
                </a:lnTo>
                <a:lnTo>
                  <a:pt x="111360" y="211923"/>
                </a:lnTo>
                <a:lnTo>
                  <a:pt x="0" y="130976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652760" y="5229360"/>
            <a:ext cx="173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宋体"/>
              </a:rPr>
              <a:t>Museum of Science &amp;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角星 18"/>
          <p:cNvSpPr/>
          <p:nvPr/>
        </p:nvSpPr>
        <p:spPr>
          <a:xfrm>
            <a:off x="3419640" y="558972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45384" y="142287"/>
                </a:lnTo>
                <a:lnTo>
                  <a:pt x="180182" y="0"/>
                </a:lnTo>
                <a:lnTo>
                  <a:pt x="214979" y="142287"/>
                </a:lnTo>
                <a:lnTo>
                  <a:pt x="360363" y="131582"/>
                </a:lnTo>
                <a:lnTo>
                  <a:pt x="236484" y="208815"/>
                </a:lnTo>
                <a:lnTo>
                  <a:pt x="291540" y="344486"/>
                </a:lnTo>
                <a:lnTo>
                  <a:pt x="180182" y="249932"/>
                </a:lnTo>
                <a:lnTo>
                  <a:pt x="68823" y="344486"/>
                </a:lnTo>
                <a:lnTo>
                  <a:pt x="123879" y="208815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直接箭头连接符 6"/>
          <p:cNvCxnSpPr/>
          <p:nvPr/>
        </p:nvCxnSpPr>
        <p:spPr>
          <a:xfrm flipV="1">
            <a:off x="2842920" y="1556640"/>
            <a:ext cx="1080" cy="1367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直接箭头连接符 23"/>
          <p:cNvCxnSpPr/>
          <p:nvPr/>
        </p:nvCxnSpPr>
        <p:spPr>
          <a:xfrm>
            <a:off x="2842920" y="3933360"/>
            <a:ext cx="1080" cy="1296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0" name="TextBox 11"/>
          <p:cNvSpPr/>
          <p:nvPr/>
        </p:nvSpPr>
        <p:spPr>
          <a:xfrm>
            <a:off x="1547640" y="3213000"/>
            <a:ext cx="42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Rockwell"/>
                <a:ea typeface="宋体"/>
              </a:rPr>
              <a:t>Only Ratings are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右箭头 16"/>
          <p:cNvSpPr/>
          <p:nvPr/>
        </p:nvSpPr>
        <p:spPr>
          <a:xfrm>
            <a:off x="1562040" y="3033720"/>
            <a:ext cx="4233960" cy="863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宋体"/>
              </a:rPr>
              <a:t>Find Reviews w/Similar Ra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左大括号 29"/>
          <p:cNvSpPr/>
          <p:nvPr/>
        </p:nvSpPr>
        <p:spPr>
          <a:xfrm>
            <a:off x="4367160" y="973080"/>
            <a:ext cx="103320" cy="1519200"/>
          </a:xfrm>
          <a:custGeom>
            <a:avLst/>
            <a:gdLst>
              <a:gd name="textAreaLeft" fmla="*/ 66240 w 103320"/>
              <a:gd name="textAreaRight" fmla="*/ 103680 w 103320"/>
              <a:gd name="textAreaTop" fmla="*/ 45000 h 1519200"/>
              <a:gd name="textAreaBottom" fmla="*/ 1474200 h 151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2"/>
                  <a:pt x="10800" y="2044"/>
                </a:cubicBezTo>
                <a:lnTo>
                  <a:pt x="10800" y="8756"/>
                </a:lnTo>
                <a:cubicBezTo>
                  <a:pt x="10800" y="9778"/>
                  <a:pt x="5400" y="10800"/>
                  <a:pt x="0" y="10800"/>
                </a:cubicBezTo>
                <a:cubicBezTo>
                  <a:pt x="5400" y="10800"/>
                  <a:pt x="10800" y="11822"/>
                  <a:pt x="10800" y="12844"/>
                </a:cubicBezTo>
                <a:lnTo>
                  <a:pt x="10800" y="19556"/>
                </a:lnTo>
                <a:cubicBezTo>
                  <a:pt x="10800" y="205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五角星 30"/>
          <p:cNvSpPr/>
          <p:nvPr/>
        </p:nvSpPr>
        <p:spPr>
          <a:xfrm>
            <a:off x="507672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五角星 31"/>
          <p:cNvSpPr/>
          <p:nvPr/>
        </p:nvSpPr>
        <p:spPr>
          <a:xfrm>
            <a:off x="543564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五角星 32"/>
          <p:cNvSpPr/>
          <p:nvPr/>
        </p:nvSpPr>
        <p:spPr>
          <a:xfrm>
            <a:off x="5796000" y="92376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五角星 33"/>
          <p:cNvSpPr/>
          <p:nvPr/>
        </p:nvSpPr>
        <p:spPr>
          <a:xfrm>
            <a:off x="6156360" y="923760"/>
            <a:ext cx="360360" cy="344520"/>
          </a:xfrm>
          <a:custGeom>
            <a:avLst/>
            <a:gdLst/>
            <a:ahLst/>
            <a:rect l="l" t="t" r="r" b="b"/>
            <a:pathLst>
              <a:path w="360363" h="344488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7"/>
                </a:lnTo>
                <a:lnTo>
                  <a:pt x="180182" y="263164"/>
                </a:lnTo>
                <a:lnTo>
                  <a:pt x="68823" y="344487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五角星 34"/>
          <p:cNvSpPr/>
          <p:nvPr/>
        </p:nvSpPr>
        <p:spPr>
          <a:xfrm>
            <a:off x="5076720" y="177624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五角星 35"/>
          <p:cNvSpPr/>
          <p:nvPr/>
        </p:nvSpPr>
        <p:spPr>
          <a:xfrm>
            <a:off x="5435640" y="17762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五角星 36"/>
          <p:cNvSpPr/>
          <p:nvPr/>
        </p:nvSpPr>
        <p:spPr>
          <a:xfrm>
            <a:off x="5796000" y="177624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五角星 37"/>
          <p:cNvSpPr/>
          <p:nvPr/>
        </p:nvSpPr>
        <p:spPr>
          <a:xfrm>
            <a:off x="6156360" y="1776240"/>
            <a:ext cx="360360" cy="344520"/>
          </a:xfrm>
          <a:custGeom>
            <a:avLst/>
            <a:gdLst/>
            <a:ahLst/>
            <a:rect l="l" t="t" r="r" b="b"/>
            <a:pathLst>
              <a:path w="360363" h="344487">
                <a:moveTo>
                  <a:pt x="0" y="131582"/>
                </a:moveTo>
                <a:lnTo>
                  <a:pt x="137647" y="131583"/>
                </a:lnTo>
                <a:lnTo>
                  <a:pt x="180182" y="0"/>
                </a:lnTo>
                <a:lnTo>
                  <a:pt x="222716" y="131583"/>
                </a:lnTo>
                <a:lnTo>
                  <a:pt x="360363" y="131582"/>
                </a:lnTo>
                <a:lnTo>
                  <a:pt x="249003" y="212904"/>
                </a:lnTo>
                <a:lnTo>
                  <a:pt x="291540" y="344486"/>
                </a:lnTo>
                <a:lnTo>
                  <a:pt x="180182" y="263163"/>
                </a:lnTo>
                <a:lnTo>
                  <a:pt x="68823" y="344486"/>
                </a:lnTo>
                <a:lnTo>
                  <a:pt x="111360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五角星 38"/>
          <p:cNvSpPr/>
          <p:nvPr/>
        </p:nvSpPr>
        <p:spPr>
          <a:xfrm>
            <a:off x="6516720" y="92376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4948200" y="13320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cious cuisine, prefect serv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0"/>
          <p:cNvSpPr/>
          <p:nvPr/>
        </p:nvSpPr>
        <p:spPr>
          <a:xfrm>
            <a:off x="4932360" y="212256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the food and the ambi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左大括号 41"/>
          <p:cNvSpPr/>
          <p:nvPr/>
        </p:nvSpPr>
        <p:spPr>
          <a:xfrm>
            <a:off x="3995640" y="4645080"/>
            <a:ext cx="103320" cy="1520640"/>
          </a:xfrm>
          <a:custGeom>
            <a:avLst/>
            <a:gdLst>
              <a:gd name="textAreaLeft" fmla="*/ 66240 w 103320"/>
              <a:gd name="textAreaRight" fmla="*/ 103680 w 103320"/>
              <a:gd name="textAreaTop" fmla="*/ 45000 h 1520640"/>
              <a:gd name="textAreaBottom" fmla="*/ 1475640 h 152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1"/>
                  <a:pt x="10800" y="2042"/>
                </a:cubicBezTo>
                <a:lnTo>
                  <a:pt x="10800" y="8758"/>
                </a:lnTo>
                <a:cubicBezTo>
                  <a:pt x="10800" y="9779"/>
                  <a:pt x="5400" y="10800"/>
                  <a:pt x="0" y="10800"/>
                </a:cubicBezTo>
                <a:cubicBezTo>
                  <a:pt x="5400" y="10800"/>
                  <a:pt x="10800" y="11821"/>
                  <a:pt x="10800" y="12842"/>
                </a:cubicBezTo>
                <a:lnTo>
                  <a:pt x="10800" y="19558"/>
                </a:lnTo>
                <a:cubicBezTo>
                  <a:pt x="10800" y="2057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五角星 42"/>
          <p:cNvSpPr/>
          <p:nvPr/>
        </p:nvSpPr>
        <p:spPr>
          <a:xfrm>
            <a:off x="4716360" y="4362480"/>
            <a:ext cx="360360" cy="344520"/>
          </a:xfrm>
          <a:custGeom>
            <a:avLst/>
            <a:gdLst/>
            <a:ahLst/>
            <a:rect l="l" t="t" r="r" b="b"/>
            <a:pathLst>
              <a:path w="360362" h="344488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7"/>
                </a:lnTo>
                <a:lnTo>
                  <a:pt x="180181" y="263164"/>
                </a:lnTo>
                <a:lnTo>
                  <a:pt x="68823" y="344487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五角星 43"/>
          <p:cNvSpPr/>
          <p:nvPr/>
        </p:nvSpPr>
        <p:spPr>
          <a:xfrm>
            <a:off x="5076720" y="4362480"/>
            <a:ext cx="358920" cy="344520"/>
          </a:xfrm>
          <a:custGeom>
            <a:avLst/>
            <a:gdLst/>
            <a:ahLst/>
            <a:rect l="l" t="t" r="r" b="b"/>
            <a:pathLst>
              <a:path w="358775" h="344488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7"/>
                </a:lnTo>
                <a:lnTo>
                  <a:pt x="179388" y="263164"/>
                </a:lnTo>
                <a:lnTo>
                  <a:pt x="68520" y="344487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五角星 44"/>
          <p:cNvSpPr/>
          <p:nvPr/>
        </p:nvSpPr>
        <p:spPr>
          <a:xfrm>
            <a:off x="4716360" y="514836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五角星 46"/>
          <p:cNvSpPr/>
          <p:nvPr/>
        </p:nvSpPr>
        <p:spPr>
          <a:xfrm>
            <a:off x="4716360" y="5894280"/>
            <a:ext cx="360360" cy="344520"/>
          </a:xfrm>
          <a:custGeom>
            <a:avLst/>
            <a:gdLst/>
            <a:ahLst/>
            <a:rect l="l" t="t" r="r" b="b"/>
            <a:pathLst>
              <a:path w="360362" h="344487">
                <a:moveTo>
                  <a:pt x="0" y="131582"/>
                </a:moveTo>
                <a:lnTo>
                  <a:pt x="137647" y="131583"/>
                </a:lnTo>
                <a:lnTo>
                  <a:pt x="180181" y="0"/>
                </a:lnTo>
                <a:lnTo>
                  <a:pt x="222715" y="131583"/>
                </a:lnTo>
                <a:lnTo>
                  <a:pt x="360362" y="131582"/>
                </a:lnTo>
                <a:lnTo>
                  <a:pt x="249003" y="212904"/>
                </a:lnTo>
                <a:lnTo>
                  <a:pt x="291539" y="344486"/>
                </a:lnTo>
                <a:lnTo>
                  <a:pt x="180181" y="263163"/>
                </a:lnTo>
                <a:lnTo>
                  <a:pt x="68823" y="344486"/>
                </a:lnTo>
                <a:lnTo>
                  <a:pt x="11135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五角星 47"/>
          <p:cNvSpPr/>
          <p:nvPr/>
        </p:nvSpPr>
        <p:spPr>
          <a:xfrm>
            <a:off x="5076720" y="5894280"/>
            <a:ext cx="358920" cy="344520"/>
          </a:xfrm>
          <a:custGeom>
            <a:avLst/>
            <a:gdLst/>
            <a:ahLst/>
            <a:rect l="l" t="t" r="r" b="b"/>
            <a:pathLst>
              <a:path w="358775" h="344487">
                <a:moveTo>
                  <a:pt x="0" y="131582"/>
                </a:moveTo>
                <a:lnTo>
                  <a:pt x="137041" y="131583"/>
                </a:lnTo>
                <a:lnTo>
                  <a:pt x="179388" y="0"/>
                </a:lnTo>
                <a:lnTo>
                  <a:pt x="221734" y="131583"/>
                </a:lnTo>
                <a:lnTo>
                  <a:pt x="358775" y="131582"/>
                </a:lnTo>
                <a:lnTo>
                  <a:pt x="247906" y="212904"/>
                </a:lnTo>
                <a:lnTo>
                  <a:pt x="290255" y="344486"/>
                </a:lnTo>
                <a:lnTo>
                  <a:pt x="179388" y="263163"/>
                </a:lnTo>
                <a:lnTo>
                  <a:pt x="68520" y="344486"/>
                </a:lnTo>
                <a:lnTo>
                  <a:pt x="110869" y="212904"/>
                </a:lnTo>
                <a:lnTo>
                  <a:pt x="0" y="13158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48"/>
          <p:cNvSpPr/>
          <p:nvPr/>
        </p:nvSpPr>
        <p:spPr>
          <a:xfrm>
            <a:off x="4572000" y="47070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teres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49"/>
          <p:cNvSpPr/>
          <p:nvPr/>
        </p:nvSpPr>
        <p:spPr>
          <a:xfrm>
            <a:off x="4587840" y="544500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nothing spe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0"/>
          <p:cNvSpPr/>
          <p:nvPr/>
        </p:nvSpPr>
        <p:spPr>
          <a:xfrm>
            <a:off x="4572000" y="6227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have more transportation supp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24"/>
          <p:cNvSpPr/>
          <p:nvPr/>
        </p:nvSpPr>
        <p:spPr>
          <a:xfrm>
            <a:off x="5019840" y="1747800"/>
            <a:ext cx="30812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53"/>
          <p:cNvSpPr/>
          <p:nvPr/>
        </p:nvSpPr>
        <p:spPr>
          <a:xfrm>
            <a:off x="5003640" y="2468520"/>
            <a:ext cx="308160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54"/>
          <p:cNvSpPr/>
          <p:nvPr/>
        </p:nvSpPr>
        <p:spPr>
          <a:xfrm flipV="1">
            <a:off x="4643280" y="5057280"/>
            <a:ext cx="1513080" cy="972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56"/>
          <p:cNvSpPr/>
          <p:nvPr/>
        </p:nvSpPr>
        <p:spPr>
          <a:xfrm>
            <a:off x="4643280" y="5805360"/>
            <a:ext cx="206064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58"/>
          <p:cNvSpPr/>
          <p:nvPr/>
        </p:nvSpPr>
        <p:spPr>
          <a:xfrm>
            <a:off x="4664160" y="6597720"/>
            <a:ext cx="430056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直接箭头连接符 39"/>
          <p:cNvCxnSpPr/>
          <p:nvPr/>
        </p:nvCxnSpPr>
        <p:spPr>
          <a:xfrm flipH="1" flipV="1">
            <a:off x="7019640" y="2564640"/>
            <a:ext cx="289440" cy="359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89" name="直接箭头连接符 63"/>
          <p:cNvCxnSpPr/>
          <p:nvPr/>
        </p:nvCxnSpPr>
        <p:spPr>
          <a:xfrm flipH="1" flipV="1">
            <a:off x="7470360" y="1775880"/>
            <a:ext cx="180000" cy="11916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90" name="TextBox 59"/>
          <p:cNvSpPr/>
          <p:nvPr/>
        </p:nvSpPr>
        <p:spPr>
          <a:xfrm>
            <a:off x="5796000" y="2852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Rockwell"/>
                <a:ea typeface="宋体"/>
              </a:rPr>
              <a:t>Positive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8"/>
          <p:cNvSpPr/>
          <p:nvPr/>
        </p:nvSpPr>
        <p:spPr>
          <a:xfrm>
            <a:off x="5796000" y="36147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Rockwell"/>
              </a:rPr>
              <a:t>Negative 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直接箭头连接符 69"/>
          <p:cNvCxnSpPr/>
          <p:nvPr/>
        </p:nvCxnSpPr>
        <p:spPr>
          <a:xfrm flipH="1">
            <a:off x="6155640" y="4176360"/>
            <a:ext cx="359640" cy="69300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93" name="直接箭头连接符 71"/>
          <p:cNvCxnSpPr>
            <a:endCxn id="181" idx="0"/>
          </p:cNvCxnSpPr>
          <p:nvPr/>
        </p:nvCxnSpPr>
        <p:spPr>
          <a:xfrm flipH="1">
            <a:off x="6345360" y="4176360"/>
            <a:ext cx="358920" cy="126900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194" name="直接箭头连接符 74"/>
          <p:cNvCxnSpPr>
            <a:endCxn id="182" idx="0"/>
          </p:cNvCxnSpPr>
          <p:nvPr/>
        </p:nvCxnSpPr>
        <p:spPr>
          <a:xfrm flipH="1">
            <a:off x="6948000" y="4247640"/>
            <a:ext cx="216720" cy="19803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41Z</dcterms:created>
  <dc:creator>ypeilin</dc:creator>
  <dc:description/>
  <dc:language>en-US</dc:language>
  <cp:lastModifiedBy>ypeilin</cp:lastModifiedBy>
  <dcterms:modified xsi:type="dcterms:W3CDTF">2015-11-06T16:25:27Z</dcterms:modified>
  <cp:revision>847</cp:revision>
  <dc:subject/>
  <dc:title>Opinion-based User Profile Modeling for Contextual Suggestions</dc:title>
</cp:coreProperties>
</file>