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39.png" ContentType="image/png"/>
  <Override PartName="/ppt/media/image9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2D1-D62F-4402-AD14-0961E015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94D-6010-4DAE-9F51-EE8686AE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3D8-46BF-4E8C-A94A-F899015F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9E0-B089-4D27-BFA6-B5C0AE41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5B4-B1CF-44EC-93B5-B3611EB3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817-466D-431F-AF99-DFDA8DF5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017-B848-4433-B1DC-58EF1CB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893-C77D-44B2-8603-8393A2CB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8EF-EC38-41EC-A81C-53B13F43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689-FBF3-4D48-9903-5ECA103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021-F0CA-480F-95A6-6DAFE1E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924-A55C-47CC-B397-249CA1C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4A62-BBBF-4232-9DC1-BF70A4794F0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59FA-32A2-4399-B410-F82B8D0D47F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1.png"/><Relationship Id="rId24" Type="http://schemas.openxmlformats.org/officeDocument/2006/relationships/image" Target="../media/image23.png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2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33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1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4.png"/><Relationship Id="rId6" Type="http://schemas.openxmlformats.org/officeDocument/2006/relationships/image" Target="../media/image32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35.png"/><Relationship Id="rId10" Type="http://schemas.openxmlformats.org/officeDocument/2006/relationships/image" Target="../media/image33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35.png"/><Relationship Id="rId18" Type="http://schemas.openxmlformats.org/officeDocument/2006/relationships/image" Target="../media/image31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38.png"/><Relationship Id="rId10" Type="http://schemas.openxmlformats.org/officeDocument/2006/relationships/image" Target="../media/image33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35.png"/><Relationship Id="rId17" Type="http://schemas.openxmlformats.org/officeDocument/2006/relationships/image" Target="../media/image31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38.png"/><Relationship Id="rId10" Type="http://schemas.openxmlformats.org/officeDocument/2006/relationships/image" Target="../media/image33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35.png"/><Relationship Id="rId17" Type="http://schemas.openxmlformats.org/officeDocument/2006/relationships/image" Target="../media/image33.png"/><Relationship Id="rId18" Type="http://schemas.openxmlformats.org/officeDocument/2006/relationships/image" Target="../media/image31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38.png"/><Relationship Id="rId10" Type="http://schemas.openxmlformats.org/officeDocument/2006/relationships/image" Target="../media/image41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35.png"/><Relationship Id="rId16" Type="http://schemas.openxmlformats.org/officeDocument/2006/relationships/image" Target="../media/image33.png"/><Relationship Id="rId17" Type="http://schemas.openxmlformats.org/officeDocument/2006/relationships/image" Target="../media/image31.png"/><Relationship Id="rId18" Type="http://schemas.openxmlformats.org/officeDocument/2006/relationships/image" Target="../media/image23.pn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38.png"/><Relationship Id="rId10" Type="http://schemas.openxmlformats.org/officeDocument/2006/relationships/image" Target="../media/image41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35.png"/><Relationship Id="rId16" Type="http://schemas.openxmlformats.org/officeDocument/2006/relationships/image" Target="../media/image33.png"/><Relationship Id="rId17" Type="http://schemas.openxmlformats.org/officeDocument/2006/relationships/image" Target="../media/image38.png"/><Relationship Id="rId18" Type="http://schemas.openxmlformats.org/officeDocument/2006/relationships/image" Target="../media/image31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5.png"/><Relationship Id="rId8" Type="http://schemas.openxmlformats.org/officeDocument/2006/relationships/image" Target="../media/image33.png"/><Relationship Id="rId9" Type="http://schemas.openxmlformats.org/officeDocument/2006/relationships/image" Target="../media/image38.png"/><Relationship Id="rId10" Type="http://schemas.openxmlformats.org/officeDocument/2006/relationships/image" Target="../media/image31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17.png"/><Relationship Id="rId14" Type="http://schemas.openxmlformats.org/officeDocument/2006/relationships/image" Target="../media/image16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17.png"/><Relationship Id="rId12" Type="http://schemas.openxmlformats.org/officeDocument/2006/relationships/image" Target="../media/image16.png"/><Relationship Id="rId13" Type="http://schemas.openxmlformats.org/officeDocument/2006/relationships/image" Target="../media/image20.jpe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18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64216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"/>
              </a:rPr>
              <a:t>An Opinion-aware Approach to </a:t>
            </a:r>
            <a:br>
              <a:rPr sz="4000"/>
            </a:br>
            <a:r>
              <a:rPr b="1" lang="en-US" sz="4000" spc="-1" strike="noStrike">
                <a:solidFill>
                  <a:srgbClr val="000090"/>
                </a:solidFill>
                <a:latin typeface="Calibri"/>
              </a:rPr>
              <a:t>Contextual Suggestion</a:t>
            </a:r>
            <a:br>
              <a:rPr sz="4000"/>
            </a:br>
            <a:br>
              <a:rPr sz="2800"/>
            </a:br>
            <a:r>
              <a:rPr b="1" i="1" lang="en-US" sz="2600" spc="-1" strike="noStrike">
                <a:solidFill>
                  <a:srgbClr val="7f7f7f"/>
                </a:solidFill>
                <a:latin typeface="Arial"/>
                <a:ea typeface="Arial"/>
              </a:rPr>
              <a:t>TREC 2013 Contextual Suggestion Track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ilin Yang and Hui F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Dela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24" descr="https://www.udel.edu/lock-down/ocm-graphics/internal/InterlockingUD1C.jpg"/>
          <p:cNvPicPr/>
          <p:nvPr/>
        </p:nvPicPr>
        <p:blipFill>
          <a:blip r:embed="rId1"/>
          <a:stretch/>
        </p:blipFill>
        <p:spPr>
          <a:xfrm>
            <a:off x="6931080" y="6137280"/>
            <a:ext cx="496800" cy="64764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5C02-A9DC-49CA-AE86-FB65BE65D1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infolab-logo.png"/>
          <p:cNvPicPr/>
          <p:nvPr/>
        </p:nvPicPr>
        <p:blipFill>
          <a:blip r:embed="rId2"/>
          <a:stretch/>
        </p:blipFill>
        <p:spPr>
          <a:xfrm>
            <a:off x="7415280" y="6093000"/>
            <a:ext cx="1747800" cy="76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ypeilin\Desktop\1.png"/>
          <p:cNvPicPr/>
          <p:nvPr/>
        </p:nvPicPr>
        <p:blipFill>
          <a:blip r:embed="rId3"/>
          <a:stretch/>
        </p:blipFill>
        <p:spPr>
          <a:xfrm>
            <a:off x="755640" y="4149720"/>
            <a:ext cx="1295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Box 34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AE4-C86F-4184-961D-EE77AA1D63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1481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201780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://wikieducator.org/images/1/16/Dummy_user.png"/>
          <p:cNvPicPr/>
          <p:nvPr/>
        </p:nvPicPr>
        <p:blipFill>
          <a:blip r:embed="rId7"/>
          <a:stretch/>
        </p:blipFill>
        <p:spPr>
          <a:xfrm>
            <a:off x="3419640" y="256068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0196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www.clker.com/cliparts/f/9/8/1/1216181106356570529jean_victor_balin_icon_star.svg.med.png"/>
          <p:cNvPicPr/>
          <p:nvPr/>
        </p:nvPicPr>
        <p:blipFill>
          <a:blip r:embed="rId9"/>
          <a:stretch/>
        </p:blipFill>
        <p:spPr>
          <a:xfrm>
            <a:off x="407052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clker.com/cliparts/f/9/8/1/1216181106356570529jean_victor_balin_icon_star.svg.med.png"/>
          <p:cNvPicPr/>
          <p:nvPr/>
        </p:nvPicPr>
        <p:blipFill>
          <a:blip r:embed="rId10"/>
          <a:stretch/>
        </p:blipFill>
        <p:spPr>
          <a:xfrm>
            <a:off x="43387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http://www.clker.com/cliparts/f/9/8/1/1216181106356570529jean_victor_balin_icon_star.svg.med.png"/>
          <p:cNvPicPr/>
          <p:nvPr/>
        </p:nvPicPr>
        <p:blipFill>
          <a:blip r:embed="rId11"/>
          <a:stretch/>
        </p:blipFill>
        <p:spPr>
          <a:xfrm>
            <a:off x="46069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www.clker.com/cliparts/f/9/8/1/1216181106356570529jean_victor_balin_icon_star.svg.med.png"/>
          <p:cNvPicPr/>
          <p:nvPr/>
        </p:nvPicPr>
        <p:blipFill>
          <a:blip r:embed="rId12"/>
          <a:stretch/>
        </p:blipFill>
        <p:spPr>
          <a:xfrm>
            <a:off x="4875120" y="154476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38149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0831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352760" y="2060640"/>
            <a:ext cx="271800" cy="260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http://www.clker.com/cliparts/f/9/8/1/1216181106356570529jean_victor_balin_icon_star.svg.med.png"/>
          <p:cNvPicPr/>
          <p:nvPr/>
        </p:nvPicPr>
        <p:blipFill>
          <a:blip r:embed="rId16"/>
          <a:stretch/>
        </p:blipFill>
        <p:spPr>
          <a:xfrm>
            <a:off x="4621320" y="2060640"/>
            <a:ext cx="271440" cy="260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www.clker.com/cliparts/f/9/8/1/1216181106356570529jean_victor_balin_icon_star.svg.med.png"/>
          <p:cNvPicPr/>
          <p:nvPr/>
        </p:nvPicPr>
        <p:blipFill>
          <a:blip r:embed="rId17"/>
          <a:stretch/>
        </p:blipFill>
        <p:spPr>
          <a:xfrm>
            <a:off x="3835440" y="259560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256" name="右箭头 2"/>
          <p:cNvSpPr/>
          <p:nvPr/>
        </p:nvSpPr>
        <p:spPr>
          <a:xfrm rot="20058000">
            <a:off x="2665440" y="213480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94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4"/>
          <p:cNvSpPr/>
          <p:nvPr/>
        </p:nvSpPr>
        <p:spPr>
          <a:xfrm>
            <a:off x="5245200" y="1557360"/>
            <a:ext cx="550800" cy="252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9"/>
          <p:cNvSpPr/>
          <p:nvPr/>
        </p:nvSpPr>
        <p:spPr>
          <a:xfrm>
            <a:off x="5245200" y="2097000"/>
            <a:ext cx="550800" cy="252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0"/>
          <p:cNvSpPr/>
          <p:nvPr/>
        </p:nvSpPr>
        <p:spPr>
          <a:xfrm>
            <a:off x="5245200" y="2600280"/>
            <a:ext cx="550800" cy="252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9BFF-A858-4160-BF71-B0C07B0329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1481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201780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wikieducator.org/images/1/16/Dummy_user.png"/>
          <p:cNvPicPr/>
          <p:nvPr/>
        </p:nvPicPr>
        <p:blipFill>
          <a:blip r:embed="rId7"/>
          <a:stretch/>
        </p:blipFill>
        <p:spPr>
          <a:xfrm>
            <a:off x="3419640" y="256068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0196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clker.com/cliparts/f/9/8/1/1216181106356570529jean_victor_balin_icon_star.svg.med.png"/>
          <p:cNvPicPr/>
          <p:nvPr/>
        </p:nvPicPr>
        <p:blipFill>
          <a:blip r:embed="rId9"/>
          <a:stretch/>
        </p:blipFill>
        <p:spPr>
          <a:xfrm>
            <a:off x="407052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://www.clker.com/cliparts/f/9/8/1/1216181106356570529jean_victor_balin_icon_star.svg.med.png"/>
          <p:cNvPicPr/>
          <p:nvPr/>
        </p:nvPicPr>
        <p:blipFill>
          <a:blip r:embed="rId10"/>
          <a:stretch/>
        </p:blipFill>
        <p:spPr>
          <a:xfrm>
            <a:off x="43387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www.clker.com/cliparts/f/9/8/1/1216181106356570529jean_victor_balin_icon_star.svg.med.png"/>
          <p:cNvPicPr/>
          <p:nvPr/>
        </p:nvPicPr>
        <p:blipFill>
          <a:blip r:embed="rId11"/>
          <a:stretch/>
        </p:blipFill>
        <p:spPr>
          <a:xfrm>
            <a:off x="46069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www.clker.com/cliparts/f/9/8/1/1216181106356570529jean_victor_balin_icon_star.svg.med.png"/>
          <p:cNvPicPr/>
          <p:nvPr/>
        </p:nvPicPr>
        <p:blipFill>
          <a:blip r:embed="rId12"/>
          <a:stretch/>
        </p:blipFill>
        <p:spPr>
          <a:xfrm>
            <a:off x="4875120" y="154476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38149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0831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352760" y="2060640"/>
            <a:ext cx="271800" cy="260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www.clker.com/cliparts/f/9/8/1/1216181106356570529jean_victor_balin_icon_star.svg.med.png"/>
          <p:cNvPicPr/>
          <p:nvPr/>
        </p:nvPicPr>
        <p:blipFill>
          <a:blip r:embed="rId16"/>
          <a:stretch/>
        </p:blipFill>
        <p:spPr>
          <a:xfrm>
            <a:off x="4621320" y="2060640"/>
            <a:ext cx="271440" cy="260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www.clker.com/cliparts/f/9/8/1/1216181106356570529jean_victor_balin_icon_star.svg.med.png"/>
          <p:cNvPicPr/>
          <p:nvPr/>
        </p:nvPicPr>
        <p:blipFill>
          <a:blip r:embed="rId17"/>
          <a:stretch/>
        </p:blipFill>
        <p:spPr>
          <a:xfrm>
            <a:off x="3835440" y="259560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281" name="右箭头 2"/>
          <p:cNvSpPr/>
          <p:nvPr/>
        </p:nvSpPr>
        <p:spPr>
          <a:xfrm rot="20058000">
            <a:off x="2665440" y="213480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94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5245200" y="1557360"/>
            <a:ext cx="550800" cy="252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9"/>
          <p:cNvSpPr/>
          <p:nvPr/>
        </p:nvSpPr>
        <p:spPr>
          <a:xfrm>
            <a:off x="5245200" y="2097000"/>
            <a:ext cx="550800" cy="252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30"/>
          <p:cNvSpPr/>
          <p:nvPr/>
        </p:nvSpPr>
        <p:spPr>
          <a:xfrm>
            <a:off x="5245200" y="2600280"/>
            <a:ext cx="550800" cy="252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0556-A722-493A-ADBF-6B34B154FE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Rounded Rectangle 33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289" name="Rounded Rectangle 33" descr=""/>
            <p:cNvPicPr/>
            <p:nvPr/>
          </p:nvPicPr>
          <p:blipFill>
            <a:blip r:embed="rId23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Rounded Rectangle 34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292" name="Rounded Rectangle 34" descr=""/>
            <p:cNvPicPr/>
            <p:nvPr/>
          </p:nvPicPr>
          <p:blipFill>
            <a:blip r:embed="rId24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33764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www.clker.com/cliparts/f/9/8/1/1216181106356570529jean_victor_balin_icon_star.svg.med.png"/>
          <p:cNvPicPr/>
          <p:nvPr/>
        </p:nvPicPr>
        <p:blipFill>
          <a:blip r:embed="rId6"/>
          <a:stretch/>
        </p:blipFill>
        <p:spPr>
          <a:xfrm>
            <a:off x="3814920" y="287640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35440" y="3411360"/>
            <a:ext cx="271440" cy="258840"/>
          </a:xfrm>
          <a:prstGeom prst="rect">
            <a:avLst/>
          </a:prstGeom>
          <a:ln w="0">
            <a:noFill/>
          </a:ln>
        </p:spPr>
      </p:pic>
      <p:sp>
        <p:nvSpPr>
          <p:cNvPr id="306" name="右箭头 2"/>
          <p:cNvSpPr/>
          <p:nvPr/>
        </p:nvSpPr>
        <p:spPr>
          <a:xfrm rot="20147400">
            <a:off x="2665440" y="2949480"/>
            <a:ext cx="71424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85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30"/>
          <p:cNvSpPr/>
          <p:nvPr/>
        </p:nvSpPr>
        <p:spPr>
          <a:xfrm>
            <a:off x="5245200" y="3392640"/>
            <a:ext cx="550800" cy="25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2" descr="http://www.clker.com/cliparts/f/9/8/1/1216181106356570529jean_victor_balin_icon_star.svg.med.png"/>
          <p:cNvPicPr/>
          <p:nvPr/>
        </p:nvPicPr>
        <p:blipFill>
          <a:blip r:embed="rId11"/>
          <a:stretch/>
        </p:blipFill>
        <p:spPr>
          <a:xfrm>
            <a:off x="41115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http://www.clker.com/cliparts/f/9/8/1/1216181106356570529jean_victor_balin_icon_star.svg.med.png"/>
          <p:cNvPicPr/>
          <p:nvPr/>
        </p:nvPicPr>
        <p:blipFill>
          <a:blip r:embed="rId12"/>
          <a:stretch/>
        </p:blipFill>
        <p:spPr>
          <a:xfrm>
            <a:off x="43797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648320" y="34099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917960" y="341316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http://wikieducator.org/images/1/16/Dummy_user.png"/>
          <p:cNvPicPr/>
          <p:nvPr/>
        </p:nvPicPr>
        <p:blipFill>
          <a:blip r:embed="rId15"/>
          <a:stretch/>
        </p:blipFill>
        <p:spPr>
          <a:xfrm>
            <a:off x="3419640" y="2835360"/>
            <a:ext cx="366480" cy="365040"/>
          </a:xfrm>
          <a:prstGeom prst="rect">
            <a:avLst/>
          </a:prstGeom>
          <a:ln w="0">
            <a:noFill/>
          </a:ln>
        </p:spPr>
      </p:pic>
      <p:sp>
        <p:nvSpPr>
          <p:cNvPr id="315" name="矩形 38"/>
          <p:cNvSpPr/>
          <p:nvPr/>
        </p:nvSpPr>
        <p:spPr>
          <a:xfrm>
            <a:off x="5245200" y="2889360"/>
            <a:ext cx="55080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7FE2-A37A-46A1-A454-FAD1F888D9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Rounded Rectangle 23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318" name="Rounded Rectangle 23" descr=""/>
            <p:cNvPicPr/>
            <p:nvPr/>
          </p:nvPicPr>
          <p:blipFill>
            <a:blip r:embed="rId17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Rounded Rectangle 24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321" name="Rounded Rectangle 24" descr=""/>
            <p:cNvPicPr/>
            <p:nvPr/>
          </p:nvPicPr>
          <p:blipFill>
            <a:blip r:embed="rId18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283536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33764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287640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3411360"/>
            <a:ext cx="271440" cy="258840"/>
          </a:xfrm>
          <a:prstGeom prst="rect">
            <a:avLst/>
          </a:prstGeom>
          <a:ln w="0">
            <a:noFill/>
          </a:ln>
        </p:spPr>
      </p:pic>
      <p:sp>
        <p:nvSpPr>
          <p:cNvPr id="336" name="右箭头 2"/>
          <p:cNvSpPr/>
          <p:nvPr/>
        </p:nvSpPr>
        <p:spPr>
          <a:xfrm rot="20147400">
            <a:off x="2665440" y="2949480"/>
            <a:ext cx="71424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85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29"/>
          <p:cNvSpPr/>
          <p:nvPr/>
        </p:nvSpPr>
        <p:spPr>
          <a:xfrm>
            <a:off x="5245200" y="2889360"/>
            <a:ext cx="55080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0"/>
          <p:cNvSpPr/>
          <p:nvPr/>
        </p:nvSpPr>
        <p:spPr>
          <a:xfrm>
            <a:off x="5245200" y="3392640"/>
            <a:ext cx="55080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31"/>
          <p:cNvSpPr/>
          <p:nvPr/>
        </p:nvSpPr>
        <p:spPr>
          <a:xfrm>
            <a:off x="6470640" y="19162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32"/>
          <p:cNvSpPr/>
          <p:nvPr/>
        </p:nvSpPr>
        <p:spPr>
          <a:xfrm>
            <a:off x="6470640" y="2455920"/>
            <a:ext cx="549360" cy="252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648320" y="34099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http://www.clker.com/cliparts/f/9/8/1/1216181106356570529jean_victor_balin_icon_star.svg.med.png"/>
          <p:cNvPicPr/>
          <p:nvPr/>
        </p:nvPicPr>
        <p:blipFill>
          <a:blip r:embed="rId16"/>
          <a:stretch/>
        </p:blipFill>
        <p:spPr>
          <a:xfrm>
            <a:off x="4917960" y="3413160"/>
            <a:ext cx="27144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矩形 26"/>
          <p:cNvSpPr/>
          <p:nvPr/>
        </p:nvSpPr>
        <p:spPr>
          <a:xfrm>
            <a:off x="7765920" y="1920960"/>
            <a:ext cx="551160" cy="253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9DC6-83AF-47B9-B486-EE00B26B40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Rounded Rectangle 25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348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Rounded Rectangle 27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351" name="Rounded Rectangle 27" descr=""/>
            <p:cNvPicPr/>
            <p:nvPr/>
          </p:nvPicPr>
          <p:blipFill>
            <a:blip r:embed="rId19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14504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363852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3672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206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366" name="右箭头 2"/>
          <p:cNvSpPr/>
          <p:nvPr/>
        </p:nvSpPr>
        <p:spPr>
          <a:xfrm>
            <a:off x="2665440" y="3746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29"/>
          <p:cNvSpPr/>
          <p:nvPr/>
        </p:nvSpPr>
        <p:spPr>
          <a:xfrm>
            <a:off x="5245200" y="4184640"/>
            <a:ext cx="55080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30"/>
          <p:cNvSpPr/>
          <p:nvPr/>
        </p:nvSpPr>
        <p:spPr>
          <a:xfrm>
            <a:off x="5245200" y="3679920"/>
            <a:ext cx="550800" cy="253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659480" y="3673440"/>
            <a:ext cx="272880" cy="260280"/>
          </a:xfrm>
          <a:prstGeom prst="rect">
            <a:avLst/>
          </a:prstGeom>
          <a:ln w="0">
            <a:noFill/>
          </a:ln>
        </p:spPr>
      </p:pic>
      <p:sp>
        <p:nvSpPr>
          <p:cNvPr id="374" name="矩形 26"/>
          <p:cNvSpPr/>
          <p:nvPr/>
        </p:nvSpPr>
        <p:spPr>
          <a:xfrm>
            <a:off x="7765920" y="1920960"/>
            <a:ext cx="551160" cy="25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699C-019E-469C-9D87-44FE3200D2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Rounded Rectangle 24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377" name="Rounded Rectangle 24" descr=""/>
            <p:cNvPicPr/>
            <p:nvPr/>
          </p:nvPicPr>
          <p:blipFill>
            <a:blip r:embed="rId17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Rounded Rectangle 25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380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14504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363852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3672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206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395" name="右箭头 2"/>
          <p:cNvSpPr/>
          <p:nvPr/>
        </p:nvSpPr>
        <p:spPr>
          <a:xfrm>
            <a:off x="2665440" y="3746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29"/>
          <p:cNvSpPr/>
          <p:nvPr/>
        </p:nvSpPr>
        <p:spPr>
          <a:xfrm>
            <a:off x="5245200" y="4184640"/>
            <a:ext cx="55080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30"/>
          <p:cNvSpPr/>
          <p:nvPr/>
        </p:nvSpPr>
        <p:spPr>
          <a:xfrm>
            <a:off x="5245200" y="3679920"/>
            <a:ext cx="550800" cy="253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659480" y="3673440"/>
            <a:ext cx="272880" cy="260280"/>
          </a:xfrm>
          <a:prstGeom prst="rect">
            <a:avLst/>
          </a:prstGeom>
          <a:ln w="0">
            <a:noFill/>
          </a:ln>
        </p:spPr>
      </p:pic>
      <p:sp>
        <p:nvSpPr>
          <p:cNvPr id="403" name="矩形 26"/>
          <p:cNvSpPr/>
          <p:nvPr/>
        </p:nvSpPr>
        <p:spPr>
          <a:xfrm>
            <a:off x="7765920" y="1920960"/>
            <a:ext cx="551160" cy="25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23"/>
          <p:cNvSpPr/>
          <p:nvPr/>
        </p:nvSpPr>
        <p:spPr>
          <a:xfrm>
            <a:off x="6470640" y="2997360"/>
            <a:ext cx="549360" cy="25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B2E2-F3D8-463F-A92B-4DC671A4C6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Rounded Rectangle 25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07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9" name="Rounded Rectangle 27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10" name="Rounded Rectangle 27" descr=""/>
            <p:cNvPicPr/>
            <p:nvPr/>
          </p:nvPicPr>
          <p:blipFill>
            <a:blip r:embed="rId19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937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443232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4464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998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425" name="右箭头 2"/>
          <p:cNvSpPr/>
          <p:nvPr/>
        </p:nvSpPr>
        <p:spPr>
          <a:xfrm>
            <a:off x="2665440" y="4538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矩形 29"/>
          <p:cNvSpPr/>
          <p:nvPr/>
        </p:nvSpPr>
        <p:spPr>
          <a:xfrm>
            <a:off x="5245200" y="4976640"/>
            <a:ext cx="550800" cy="252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30"/>
          <p:cNvSpPr/>
          <p:nvPr/>
        </p:nvSpPr>
        <p:spPr>
          <a:xfrm>
            <a:off x="5245200" y="4471920"/>
            <a:ext cx="55080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4465800"/>
            <a:ext cx="273240" cy="25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4465800"/>
            <a:ext cx="273240" cy="258480"/>
          </a:xfrm>
          <a:prstGeom prst="rect">
            <a:avLst/>
          </a:prstGeom>
          <a:ln w="0">
            <a:noFill/>
          </a:ln>
        </p:spPr>
      </p:pic>
      <p:sp>
        <p:nvSpPr>
          <p:cNvPr id="432" name="矩形 26"/>
          <p:cNvSpPr/>
          <p:nvPr/>
        </p:nvSpPr>
        <p:spPr>
          <a:xfrm>
            <a:off x="7765920" y="1920960"/>
            <a:ext cx="551160" cy="253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3"/>
          <p:cNvSpPr/>
          <p:nvPr/>
        </p:nvSpPr>
        <p:spPr>
          <a:xfrm>
            <a:off x="6470640" y="2997360"/>
            <a:ext cx="54936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1AB4-ECDE-4304-9AE3-C6DC549B79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Rounded Rectangle 24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36" name="Rounded Rectangle 24" descr=""/>
            <p:cNvPicPr/>
            <p:nvPr/>
          </p:nvPicPr>
          <p:blipFill>
            <a:blip r:embed="rId17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Rounded Rectangle 25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39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937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443232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4464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998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454" name="右箭头 2"/>
          <p:cNvSpPr/>
          <p:nvPr/>
        </p:nvSpPr>
        <p:spPr>
          <a:xfrm>
            <a:off x="2665440" y="4538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9"/>
          <p:cNvSpPr/>
          <p:nvPr/>
        </p:nvSpPr>
        <p:spPr>
          <a:xfrm>
            <a:off x="5245200" y="4976640"/>
            <a:ext cx="550800" cy="252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30"/>
          <p:cNvSpPr/>
          <p:nvPr/>
        </p:nvSpPr>
        <p:spPr>
          <a:xfrm>
            <a:off x="5245200" y="4471920"/>
            <a:ext cx="55080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4465800"/>
            <a:ext cx="273240" cy="2584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4465800"/>
            <a:ext cx="273240" cy="258480"/>
          </a:xfrm>
          <a:prstGeom prst="rect">
            <a:avLst/>
          </a:prstGeom>
          <a:ln w="0">
            <a:noFill/>
          </a:ln>
        </p:spPr>
      </p:pic>
      <p:sp>
        <p:nvSpPr>
          <p:cNvPr id="461" name="矩形 26"/>
          <p:cNvSpPr/>
          <p:nvPr/>
        </p:nvSpPr>
        <p:spPr>
          <a:xfrm>
            <a:off x="7765920" y="1920960"/>
            <a:ext cx="551160" cy="253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矩形 23"/>
          <p:cNvSpPr/>
          <p:nvPr/>
        </p:nvSpPr>
        <p:spPr>
          <a:xfrm>
            <a:off x="6470640" y="2997360"/>
            <a:ext cx="54936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矩形 25"/>
          <p:cNvSpPr/>
          <p:nvPr/>
        </p:nvSpPr>
        <p:spPr>
          <a:xfrm>
            <a:off x="7765920" y="2454120"/>
            <a:ext cx="551160" cy="252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DDFE-FEC9-4540-B31F-74D57C85BA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Rounded Rectangle 27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66" name="Rounded Rectangle 27" descr=""/>
            <p:cNvPicPr/>
            <p:nvPr/>
          </p:nvPicPr>
          <p:blipFill>
            <a:blip r:embed="rId18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Rounded Rectangle 28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69" name="Rounded Rectangle 28" descr=""/>
            <p:cNvPicPr/>
            <p:nvPr/>
          </p:nvPicPr>
          <p:blipFill>
            <a:blip r:embed="rId19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sp>
        <p:nvSpPr>
          <p:cNvPr id="479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矩形 26"/>
          <p:cNvSpPr/>
          <p:nvPr/>
        </p:nvSpPr>
        <p:spPr>
          <a:xfrm>
            <a:off x="7765920" y="1920960"/>
            <a:ext cx="551160" cy="25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矩形 23"/>
          <p:cNvSpPr/>
          <p:nvPr/>
        </p:nvSpPr>
        <p:spPr>
          <a:xfrm>
            <a:off x="6470640" y="2997360"/>
            <a:ext cx="549360" cy="25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25"/>
          <p:cNvSpPr/>
          <p:nvPr/>
        </p:nvSpPr>
        <p:spPr>
          <a:xfrm>
            <a:off x="7765920" y="2454120"/>
            <a:ext cx="551160" cy="252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987640" y="42260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ssump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 user’s profile is constructed bas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reviews of other users who sh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 similar opinions on the examp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sugges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961-80CC-4DFD-BDB8-8CD790C9E4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7" name="Rounded Rectangle 20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88" name="Rounded Rectangle 20" descr=""/>
            <p:cNvPicPr/>
            <p:nvPr/>
          </p:nvPicPr>
          <p:blipFill>
            <a:blip r:embed="rId10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Rounded Rectangle 21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91" name="Rounded Rectangle 21" descr=""/>
            <p:cNvPicPr/>
            <p:nvPr/>
          </p:nvPicPr>
          <p:blipFill>
            <a:blip r:embed="rId11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7523280" y="2629080"/>
            <a:ext cx="1585800" cy="101592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6"/>
          <p:cNvGrpSpPr/>
          <p:nvPr/>
        </p:nvGrpSpPr>
        <p:grpSpPr>
          <a:xfrm>
            <a:off x="934560" y="2565000"/>
            <a:ext cx="4096080" cy="2809080"/>
            <a:chOff x="934560" y="2565000"/>
            <a:chExt cx="4096080" cy="2809080"/>
          </a:xfrm>
        </p:grpSpPr>
        <p:pic>
          <p:nvPicPr>
            <p:cNvPr id="49" name="Picture 22" descr=""/>
            <p:cNvPicPr/>
            <p:nvPr/>
          </p:nvPicPr>
          <p:blipFill>
            <a:blip r:embed="rId1"/>
            <a:stretch/>
          </p:blipFill>
          <p:spPr>
            <a:xfrm>
              <a:off x="1186920" y="3069360"/>
              <a:ext cx="3843720" cy="1800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0" name="直接箭头连接符 49"/>
            <p:cNvCxnSpPr>
              <a:stCxn id="51" idx="0"/>
            </p:cNvCxnSpPr>
            <p:nvPr/>
          </p:nvCxnSpPr>
          <p:spPr>
            <a:xfrm flipV="1">
              <a:off x="3310920" y="2565000"/>
              <a:ext cx="541800" cy="937440"/>
            </a:xfrm>
            <a:prstGeom prst="straightConnector1">
              <a:avLst/>
            </a:prstGeom>
            <a:ln w="28440">
              <a:solidFill>
                <a:srgbClr val="4a7ebb"/>
              </a:solidFill>
              <a:prstDash val="sysDot"/>
              <a:miter/>
            </a:ln>
          </p:spPr>
        </p:cxnSp>
        <p:cxnSp>
          <p:nvCxnSpPr>
            <p:cNvPr id="52" name="直接箭头连接符 53"/>
            <p:cNvCxnSpPr>
              <a:endCxn id="53" idx="0"/>
            </p:cNvCxnSpPr>
            <p:nvPr/>
          </p:nvCxnSpPr>
          <p:spPr>
            <a:xfrm flipH="1">
              <a:off x="934560" y="4078440"/>
              <a:ext cx="2124720" cy="1296000"/>
            </a:xfrm>
            <a:prstGeom prst="straightConnector1">
              <a:avLst/>
            </a:prstGeom>
            <a:ln w="28440">
              <a:solidFill>
                <a:srgbClr val="4a7ebb"/>
              </a:solidFill>
              <a:prstDash val="sysDot"/>
              <a:miter/>
            </a:ln>
          </p:spPr>
        </p:cxn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Overview of Our 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F959-8F5C-4474-BA17-5B640E28B2F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0" descr="C:\Users\ypeilin\Desktop\图片1.png"/>
          <p:cNvPicPr/>
          <p:nvPr/>
        </p:nvPicPr>
        <p:blipFill>
          <a:blip r:embed="rId2"/>
          <a:stretch/>
        </p:blipFill>
        <p:spPr>
          <a:xfrm>
            <a:off x="250920" y="1339920"/>
            <a:ext cx="669960" cy="609480"/>
          </a:xfrm>
          <a:prstGeom prst="rect">
            <a:avLst/>
          </a:prstGeom>
          <a:ln w="0">
            <a:noFill/>
          </a:ln>
        </p:spPr>
      </p:pic>
      <p:cxnSp>
        <p:nvCxnSpPr>
          <p:cNvPr id="57" name="直接箭头连接符 3"/>
          <p:cNvCxnSpPr>
            <a:stCxn id="56" idx="3"/>
            <a:endCxn id="58" idx="1"/>
          </p:cNvCxnSpPr>
          <p:nvPr/>
        </p:nvCxnSpPr>
        <p:spPr>
          <a:xfrm>
            <a:off x="920520" y="1644120"/>
            <a:ext cx="8434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TextBox 4"/>
          <p:cNvSpPr/>
          <p:nvPr/>
        </p:nvSpPr>
        <p:spPr>
          <a:xfrm>
            <a:off x="1763640" y="1136520"/>
            <a:ext cx="144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Candidate Suggestion Gath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258920" y="551664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Exampl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4643280" y="1290600"/>
            <a:ext cx="144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uggestion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直接箭头连接符 19"/>
          <p:cNvCxnSpPr>
            <a:stCxn id="58" idx="3"/>
            <a:endCxn id="60" idx="1"/>
          </p:cNvCxnSpPr>
          <p:nvPr/>
        </p:nvCxnSpPr>
        <p:spPr>
          <a:xfrm>
            <a:off x="3203280" y="1644120"/>
            <a:ext cx="14403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3"/>
          <p:cNvSpPr/>
          <p:nvPr/>
        </p:nvSpPr>
        <p:spPr>
          <a:xfrm>
            <a:off x="4643280" y="5529240"/>
            <a:ext cx="144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User Profile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直接箭头连接符 24"/>
          <p:cNvCxnSpPr>
            <a:stCxn id="59" idx="3"/>
            <a:endCxn id="62" idx="1"/>
          </p:cNvCxnSpPr>
          <p:nvPr/>
        </p:nvCxnSpPr>
        <p:spPr>
          <a:xfrm>
            <a:off x="2771280" y="5870160"/>
            <a:ext cx="1872360" cy="13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28"/>
          <p:cNvSpPr/>
          <p:nvPr/>
        </p:nvSpPr>
        <p:spPr>
          <a:xfrm>
            <a:off x="5940360" y="2792520"/>
            <a:ext cx="1440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Candidates Ra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7596360" y="2792520"/>
            <a:ext cx="1439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直接箭头连接符 30"/>
          <p:cNvCxnSpPr>
            <a:stCxn id="60" idx="3"/>
            <a:endCxn id="64" idx="0"/>
          </p:cNvCxnSpPr>
          <p:nvPr/>
        </p:nvCxnSpPr>
        <p:spPr>
          <a:xfrm>
            <a:off x="6084360" y="1644120"/>
            <a:ext cx="575640" cy="1148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直接箭头连接符 33"/>
          <p:cNvCxnSpPr>
            <a:stCxn id="62" idx="3"/>
            <a:endCxn id="64" idx="2"/>
          </p:cNvCxnSpPr>
          <p:nvPr/>
        </p:nvCxnSpPr>
        <p:spPr>
          <a:xfrm flipV="1">
            <a:off x="6084360" y="3499560"/>
            <a:ext cx="575640" cy="2383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直接箭头连接符 36"/>
          <p:cNvCxnSpPr>
            <a:stCxn id="64" idx="3"/>
            <a:endCxn id="65" idx="1"/>
          </p:cNvCxnSpPr>
          <p:nvPr/>
        </p:nvCxnSpPr>
        <p:spPr>
          <a:xfrm flipV="1">
            <a:off x="7380360" y="3145680"/>
            <a:ext cx="2167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圆角矩形 46"/>
          <p:cNvSpPr/>
          <p:nvPr/>
        </p:nvSpPr>
        <p:spPr>
          <a:xfrm>
            <a:off x="2484360" y="3500280"/>
            <a:ext cx="1656000" cy="50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8" descr="http://arguzsoft.com/aplications/imagenes/icon_shopcart.png"/>
          <p:cNvPicPr/>
          <p:nvPr/>
        </p:nvPicPr>
        <p:blipFill>
          <a:blip r:embed="rId3"/>
          <a:stretch/>
        </p:blipFill>
        <p:spPr>
          <a:xfrm>
            <a:off x="250920" y="5373720"/>
            <a:ext cx="360360" cy="36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http://www.cookcenter.us/new-images/MuseumIconWords.gif"/>
          <p:cNvPicPr/>
          <p:nvPr/>
        </p:nvPicPr>
        <p:blipFill>
          <a:blip r:embed="rId4"/>
          <a:stretch/>
        </p:blipFill>
        <p:spPr>
          <a:xfrm>
            <a:off x="250920" y="580536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statefairofwv.com/files/2011/03/ferris-wheel-icon.png"/>
          <p:cNvPicPr/>
          <p:nvPr/>
        </p:nvPicPr>
        <p:blipFill>
          <a:blip r:embed="rId5"/>
          <a:stretch/>
        </p:blipFill>
        <p:spPr>
          <a:xfrm>
            <a:off x="3492360" y="220500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otel Icon Restaurant Clip Art"/>
          <p:cNvPicPr/>
          <p:nvPr/>
        </p:nvPicPr>
        <p:blipFill>
          <a:blip r:embed="rId6"/>
          <a:stretch/>
        </p:blipFill>
        <p:spPr>
          <a:xfrm>
            <a:off x="755640" y="58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www.veryicon.com/icon/png/Object/Points%20Of%20Interest/Theater%20Yellow%202.png"/>
          <p:cNvPicPr/>
          <p:nvPr/>
        </p:nvPicPr>
        <p:blipFill>
          <a:blip r:embed="rId7"/>
          <a:stretch/>
        </p:blipFill>
        <p:spPr>
          <a:xfrm>
            <a:off x="755640" y="5373720"/>
            <a:ext cx="360360" cy="358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3132000" y="9208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Candidat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8" descr="http://arguzsoft.com/aplications/imagenes/icon_shopcart.png"/>
          <p:cNvPicPr/>
          <p:nvPr/>
        </p:nvPicPr>
        <p:blipFill>
          <a:blip r:embed="rId8"/>
          <a:stretch/>
        </p:blipFill>
        <p:spPr>
          <a:xfrm>
            <a:off x="3492360" y="1773360"/>
            <a:ext cx="358920" cy="36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otel Icon Restaurant Clip Art"/>
          <p:cNvPicPr/>
          <p:nvPr/>
        </p:nvPicPr>
        <p:blipFill>
          <a:blip r:embed="rId9"/>
          <a:stretch/>
        </p:blipFill>
        <p:spPr>
          <a:xfrm>
            <a:off x="399564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veryicon.com/icon/png/Object/Points%20Of%20Interest/Theater%20Yellow%202.png"/>
          <p:cNvPicPr/>
          <p:nvPr/>
        </p:nvPicPr>
        <p:blipFill>
          <a:blip r:embed="rId10"/>
          <a:stretch/>
        </p:blipFill>
        <p:spPr>
          <a:xfrm>
            <a:off x="3995640" y="1773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8" name="矩形 1"/>
          <p:cNvSpPr/>
          <p:nvPr/>
        </p:nvSpPr>
        <p:spPr>
          <a:xfrm>
            <a:off x="4572000" y="1125360"/>
            <a:ext cx="1585800" cy="1016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7524720" y="2637000"/>
            <a:ext cx="1585800" cy="1015920"/>
          </a:xfrm>
          <a:prstGeom prst="rect">
            <a:avLst/>
          </a:pr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4573440" y="5373720"/>
            <a:ext cx="1584360" cy="101592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156360" y="1197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pinion matters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5794200" y="2637000"/>
            <a:ext cx="1586160" cy="101592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6443640" y="3789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Pers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is useful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"/>
          <p:cNvGraphicFramePr/>
          <p:nvPr/>
        </p:nvGraphicFramePr>
        <p:xfrm>
          <a:off x="5292720" y="1004760"/>
          <a:ext cx="3743280" cy="289908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7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3236760"/>
            <a:ext cx="1027080" cy="568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552760"/>
            <a:ext cx="1027080" cy="539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797120"/>
            <a:ext cx="1027080" cy="57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5"/>
          <a:stretch/>
        </p:blipFill>
        <p:spPr>
          <a:xfrm>
            <a:off x="6804000" y="1076400"/>
            <a:ext cx="1027080" cy="595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30"/>
          <p:cNvSpPr/>
          <p:nvPr/>
        </p:nvSpPr>
        <p:spPr>
          <a:xfrm>
            <a:off x="6372360" y="54936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75896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1020600"/>
            <a:ext cx="739800" cy="738360"/>
          </a:xfrm>
          <a:prstGeom prst="rect">
            <a:avLst/>
          </a:prstGeom>
          <a:ln w="0">
            <a:noFill/>
          </a:ln>
        </p:spPr>
      </p:pic>
      <p:sp>
        <p:nvSpPr>
          <p:cNvPr id="504" name="云形标注 39"/>
          <p:cNvSpPr/>
          <p:nvPr/>
        </p:nvSpPr>
        <p:spPr>
          <a:xfrm>
            <a:off x="1187280" y="692280"/>
            <a:ext cx="3529080" cy="3457440"/>
          </a:xfrm>
          <a:prstGeom prst="cloudCallout">
            <a:avLst>
              <a:gd name="adj1" fmla="val -60763"/>
              <a:gd name="adj2" fmla="val -2634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4526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3166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34920" y="2790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3"/>
          <p:cNvSpPr/>
          <p:nvPr/>
        </p:nvSpPr>
        <p:spPr>
          <a:xfrm>
            <a:off x="1619280" y="4581360"/>
            <a:ext cx="157968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R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右箭头 4"/>
          <p:cNvSpPr/>
          <p:nvPr/>
        </p:nvSpPr>
        <p:spPr>
          <a:xfrm rot="5400000">
            <a:off x="2204640" y="4009680"/>
            <a:ext cx="40464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右箭头 25"/>
          <p:cNvSpPr/>
          <p:nvPr/>
        </p:nvSpPr>
        <p:spPr>
          <a:xfrm rot="16200000">
            <a:off x="2220120" y="4843800"/>
            <a:ext cx="37476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1692360" y="1052640"/>
            <a:ext cx="27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…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in the center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downtow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 of NYC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Japanese inspired decor, dim lighting, and a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clea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 setting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…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it is fantastic but some areas are crowd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The cocktails are very well craf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1187280" y="2492280"/>
            <a:ext cx="3529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79280" y="5491080"/>
          <a:ext cx="5905440" cy="1251000"/>
        </p:xfrm>
        <a:graphic>
          <a:graphicData uri="http://schemas.openxmlformats.org/drawingml/2006/table">
            <a:tbl>
              <a:tblPr/>
              <a:tblGrid>
                <a:gridCol w="1087560"/>
                <a:gridCol w="4817880"/>
              </a:tblGrid>
              <a:tr h="609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 little bit </a:t>
                      </a:r>
                      <a:r>
                        <a:rPr b="1" lang="en-US" sz="1700" spc="-1" strike="noStrike">
                          <a:solidFill>
                            <a:srgbClr val="c00000"/>
                          </a:solidFill>
                          <a:latin typeface="Calibri"/>
                          <a:ea typeface="宋体"/>
                        </a:rPr>
                        <a:t>far away from downtow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it is crowd and you need to </a:t>
                      </a:r>
                      <a:r>
                        <a:rPr b="1" lang="en-US" sz="1700" spc="-1" strike="noStrike">
                          <a:solidFill>
                            <a:srgbClr val="c00000"/>
                          </a:solidFill>
                          <a:latin typeface="Calibri"/>
                          <a:ea typeface="宋体"/>
                        </a:rPr>
                        <a:t>take bus to ther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hotel is very 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close to the train st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neat and 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clea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environment is desirabl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4" name="Picture 4" descr="http://media-cdn.tripadvisor.com/media/photo-s/01/f4/75/d1/early-morning-from-the.jpg"/>
          <p:cNvPicPr/>
          <p:nvPr/>
        </p:nvPicPr>
        <p:blipFill>
          <a:blip r:embed="rId10"/>
          <a:stretch/>
        </p:blipFill>
        <p:spPr>
          <a:xfrm>
            <a:off x="324000" y="6237360"/>
            <a:ext cx="75852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"/>
          <p:cNvGraphicFramePr/>
          <p:nvPr/>
        </p:nvGraphicFramePr>
        <p:xfrm>
          <a:off x="5076720" y="4227480"/>
          <a:ext cx="3205440" cy="1081080"/>
        </p:xfrm>
        <a:graphic>
          <a:graphicData uri="http://schemas.openxmlformats.org/drawingml/2006/table">
            <a:tbl>
              <a:tblPr/>
              <a:tblGrid>
                <a:gridCol w="416160"/>
                <a:gridCol w="27892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perison Hot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iberty B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6" name="Picture 4" descr="http://media-cdn.tripadvisor.com/media/photo-s/01/f4/75/d1/early-morning-from-the.jpg"/>
          <p:cNvPicPr/>
          <p:nvPr/>
        </p:nvPicPr>
        <p:blipFill>
          <a:blip r:embed="rId11"/>
          <a:stretch/>
        </p:blipFill>
        <p:spPr>
          <a:xfrm>
            <a:off x="7413480" y="4294080"/>
            <a:ext cx="758880" cy="432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http://png-3.findicons.com/files/icons/1609/ose_png/256/tick.png"/>
          <p:cNvPicPr/>
          <p:nvPr/>
        </p:nvPicPr>
        <p:blipFill>
          <a:blip r:embed="rId12"/>
          <a:stretch/>
        </p:blipFill>
        <p:spPr>
          <a:xfrm>
            <a:off x="8283600" y="4149720"/>
            <a:ext cx="609480" cy="608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http://findicons.com/files/icons/1609/ose_png/256/error.png"/>
          <p:cNvPicPr/>
          <p:nvPr/>
        </p:nvPicPr>
        <p:blipFill>
          <a:blip r:embed="rId13"/>
          <a:stretch/>
        </p:blipFill>
        <p:spPr>
          <a:xfrm>
            <a:off x="8282160" y="4710240"/>
            <a:ext cx="590400" cy="59184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5B6-0E32-4F55-A5B1-A34E60C324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标题 1"/>
          <p:cNvSpPr/>
          <p:nvPr/>
        </p:nvSpPr>
        <p:spPr>
          <a:xfrm>
            <a:off x="34920" y="44280"/>
            <a:ext cx="900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宋体"/>
              </a:rPr>
              <a:t>Opinion-based Profile Mode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Rounded Rectangle 37"/>
          <p:cNvGrpSpPr/>
          <p:nvPr/>
        </p:nvGrpSpPr>
        <p:grpSpPr>
          <a:xfrm>
            <a:off x="341280" y="731880"/>
            <a:ext cx="1189080" cy="468360"/>
            <a:chOff x="341280" y="731880"/>
            <a:chExt cx="1189080" cy="468360"/>
          </a:xfrm>
        </p:grpSpPr>
        <p:pic>
          <p:nvPicPr>
            <p:cNvPr id="522" name="Rounded Rectangle 37" descr=""/>
            <p:cNvPicPr/>
            <p:nvPr/>
          </p:nvPicPr>
          <p:blipFill>
            <a:blip r:embed="rId14"/>
            <a:stretch/>
          </p:blipFill>
          <p:spPr>
            <a:xfrm>
              <a:off x="341280" y="731880"/>
              <a:ext cx="1189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12920" y="782640"/>
              <a:ext cx="1044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Rounded Rectangle 38"/>
          <p:cNvGrpSpPr/>
          <p:nvPr/>
        </p:nvGrpSpPr>
        <p:grpSpPr>
          <a:xfrm>
            <a:off x="341280" y="3468600"/>
            <a:ext cx="1189080" cy="470160"/>
            <a:chOff x="341280" y="3468600"/>
            <a:chExt cx="1189080" cy="470160"/>
          </a:xfrm>
        </p:grpSpPr>
        <p:pic>
          <p:nvPicPr>
            <p:cNvPr id="525" name="Rounded Rectangle 38" descr=""/>
            <p:cNvPicPr/>
            <p:nvPr/>
          </p:nvPicPr>
          <p:blipFill>
            <a:blip r:embed="rId15"/>
            <a:stretch/>
          </p:blipFill>
          <p:spPr>
            <a:xfrm>
              <a:off x="341280" y="3468600"/>
              <a:ext cx="118908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12920" y="3517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7" name="虚尾箭头 17"/>
          <p:cNvSpPr/>
          <p:nvPr/>
        </p:nvSpPr>
        <p:spPr>
          <a:xfrm rot="10800000">
            <a:off x="4643280" y="1717560"/>
            <a:ext cx="611280" cy="1495440"/>
          </a:xfrm>
          <a:custGeom>
            <a:avLst/>
            <a:gdLst/>
            <a:ahLst/>
            <a:rect l="l" t="t" r="r" b="b"/>
            <a:pathLst>
              <a:path w="1188133" h="1495520">
                <a:moveTo>
                  <a:pt x="0" y="373880"/>
                </a:moveTo>
                <a:lnTo>
                  <a:pt x="37129" y="373880"/>
                </a:lnTo>
                <a:lnTo>
                  <a:pt x="37129" y="1121640"/>
                </a:lnTo>
                <a:lnTo>
                  <a:pt x="0" y="1121640"/>
                </a:lnTo>
                <a:lnTo>
                  <a:pt x="0" y="373880"/>
                </a:lnTo>
                <a:close/>
                <a:moveTo>
                  <a:pt x="74258" y="373880"/>
                </a:moveTo>
                <a:lnTo>
                  <a:pt x="148517" y="373880"/>
                </a:lnTo>
                <a:lnTo>
                  <a:pt x="148517" y="1121640"/>
                </a:lnTo>
                <a:lnTo>
                  <a:pt x="74258" y="1121640"/>
                </a:lnTo>
                <a:lnTo>
                  <a:pt x="74258" y="373880"/>
                </a:lnTo>
                <a:close/>
                <a:moveTo>
                  <a:pt x="185646" y="373880"/>
                </a:moveTo>
                <a:lnTo>
                  <a:pt x="594067" y="373880"/>
                </a:lnTo>
                <a:lnTo>
                  <a:pt x="594067" y="0"/>
                </a:lnTo>
                <a:lnTo>
                  <a:pt x="1188133" y="747760"/>
                </a:lnTo>
                <a:lnTo>
                  <a:pt x="594067" y="1495520"/>
                </a:lnTo>
                <a:lnTo>
                  <a:pt x="594067" y="1121640"/>
                </a:lnTo>
                <a:lnTo>
                  <a:pt x="185646" y="1121640"/>
                </a:lnTo>
                <a:lnTo>
                  <a:pt x="185646" y="373880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右箭头 4"/>
          <p:cNvSpPr/>
          <p:nvPr/>
        </p:nvSpPr>
        <p:spPr>
          <a:xfrm>
            <a:off x="3708360" y="4508640"/>
            <a:ext cx="996840" cy="468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Picture 74" descr=""/>
          <p:cNvPicPr/>
          <p:nvPr/>
        </p:nvPicPr>
        <p:blipFill>
          <a:blip r:embed="rId16"/>
          <a:stretch/>
        </p:blipFill>
        <p:spPr>
          <a:xfrm>
            <a:off x="324000" y="5589720"/>
            <a:ext cx="758520" cy="431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4" descr=""/>
          <p:cNvPicPr/>
          <p:nvPr/>
        </p:nvPicPr>
        <p:blipFill>
          <a:blip r:embed="rId17"/>
          <a:stretch/>
        </p:blipFill>
        <p:spPr>
          <a:xfrm>
            <a:off x="7402680" y="4826160"/>
            <a:ext cx="7585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Representation of User Prof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39640" y="3933720"/>
          <a:ext cx="8317080" cy="1706760"/>
        </p:xfrm>
        <a:graphic>
          <a:graphicData uri="http://schemas.openxmlformats.org/drawingml/2006/table">
            <a:tbl>
              <a:tblPr/>
              <a:tblGrid>
                <a:gridCol w="1908360"/>
                <a:gridCol w="6408720"/>
              </a:tblGrid>
              <a:tr h="79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alibri"/>
                          <a:ea typeface="宋体"/>
                        </a:rPr>
                        <a:t>Unique Full 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nique terms from the original review excluding stop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alibri"/>
                          <a:ea typeface="宋体"/>
                        </a:rPr>
                        <a:t>Review Summ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review summaries generated by Opinos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[1]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51A1-E70C-496F-8711-F95916F24B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ounded Rectangle 1"/>
          <p:cNvSpPr/>
          <p:nvPr/>
        </p:nvSpPr>
        <p:spPr>
          <a:xfrm>
            <a:off x="1979640" y="1197000"/>
            <a:ext cx="655308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…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From the stunning architecture to the croissant and latte served up in the food court downstairs. Go to this place and ask why all train stations can't be like thi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Wow, over 100 tracks. Unbelievable architecture. Shopping, food. Etc. it is amazing. We ate at the oyster bar last time and that was a treat. The oyster pots are quite some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324000" y="205092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riginal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2"/>
          <p:cNvSpPr/>
          <p:nvPr/>
        </p:nvSpPr>
        <p:spPr>
          <a:xfrm>
            <a:off x="108000" y="5931000"/>
            <a:ext cx="900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K. Ganesan, C. Zhai, and J. Han. Opinosis: a graph-based approach to abstractive summarization of highly redundant opinions. In Proceedings of the 23rd International Conference on Computational Linguistics, COLING ’10, pages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  <a:ea typeface="宋体"/>
              </a:rPr>
              <a:t>340–348, Stroudsburg, PA, USA, 2010. Association for Computational Linguistic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Ranking candidate 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8" name="直接箭头连接符 5"/>
          <p:cNvCxnSpPr/>
          <p:nvPr/>
        </p:nvCxnSpPr>
        <p:spPr>
          <a:xfrm>
            <a:off x="3456000" y="2204640"/>
            <a:ext cx="122472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9" name="直接箭头连接符 14"/>
          <p:cNvCxnSpPr/>
          <p:nvPr/>
        </p:nvCxnSpPr>
        <p:spPr>
          <a:xfrm flipV="1">
            <a:off x="3455640" y="2277360"/>
            <a:ext cx="1261080" cy="864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40" name="直接箭头连接符 18"/>
          <p:cNvCxnSpPr/>
          <p:nvPr/>
        </p:nvCxnSpPr>
        <p:spPr>
          <a:xfrm>
            <a:off x="3384360" y="2277720"/>
            <a:ext cx="1369080" cy="864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5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9E53-A15A-4261-A0D6-57C0563CD1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2160720" y="4684680"/>
                <a:ext cx="4010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10"/>
              <p:cNvSpPr txBox="1"/>
              <p:nvPr/>
            </p:nvSpPr>
            <p:spPr>
              <a:xfrm>
                <a:off x="3468600" y="5200560"/>
                <a:ext cx="2543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1"/>
              <p:cNvSpPr txBox="1"/>
              <p:nvPr/>
            </p:nvSpPr>
            <p:spPr>
              <a:xfrm>
                <a:off x="3492360" y="5703840"/>
                <a:ext cx="2519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Group 4"/>
          <p:cNvGrpSpPr/>
          <p:nvPr/>
        </p:nvGrpSpPr>
        <p:grpSpPr>
          <a:xfrm>
            <a:off x="3492360" y="3212640"/>
            <a:ext cx="2519640" cy="3601080"/>
            <a:chOff x="3492360" y="3212640"/>
            <a:chExt cx="2519640" cy="3601080"/>
          </a:xfrm>
        </p:grpSpPr>
        <p:cxnSp>
          <p:nvCxnSpPr>
            <p:cNvPr id="546" name="直接箭头连接符 13"/>
            <p:cNvCxnSpPr/>
            <p:nvPr/>
          </p:nvCxnSpPr>
          <p:spPr>
            <a:xfrm>
              <a:off x="3492360" y="3212640"/>
              <a:ext cx="1224720" cy="108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547" name="Object 12"/>
                <p:cNvSpPr txBox="1"/>
                <p:nvPr/>
              </p:nvSpPr>
              <p:spPr>
                <a:xfrm>
                  <a:off x="3493080" y="6207840"/>
                  <a:ext cx="251892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η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SI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CS</m:t>
                      </m:r>
                      <m:sSub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g</m:t>
                              </m:r>
                            </m:e>
                          </m:eqArr>
                        </m:e>
                        <m:sub/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48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176040" y="227340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549" name="矩形标注 21"/>
          <p:cNvSpPr/>
          <p:nvPr/>
        </p:nvSpPr>
        <p:spPr>
          <a:xfrm>
            <a:off x="1042920" y="3716280"/>
            <a:ext cx="2772000" cy="720720"/>
          </a:xfrm>
          <a:prstGeom prst="wedgeRectCallout">
            <a:avLst>
              <a:gd name="adj1" fmla="val -31865"/>
              <a:gd name="adj2" fmla="val -883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the user dislikes  exampl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标注 22"/>
          <p:cNvSpPr/>
          <p:nvPr/>
        </p:nvSpPr>
        <p:spPr>
          <a:xfrm>
            <a:off x="1042920" y="907920"/>
            <a:ext cx="2772000" cy="720720"/>
          </a:xfrm>
          <a:prstGeom prst="wedgeRectCallout">
            <a:avLst>
              <a:gd name="adj1" fmla="val -31805"/>
              <a:gd name="adj2" fmla="val 8877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the user likes exampl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23"/>
          <p:cNvSpPr/>
          <p:nvPr/>
        </p:nvSpPr>
        <p:spPr>
          <a:xfrm>
            <a:off x="7632720" y="2409840"/>
            <a:ext cx="1332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Calibri"/>
                <a:ea typeface="宋体"/>
              </a:rPr>
              <a:t>Candidate Sug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2" name="直接箭头连接符 24"/>
          <p:cNvCxnSpPr/>
          <p:nvPr/>
        </p:nvCxnSpPr>
        <p:spPr>
          <a:xfrm flipH="1">
            <a:off x="7055640" y="2876040"/>
            <a:ext cx="577080" cy="26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直接箭头连接符 25"/>
          <p:cNvCxnSpPr/>
          <p:nvPr/>
        </p:nvCxnSpPr>
        <p:spPr>
          <a:xfrm flipH="1" flipV="1">
            <a:off x="7055640" y="2161440"/>
            <a:ext cx="57708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4" name="矩形标注 28"/>
          <p:cNvSpPr/>
          <p:nvPr/>
        </p:nvSpPr>
        <p:spPr>
          <a:xfrm>
            <a:off x="5038560" y="3716280"/>
            <a:ext cx="2413080" cy="720720"/>
          </a:xfrm>
          <a:prstGeom prst="wedgeRectCallout">
            <a:avLst>
              <a:gd name="adj1" fmla="val -20365"/>
              <a:gd name="adj2" fmla="val -8728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other users dislike candidat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标注 29"/>
          <p:cNvSpPr/>
          <p:nvPr/>
        </p:nvSpPr>
        <p:spPr>
          <a:xfrm>
            <a:off x="4965840" y="907920"/>
            <a:ext cx="2414520" cy="720720"/>
          </a:xfrm>
          <a:prstGeom prst="wedgeRectCallout">
            <a:avLst>
              <a:gd name="adj1" fmla="val -17976"/>
              <a:gd name="adj2" fmla="val 8868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other users like candidat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Rounded Rectangle 31"/>
          <p:cNvGrpSpPr/>
          <p:nvPr/>
        </p:nvGrpSpPr>
        <p:grpSpPr>
          <a:xfrm>
            <a:off x="950760" y="1884240"/>
            <a:ext cx="2054520" cy="614520"/>
            <a:chOff x="950760" y="1884240"/>
            <a:chExt cx="2054520" cy="614520"/>
          </a:xfrm>
        </p:grpSpPr>
        <p:pic>
          <p:nvPicPr>
            <p:cNvPr id="557" name="Rounded Rectangle 31" descr=""/>
            <p:cNvPicPr/>
            <p:nvPr/>
          </p:nvPicPr>
          <p:blipFill>
            <a:blip r:embed="rId2"/>
            <a:stretch/>
          </p:blipFill>
          <p:spPr>
            <a:xfrm>
              <a:off x="950760" y="1884240"/>
              <a:ext cx="20545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1033560" y="1941480"/>
              <a:ext cx="189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 profi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Rounded Rectangle 32"/>
          <p:cNvGrpSpPr/>
          <p:nvPr/>
        </p:nvGrpSpPr>
        <p:grpSpPr>
          <a:xfrm>
            <a:off x="950760" y="2895480"/>
            <a:ext cx="2054520" cy="609840"/>
            <a:chOff x="950760" y="2895480"/>
            <a:chExt cx="2054520" cy="609840"/>
          </a:xfrm>
        </p:grpSpPr>
        <p:pic>
          <p:nvPicPr>
            <p:cNvPr id="560" name="Rounded Rectangle 32" descr=""/>
            <p:cNvPicPr/>
            <p:nvPr/>
          </p:nvPicPr>
          <p:blipFill>
            <a:blip r:embed="rId3"/>
            <a:stretch/>
          </p:blipFill>
          <p:spPr>
            <a:xfrm>
              <a:off x="950760" y="2895480"/>
              <a:ext cx="20545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1033560" y="2949480"/>
              <a:ext cx="189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 profi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ounded Rectangle 33"/>
          <p:cNvSpPr/>
          <p:nvPr/>
        </p:nvSpPr>
        <p:spPr>
          <a:xfrm>
            <a:off x="4968720" y="1916280"/>
            <a:ext cx="1943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ounded Rectangle 34"/>
          <p:cNvSpPr/>
          <p:nvPr/>
        </p:nvSpPr>
        <p:spPr>
          <a:xfrm>
            <a:off x="4968720" y="2924280"/>
            <a:ext cx="1943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4B4-431A-43DF-B9D2-370966E5DE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612720" y="204480"/>
            <a:ext cx="1036944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reliminary Results on last year’s data: 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Opinion-based methods are more effectiv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5" descr="E:\Dropbox\trec2013\slides\chart.png"/>
          <p:cNvPicPr/>
          <p:nvPr/>
        </p:nvPicPr>
        <p:blipFill>
          <a:blip r:embed="rId1"/>
          <a:stretch/>
        </p:blipFill>
        <p:spPr>
          <a:xfrm>
            <a:off x="971640" y="13413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Overview of Our 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7CEA-5BC8-45B6-A95B-6896804DBA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20" descr="C:\Users\ypeilin\Desktop\图片1.png"/>
          <p:cNvPicPr/>
          <p:nvPr/>
        </p:nvPicPr>
        <p:blipFill>
          <a:blip r:embed="rId1"/>
          <a:stretch/>
        </p:blipFill>
        <p:spPr>
          <a:xfrm>
            <a:off x="250920" y="1339920"/>
            <a:ext cx="669960" cy="609480"/>
          </a:xfrm>
          <a:prstGeom prst="rect">
            <a:avLst/>
          </a:prstGeom>
          <a:ln w="0">
            <a:noFill/>
          </a:ln>
        </p:spPr>
      </p:pic>
      <p:cxnSp>
        <p:nvCxnSpPr>
          <p:cNvPr id="570" name="直接箭头连接符 3"/>
          <p:cNvCxnSpPr>
            <a:stCxn id="569" idx="3"/>
            <a:endCxn id="571" idx="1"/>
          </p:cNvCxnSpPr>
          <p:nvPr/>
        </p:nvCxnSpPr>
        <p:spPr>
          <a:xfrm>
            <a:off x="920520" y="1644120"/>
            <a:ext cx="8434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1" name="TextBox 4"/>
          <p:cNvSpPr/>
          <p:nvPr/>
        </p:nvSpPr>
        <p:spPr>
          <a:xfrm>
            <a:off x="1763640" y="1136520"/>
            <a:ext cx="144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Candidate Suggestion Craw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1258920" y="551664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Exampl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8"/>
          <p:cNvSpPr/>
          <p:nvPr/>
        </p:nvSpPr>
        <p:spPr>
          <a:xfrm>
            <a:off x="4643280" y="1290600"/>
            <a:ext cx="144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Suggestion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4" name="直接箭头连接符 19"/>
          <p:cNvCxnSpPr>
            <a:stCxn id="571" idx="3"/>
            <a:endCxn id="573" idx="1"/>
          </p:cNvCxnSpPr>
          <p:nvPr/>
        </p:nvCxnSpPr>
        <p:spPr>
          <a:xfrm>
            <a:off x="3203280" y="1644120"/>
            <a:ext cx="14403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5" name="TextBox 23"/>
          <p:cNvSpPr/>
          <p:nvPr/>
        </p:nvSpPr>
        <p:spPr>
          <a:xfrm>
            <a:off x="4643280" y="5529240"/>
            <a:ext cx="144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User Profile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6" name="直接箭头连接符 24"/>
          <p:cNvCxnSpPr>
            <a:stCxn id="572" idx="3"/>
            <a:endCxn id="575" idx="1"/>
          </p:cNvCxnSpPr>
          <p:nvPr/>
        </p:nvCxnSpPr>
        <p:spPr>
          <a:xfrm>
            <a:off x="2771280" y="5870160"/>
            <a:ext cx="1872360" cy="13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7" name="TextBox 28"/>
          <p:cNvSpPr/>
          <p:nvPr/>
        </p:nvSpPr>
        <p:spPr>
          <a:xfrm>
            <a:off x="5940360" y="2792520"/>
            <a:ext cx="1440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Candidates Ra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29"/>
          <p:cNvSpPr/>
          <p:nvPr/>
        </p:nvSpPr>
        <p:spPr>
          <a:xfrm>
            <a:off x="7596360" y="2792520"/>
            <a:ext cx="1439640" cy="703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宋体"/>
              </a:rPr>
              <a:t>Description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9" name="直接箭头连接符 30"/>
          <p:cNvCxnSpPr>
            <a:stCxn id="573" idx="3"/>
            <a:endCxn id="577" idx="0"/>
          </p:cNvCxnSpPr>
          <p:nvPr/>
        </p:nvCxnSpPr>
        <p:spPr>
          <a:xfrm>
            <a:off x="6084360" y="1644120"/>
            <a:ext cx="575640" cy="1148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0" name="直接箭头连接符 33"/>
          <p:cNvCxnSpPr>
            <a:stCxn id="575" idx="3"/>
            <a:endCxn id="577" idx="2"/>
          </p:cNvCxnSpPr>
          <p:nvPr/>
        </p:nvCxnSpPr>
        <p:spPr>
          <a:xfrm flipV="1">
            <a:off x="6084360" y="3499560"/>
            <a:ext cx="575640" cy="2383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1" name="直接箭头连接符 36"/>
          <p:cNvCxnSpPr>
            <a:stCxn id="577" idx="3"/>
            <a:endCxn id="578" idx="1"/>
          </p:cNvCxnSpPr>
          <p:nvPr/>
        </p:nvCxnSpPr>
        <p:spPr>
          <a:xfrm flipV="1">
            <a:off x="7380360" y="3145680"/>
            <a:ext cx="2167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2" name="TextBox 8"/>
          <p:cNvSpPr/>
          <p:nvPr/>
        </p:nvSpPr>
        <p:spPr>
          <a:xfrm>
            <a:off x="3132000" y="9208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Candidat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ersonaliz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Description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50560" y="1672920"/>
            <a:ext cx="4392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”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ed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d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2383-7E42-48F3-A4D4-B872CFA5AA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2"/>
          <p:cNvGrpSpPr/>
          <p:nvPr/>
        </p:nvGrpSpPr>
        <p:grpSpPr>
          <a:xfrm>
            <a:off x="611280" y="1673280"/>
            <a:ext cx="6624720" cy="1152360"/>
            <a:chOff x="611280" y="1673280"/>
            <a:chExt cx="6624720" cy="1152360"/>
          </a:xfrm>
        </p:grpSpPr>
        <p:sp>
          <p:nvSpPr>
            <p:cNvPr id="587" name="TextBox 1"/>
            <p:cNvSpPr/>
            <p:nvPr/>
          </p:nvSpPr>
          <p:spPr>
            <a:xfrm>
              <a:off x="4608360" y="2033280"/>
              <a:ext cx="26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What is this place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Rounded Rectangle 1"/>
            <p:cNvSpPr/>
            <p:nvPr/>
          </p:nvSpPr>
          <p:spPr>
            <a:xfrm>
              <a:off x="611280" y="1673280"/>
              <a:ext cx="3888000" cy="1152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0066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Group 3"/>
          <p:cNvGrpSpPr/>
          <p:nvPr/>
        </p:nvGrpSpPr>
        <p:grpSpPr>
          <a:xfrm>
            <a:off x="611280" y="2897280"/>
            <a:ext cx="8532720" cy="576000"/>
            <a:chOff x="611280" y="2897280"/>
            <a:chExt cx="8532720" cy="576000"/>
          </a:xfrm>
        </p:grpSpPr>
        <p:sp>
          <p:nvSpPr>
            <p:cNvPr id="590" name="Rounded Rectangle 6"/>
            <p:cNvSpPr/>
            <p:nvPr/>
          </p:nvSpPr>
          <p:spPr>
            <a:xfrm>
              <a:off x="611280" y="2897280"/>
              <a:ext cx="388944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TextBox 1"/>
            <p:cNvSpPr/>
            <p:nvPr/>
          </p:nvSpPr>
          <p:spPr>
            <a:xfrm>
              <a:off x="4572000" y="289728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Calibri"/>
                  <a:ea typeface="宋体"/>
                </a:rPr>
                <a:t>Why do other people like it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Group 5"/>
          <p:cNvGrpSpPr/>
          <p:nvPr/>
        </p:nvGrpSpPr>
        <p:grpSpPr>
          <a:xfrm>
            <a:off x="611280" y="3500280"/>
            <a:ext cx="9217080" cy="505080"/>
            <a:chOff x="611280" y="3500280"/>
            <a:chExt cx="9217080" cy="505080"/>
          </a:xfrm>
        </p:grpSpPr>
        <p:sp>
          <p:nvSpPr>
            <p:cNvPr id="593" name="Rounded Rectangle 8"/>
            <p:cNvSpPr/>
            <p:nvPr/>
          </p:nvSpPr>
          <p:spPr>
            <a:xfrm>
              <a:off x="611280" y="3500280"/>
              <a:ext cx="3887640" cy="5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8480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TextBox 1"/>
            <p:cNvSpPr/>
            <p:nvPr/>
          </p:nvSpPr>
          <p:spPr>
            <a:xfrm>
              <a:off x="4572000" y="3500280"/>
              <a:ext cx="52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Calibri"/>
                  <a:ea typeface="宋体"/>
                </a:rPr>
                <a:t>Why is it recommended for YOU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5" name="Group 24"/>
          <p:cNvGrpSpPr/>
          <p:nvPr/>
        </p:nvGrpSpPr>
        <p:grpSpPr>
          <a:xfrm>
            <a:off x="611280" y="5019480"/>
            <a:ext cx="2448000" cy="784440"/>
            <a:chOff x="611280" y="5019480"/>
            <a:chExt cx="2448000" cy="784440"/>
          </a:xfrm>
        </p:grpSpPr>
        <p:sp>
          <p:nvSpPr>
            <p:cNvPr id="596" name="TextBox 8"/>
            <p:cNvSpPr/>
            <p:nvPr/>
          </p:nvSpPr>
          <p:spPr>
            <a:xfrm>
              <a:off x="611280" y="54050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Example suggestio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7" name="Straight Arrow Connector 11"/>
            <p:cNvCxnSpPr/>
            <p:nvPr/>
          </p:nvCxnSpPr>
          <p:spPr>
            <a:xfrm>
              <a:off x="1690560" y="5019480"/>
              <a:ext cx="1080" cy="4258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598" name="Group 27"/>
          <p:cNvGrpSpPr/>
          <p:nvPr/>
        </p:nvGrpSpPr>
        <p:grpSpPr>
          <a:xfrm>
            <a:off x="3419640" y="5084640"/>
            <a:ext cx="4321080" cy="687240"/>
            <a:chOff x="3419640" y="5084640"/>
            <a:chExt cx="4321080" cy="687240"/>
          </a:xfrm>
        </p:grpSpPr>
        <p:sp>
          <p:nvSpPr>
            <p:cNvPr id="599" name="TextBox 8"/>
            <p:cNvSpPr/>
            <p:nvPr/>
          </p:nvSpPr>
          <p:spPr>
            <a:xfrm>
              <a:off x="341964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Web si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8"/>
            <p:cNvSpPr/>
            <p:nvPr/>
          </p:nvSpPr>
          <p:spPr>
            <a:xfrm>
              <a:off x="478800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teg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8"/>
            <p:cNvSpPr/>
            <p:nvPr/>
          </p:nvSpPr>
          <p:spPr>
            <a:xfrm>
              <a:off x="622908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Review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02" name="Straight Arrow Connector 25"/>
            <p:cNvCxnSpPr/>
            <p:nvPr/>
          </p:nvCxnSpPr>
          <p:spPr>
            <a:xfrm>
              <a:off x="5651280" y="5084640"/>
              <a:ext cx="1080" cy="4262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03" name="Straight Arrow Connector 26"/>
            <p:cNvCxnSpPr/>
            <p:nvPr/>
          </p:nvCxnSpPr>
          <p:spPr>
            <a:xfrm flipH="1">
              <a:off x="4571640" y="5084640"/>
              <a:ext cx="72144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04" name="Straight Arrow Connector 28"/>
            <p:cNvCxnSpPr/>
            <p:nvPr/>
          </p:nvCxnSpPr>
          <p:spPr>
            <a:xfrm>
              <a:off x="5940720" y="5084640"/>
              <a:ext cx="100872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605" name="Group 29"/>
          <p:cNvGrpSpPr/>
          <p:nvPr/>
        </p:nvGrpSpPr>
        <p:grpSpPr>
          <a:xfrm>
            <a:off x="108000" y="4437000"/>
            <a:ext cx="8640720" cy="681120"/>
            <a:chOff x="108000" y="4437000"/>
            <a:chExt cx="8640720" cy="681120"/>
          </a:xfrm>
        </p:grpSpPr>
        <p:pic>
          <p:nvPicPr>
            <p:cNvPr id="606" name="Picture 2" descr="blue user icon"/>
            <p:cNvPicPr/>
            <p:nvPr/>
          </p:nvPicPr>
          <p:blipFill>
            <a:blip r:embed="rId1"/>
            <a:stretch/>
          </p:blipFill>
          <p:spPr>
            <a:xfrm>
              <a:off x="1404000" y="4508640"/>
              <a:ext cx="510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20" descr="C:\Users\ypeilin\Desktop\图片1.png"/>
            <p:cNvPicPr/>
            <p:nvPr/>
          </p:nvPicPr>
          <p:blipFill>
            <a:blip r:embed="rId2"/>
            <a:stretch/>
          </p:blipFill>
          <p:spPr>
            <a:xfrm>
              <a:off x="5292360" y="4508640"/>
              <a:ext cx="66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Box 8"/>
            <p:cNvSpPr/>
            <p:nvPr/>
          </p:nvSpPr>
          <p:spPr>
            <a:xfrm>
              <a:off x="108000" y="4508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TextBox 8"/>
            <p:cNvSpPr/>
            <p:nvPr/>
          </p:nvSpPr>
          <p:spPr>
            <a:xfrm>
              <a:off x="5940720" y="443700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ndidate sugges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50560" y="1672920"/>
            <a:ext cx="4392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”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Highlighted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onclud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ABFA-6C8B-4BE8-9CC7-415F2B47BDB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2" name="Group 2"/>
          <p:cNvGrpSpPr/>
          <p:nvPr/>
        </p:nvGrpSpPr>
        <p:grpSpPr>
          <a:xfrm>
            <a:off x="611280" y="1673280"/>
            <a:ext cx="6624720" cy="1152360"/>
            <a:chOff x="611280" y="1673280"/>
            <a:chExt cx="6624720" cy="1152360"/>
          </a:xfrm>
        </p:grpSpPr>
        <p:sp>
          <p:nvSpPr>
            <p:cNvPr id="613" name="TextBox 1"/>
            <p:cNvSpPr/>
            <p:nvPr/>
          </p:nvSpPr>
          <p:spPr>
            <a:xfrm>
              <a:off x="4608360" y="2033280"/>
              <a:ext cx="26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What is this place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Rounded Rectangle 1"/>
            <p:cNvSpPr/>
            <p:nvPr/>
          </p:nvSpPr>
          <p:spPr>
            <a:xfrm>
              <a:off x="611280" y="1673280"/>
              <a:ext cx="3888000" cy="1152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0066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Group 24"/>
          <p:cNvGrpSpPr/>
          <p:nvPr/>
        </p:nvGrpSpPr>
        <p:grpSpPr>
          <a:xfrm>
            <a:off x="611280" y="5019480"/>
            <a:ext cx="2448000" cy="784440"/>
            <a:chOff x="611280" y="5019480"/>
            <a:chExt cx="2448000" cy="784440"/>
          </a:xfrm>
        </p:grpSpPr>
        <p:sp>
          <p:nvSpPr>
            <p:cNvPr id="616" name="TextBox 8"/>
            <p:cNvSpPr/>
            <p:nvPr/>
          </p:nvSpPr>
          <p:spPr>
            <a:xfrm>
              <a:off x="611280" y="54050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Example suggestio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7" name="Straight Arrow Connector 11"/>
            <p:cNvCxnSpPr/>
            <p:nvPr/>
          </p:nvCxnSpPr>
          <p:spPr>
            <a:xfrm>
              <a:off x="1690560" y="5019480"/>
              <a:ext cx="1080" cy="4258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618" name="Group 27"/>
          <p:cNvGrpSpPr/>
          <p:nvPr/>
        </p:nvGrpSpPr>
        <p:grpSpPr>
          <a:xfrm>
            <a:off x="3419640" y="5084640"/>
            <a:ext cx="4321080" cy="687240"/>
            <a:chOff x="3419640" y="5084640"/>
            <a:chExt cx="4321080" cy="687240"/>
          </a:xfrm>
        </p:grpSpPr>
        <p:sp>
          <p:nvSpPr>
            <p:cNvPr id="619" name="TextBox 8"/>
            <p:cNvSpPr/>
            <p:nvPr/>
          </p:nvSpPr>
          <p:spPr>
            <a:xfrm>
              <a:off x="341964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Web si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TextBox 8"/>
            <p:cNvSpPr/>
            <p:nvPr/>
          </p:nvSpPr>
          <p:spPr>
            <a:xfrm>
              <a:off x="478800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teg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TextBox 8"/>
            <p:cNvSpPr/>
            <p:nvPr/>
          </p:nvSpPr>
          <p:spPr>
            <a:xfrm>
              <a:off x="622908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Review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22" name="Straight Arrow Connector 25"/>
            <p:cNvCxnSpPr/>
            <p:nvPr/>
          </p:nvCxnSpPr>
          <p:spPr>
            <a:xfrm>
              <a:off x="5651280" y="5084640"/>
              <a:ext cx="1080" cy="4262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26"/>
            <p:cNvCxnSpPr/>
            <p:nvPr/>
          </p:nvCxnSpPr>
          <p:spPr>
            <a:xfrm flipH="1">
              <a:off x="4571640" y="5084640"/>
              <a:ext cx="72144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28"/>
            <p:cNvCxnSpPr/>
            <p:nvPr/>
          </p:nvCxnSpPr>
          <p:spPr>
            <a:xfrm>
              <a:off x="5940720" y="5084640"/>
              <a:ext cx="100872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625" name="Group 29"/>
          <p:cNvGrpSpPr/>
          <p:nvPr/>
        </p:nvGrpSpPr>
        <p:grpSpPr>
          <a:xfrm>
            <a:off x="108000" y="4437000"/>
            <a:ext cx="8640720" cy="681120"/>
            <a:chOff x="108000" y="4437000"/>
            <a:chExt cx="8640720" cy="681120"/>
          </a:xfrm>
        </p:grpSpPr>
        <p:pic>
          <p:nvPicPr>
            <p:cNvPr id="626" name="Picture 2" descr="blue user icon"/>
            <p:cNvPicPr/>
            <p:nvPr/>
          </p:nvPicPr>
          <p:blipFill>
            <a:blip r:embed="rId1"/>
            <a:stretch/>
          </p:blipFill>
          <p:spPr>
            <a:xfrm>
              <a:off x="1404000" y="4508640"/>
              <a:ext cx="510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20" descr="C:\Users\ypeilin\Desktop\图片1.png"/>
            <p:cNvPicPr/>
            <p:nvPr/>
          </p:nvPicPr>
          <p:blipFill>
            <a:blip r:embed="rId2"/>
            <a:stretch/>
          </p:blipFill>
          <p:spPr>
            <a:xfrm>
              <a:off x="5292360" y="4508640"/>
              <a:ext cx="66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Box 8"/>
            <p:cNvSpPr/>
            <p:nvPr/>
          </p:nvSpPr>
          <p:spPr>
            <a:xfrm>
              <a:off x="108000" y="4508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TextBox 8"/>
            <p:cNvSpPr/>
            <p:nvPr/>
          </p:nvSpPr>
          <p:spPr>
            <a:xfrm>
              <a:off x="5940720" y="443700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ndidate sugges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Rounded Rectangle 32"/>
          <p:cNvSpPr/>
          <p:nvPr/>
        </p:nvSpPr>
        <p:spPr>
          <a:xfrm>
            <a:off x="4859280" y="5373720"/>
            <a:ext cx="1432080" cy="45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00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ounded Rectangle 33"/>
          <p:cNvSpPr/>
          <p:nvPr/>
        </p:nvSpPr>
        <p:spPr>
          <a:xfrm>
            <a:off x="3635280" y="5354640"/>
            <a:ext cx="1081080" cy="45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006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2" name="Group 13"/>
          <p:cNvGrpSpPr/>
          <p:nvPr/>
        </p:nvGrpSpPr>
        <p:grpSpPr>
          <a:xfrm>
            <a:off x="4067280" y="5373720"/>
            <a:ext cx="3457440" cy="1150560"/>
            <a:chOff x="4067280" y="5373720"/>
            <a:chExt cx="3457440" cy="1150560"/>
          </a:xfrm>
        </p:grpSpPr>
        <p:sp>
          <p:nvSpPr>
            <p:cNvPr id="633" name="Rounded Rectangle 34"/>
            <p:cNvSpPr/>
            <p:nvPr/>
          </p:nvSpPr>
          <p:spPr>
            <a:xfrm>
              <a:off x="6443640" y="5373720"/>
              <a:ext cx="1081080" cy="450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0066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Curved Down Arrow 12"/>
            <p:cNvSpPr/>
            <p:nvPr/>
          </p:nvSpPr>
          <p:spPr>
            <a:xfrm rot="10800000">
              <a:off x="4067280" y="5876640"/>
              <a:ext cx="2952720" cy="647640"/>
            </a:xfrm>
            <a:custGeom>
              <a:avLst/>
              <a:gdLst>
                <a:gd name="textAreaLeft" fmla="*/ 677160 w 2952720"/>
                <a:gd name="textAreaRight" fmla="*/ 2194200 w 295272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911" hR="21600" stAng="10800000" swAng="5400000"/>
                  <a:lnTo>
                    <a:pt x="11097" y="0"/>
                  </a:lnTo>
                  <a:arcTo wR="9911" hR="21600" stAng="-5400000" swAng="3637892"/>
                  <a:lnTo>
                    <a:pt x="21285" y="16200"/>
                  </a:lnTo>
                  <a:lnTo>
                    <a:pt x="20414" y="21600"/>
                  </a:lnTo>
                  <a:lnTo>
                    <a:pt x="18913" y="16200"/>
                  </a:lnTo>
                  <a:lnTo>
                    <a:pt x="19506" y="16200"/>
                  </a:lnTo>
                  <a:arcTo wR="9911" hR="21600" stAng="-1762108" swAng="-3543368"/>
                  <a:lnTo>
                    <a:pt x="10504" y="39"/>
                  </a:lnTo>
                  <a:arcTo wR="9911" hR="21600" stAng="-5494524" swAng="-5305476"/>
                  <a:close/>
                </a:path>
                <a:path fill="darkenLess" w="21600" h="21600">
                  <a:moveTo>
                    <a:pt x="0" y="21600"/>
                  </a:moveTo>
                  <a:arcTo wR="9911" hR="21600" stAng="10800000" swAng="5400000"/>
                  <a:lnTo>
                    <a:pt x="9911" y="0"/>
                  </a:lnTo>
                  <a:arcTo wR="9911" hR="21600" stAng="-5400000" swAng="94524"/>
                  <a:lnTo>
                    <a:pt x="10504" y="39"/>
                  </a:lnTo>
                  <a:arcTo wR="9911" hR="21600" stAng="-5494524" swAng="-5305476"/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660066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标题 1"/>
          <p:cNvSpPr/>
          <p:nvPr/>
        </p:nvSpPr>
        <p:spPr>
          <a:xfrm>
            <a:off x="250920" y="54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宋体"/>
              </a:rPr>
              <a:t>Personaliz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宋体"/>
              </a:rPr>
              <a:t>Description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250560" y="1672920"/>
            <a:ext cx="4392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”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ed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d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9973-31F2-4E8E-92C0-9997561760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611280" y="2897280"/>
            <a:ext cx="8532720" cy="576000"/>
            <a:chOff x="611280" y="2897280"/>
            <a:chExt cx="8532720" cy="576000"/>
          </a:xfrm>
        </p:grpSpPr>
        <p:sp>
          <p:nvSpPr>
            <p:cNvPr id="639" name="Rounded Rectangle 6"/>
            <p:cNvSpPr/>
            <p:nvPr/>
          </p:nvSpPr>
          <p:spPr>
            <a:xfrm>
              <a:off x="611280" y="2897280"/>
              <a:ext cx="388944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TextBox 1"/>
            <p:cNvSpPr/>
            <p:nvPr/>
          </p:nvSpPr>
          <p:spPr>
            <a:xfrm>
              <a:off x="4572000" y="289728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Calibri"/>
                  <a:ea typeface="宋体"/>
                </a:rPr>
                <a:t>Why do other people like it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24"/>
          <p:cNvGrpSpPr/>
          <p:nvPr/>
        </p:nvGrpSpPr>
        <p:grpSpPr>
          <a:xfrm>
            <a:off x="611280" y="5019480"/>
            <a:ext cx="2448000" cy="784440"/>
            <a:chOff x="611280" y="5019480"/>
            <a:chExt cx="2448000" cy="784440"/>
          </a:xfrm>
        </p:grpSpPr>
        <p:sp>
          <p:nvSpPr>
            <p:cNvPr id="642" name="TextBox 8"/>
            <p:cNvSpPr/>
            <p:nvPr/>
          </p:nvSpPr>
          <p:spPr>
            <a:xfrm>
              <a:off x="611280" y="54050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Example suggestio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43" name="Straight Arrow Connector 11"/>
            <p:cNvCxnSpPr/>
            <p:nvPr/>
          </p:nvCxnSpPr>
          <p:spPr>
            <a:xfrm>
              <a:off x="1690560" y="5019480"/>
              <a:ext cx="1080" cy="4258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644" name="Group 27"/>
          <p:cNvGrpSpPr/>
          <p:nvPr/>
        </p:nvGrpSpPr>
        <p:grpSpPr>
          <a:xfrm>
            <a:off x="3419640" y="5084640"/>
            <a:ext cx="4321080" cy="687240"/>
            <a:chOff x="3419640" y="5084640"/>
            <a:chExt cx="4321080" cy="687240"/>
          </a:xfrm>
        </p:grpSpPr>
        <p:sp>
          <p:nvSpPr>
            <p:cNvPr id="645" name="TextBox 8"/>
            <p:cNvSpPr/>
            <p:nvPr/>
          </p:nvSpPr>
          <p:spPr>
            <a:xfrm>
              <a:off x="341964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Web si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TextBox 8"/>
            <p:cNvSpPr/>
            <p:nvPr/>
          </p:nvSpPr>
          <p:spPr>
            <a:xfrm>
              <a:off x="478800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teg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TextBox 8"/>
            <p:cNvSpPr/>
            <p:nvPr/>
          </p:nvSpPr>
          <p:spPr>
            <a:xfrm>
              <a:off x="622908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Review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48" name="Straight Arrow Connector 25"/>
            <p:cNvCxnSpPr/>
            <p:nvPr/>
          </p:nvCxnSpPr>
          <p:spPr>
            <a:xfrm>
              <a:off x="5651280" y="5084640"/>
              <a:ext cx="1080" cy="4262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49" name="Straight Arrow Connector 26"/>
            <p:cNvCxnSpPr/>
            <p:nvPr/>
          </p:nvCxnSpPr>
          <p:spPr>
            <a:xfrm flipH="1">
              <a:off x="4571640" y="5084640"/>
              <a:ext cx="72144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50" name="Straight Arrow Connector 28"/>
            <p:cNvCxnSpPr/>
            <p:nvPr/>
          </p:nvCxnSpPr>
          <p:spPr>
            <a:xfrm>
              <a:off x="5940720" y="5084640"/>
              <a:ext cx="100872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651" name="Group 29"/>
          <p:cNvGrpSpPr/>
          <p:nvPr/>
        </p:nvGrpSpPr>
        <p:grpSpPr>
          <a:xfrm>
            <a:off x="108000" y="4437000"/>
            <a:ext cx="8640720" cy="681120"/>
            <a:chOff x="108000" y="4437000"/>
            <a:chExt cx="8640720" cy="681120"/>
          </a:xfrm>
        </p:grpSpPr>
        <p:pic>
          <p:nvPicPr>
            <p:cNvPr id="652" name="Picture 2" descr="blue user icon"/>
            <p:cNvPicPr/>
            <p:nvPr/>
          </p:nvPicPr>
          <p:blipFill>
            <a:blip r:embed="rId1"/>
            <a:stretch/>
          </p:blipFill>
          <p:spPr>
            <a:xfrm>
              <a:off x="1404000" y="4508640"/>
              <a:ext cx="510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20" descr="C:\Users\ypeilin\Desktop\图片1.png"/>
            <p:cNvPicPr/>
            <p:nvPr/>
          </p:nvPicPr>
          <p:blipFill>
            <a:blip r:embed="rId2"/>
            <a:stretch/>
          </p:blipFill>
          <p:spPr>
            <a:xfrm>
              <a:off x="5292360" y="4508640"/>
              <a:ext cx="66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8"/>
            <p:cNvSpPr/>
            <p:nvPr/>
          </p:nvSpPr>
          <p:spPr>
            <a:xfrm>
              <a:off x="108000" y="4508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TextBox 8"/>
            <p:cNvSpPr/>
            <p:nvPr/>
          </p:nvSpPr>
          <p:spPr>
            <a:xfrm>
              <a:off x="5940720" y="443700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ndidate sugges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6" name="Rounded Rectangle 32"/>
          <p:cNvSpPr/>
          <p:nvPr/>
        </p:nvSpPr>
        <p:spPr>
          <a:xfrm>
            <a:off x="6372360" y="5445000"/>
            <a:ext cx="115236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ersonaliz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Description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250560" y="1672920"/>
            <a:ext cx="4392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ial”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ed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ding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6AF-AFE4-4C72-B274-726782FB16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Group 5"/>
          <p:cNvGrpSpPr/>
          <p:nvPr/>
        </p:nvGrpSpPr>
        <p:grpSpPr>
          <a:xfrm>
            <a:off x="611280" y="3500280"/>
            <a:ext cx="9217080" cy="505080"/>
            <a:chOff x="611280" y="3500280"/>
            <a:chExt cx="9217080" cy="505080"/>
          </a:xfrm>
        </p:grpSpPr>
        <p:sp>
          <p:nvSpPr>
            <p:cNvPr id="661" name="Rounded Rectangle 8"/>
            <p:cNvSpPr/>
            <p:nvPr/>
          </p:nvSpPr>
          <p:spPr>
            <a:xfrm>
              <a:off x="611280" y="3500280"/>
              <a:ext cx="3887640" cy="505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8480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TextBox 1"/>
            <p:cNvSpPr/>
            <p:nvPr/>
          </p:nvSpPr>
          <p:spPr>
            <a:xfrm>
              <a:off x="4572000" y="3500280"/>
              <a:ext cx="52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Calibri"/>
                  <a:ea typeface="宋体"/>
                </a:rPr>
                <a:t>Why is it recommended for YOU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3" name="Group 24"/>
          <p:cNvGrpSpPr/>
          <p:nvPr/>
        </p:nvGrpSpPr>
        <p:grpSpPr>
          <a:xfrm>
            <a:off x="611280" y="5019480"/>
            <a:ext cx="2448000" cy="784440"/>
            <a:chOff x="611280" y="5019480"/>
            <a:chExt cx="2448000" cy="784440"/>
          </a:xfrm>
        </p:grpSpPr>
        <p:sp>
          <p:nvSpPr>
            <p:cNvPr id="664" name="TextBox 8"/>
            <p:cNvSpPr/>
            <p:nvPr/>
          </p:nvSpPr>
          <p:spPr>
            <a:xfrm>
              <a:off x="611280" y="54050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Example suggestio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5" name="Straight Arrow Connector 11"/>
            <p:cNvCxnSpPr/>
            <p:nvPr/>
          </p:nvCxnSpPr>
          <p:spPr>
            <a:xfrm>
              <a:off x="1690560" y="5019480"/>
              <a:ext cx="1080" cy="4258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666" name="Group 27"/>
          <p:cNvGrpSpPr/>
          <p:nvPr/>
        </p:nvGrpSpPr>
        <p:grpSpPr>
          <a:xfrm>
            <a:off x="3419640" y="5084640"/>
            <a:ext cx="4321080" cy="687240"/>
            <a:chOff x="3419640" y="5084640"/>
            <a:chExt cx="4321080" cy="687240"/>
          </a:xfrm>
        </p:grpSpPr>
        <p:sp>
          <p:nvSpPr>
            <p:cNvPr id="667" name="TextBox 8"/>
            <p:cNvSpPr/>
            <p:nvPr/>
          </p:nvSpPr>
          <p:spPr>
            <a:xfrm>
              <a:off x="341964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Web si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TextBox 8"/>
            <p:cNvSpPr/>
            <p:nvPr/>
          </p:nvSpPr>
          <p:spPr>
            <a:xfrm>
              <a:off x="478800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teg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TextBox 8"/>
            <p:cNvSpPr/>
            <p:nvPr/>
          </p:nvSpPr>
          <p:spPr>
            <a:xfrm>
              <a:off x="6229080" y="5373000"/>
              <a:ext cx="15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Review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70" name="Straight Arrow Connector 25"/>
            <p:cNvCxnSpPr/>
            <p:nvPr/>
          </p:nvCxnSpPr>
          <p:spPr>
            <a:xfrm>
              <a:off x="5651280" y="5084640"/>
              <a:ext cx="1080" cy="42624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71" name="Straight Arrow Connector 26"/>
            <p:cNvCxnSpPr/>
            <p:nvPr/>
          </p:nvCxnSpPr>
          <p:spPr>
            <a:xfrm flipH="1">
              <a:off x="4571640" y="5084640"/>
              <a:ext cx="72144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672" name="Straight Arrow Connector 28"/>
            <p:cNvCxnSpPr/>
            <p:nvPr/>
          </p:nvCxnSpPr>
          <p:spPr>
            <a:xfrm>
              <a:off x="5940720" y="5084640"/>
              <a:ext cx="1008720" cy="4327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</p:grpSp>
      <p:grpSp>
        <p:nvGrpSpPr>
          <p:cNvPr id="673" name="Group 29"/>
          <p:cNvGrpSpPr/>
          <p:nvPr/>
        </p:nvGrpSpPr>
        <p:grpSpPr>
          <a:xfrm>
            <a:off x="108000" y="4437000"/>
            <a:ext cx="8640720" cy="681120"/>
            <a:chOff x="108000" y="4437000"/>
            <a:chExt cx="8640720" cy="681120"/>
          </a:xfrm>
        </p:grpSpPr>
        <p:pic>
          <p:nvPicPr>
            <p:cNvPr id="674" name="Picture 2" descr="blue user icon"/>
            <p:cNvPicPr/>
            <p:nvPr/>
          </p:nvPicPr>
          <p:blipFill>
            <a:blip r:embed="rId1"/>
            <a:stretch/>
          </p:blipFill>
          <p:spPr>
            <a:xfrm>
              <a:off x="1404000" y="4508640"/>
              <a:ext cx="510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20" descr="C:\Users\ypeilin\Desktop\图片1.png"/>
            <p:cNvPicPr/>
            <p:nvPr/>
          </p:nvPicPr>
          <p:blipFill>
            <a:blip r:embed="rId2"/>
            <a:stretch/>
          </p:blipFill>
          <p:spPr>
            <a:xfrm>
              <a:off x="5292360" y="4508640"/>
              <a:ext cx="66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Box 8"/>
            <p:cNvSpPr/>
            <p:nvPr/>
          </p:nvSpPr>
          <p:spPr>
            <a:xfrm>
              <a:off x="108000" y="4508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8"/>
            <p:cNvSpPr/>
            <p:nvPr/>
          </p:nvSpPr>
          <p:spPr>
            <a:xfrm>
              <a:off x="5940720" y="443700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  <a:ea typeface="宋体"/>
                </a:rPr>
                <a:t>Candidate sugges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Rounded Rectangle 32"/>
          <p:cNvSpPr/>
          <p:nvPr/>
        </p:nvSpPr>
        <p:spPr>
          <a:xfrm>
            <a:off x="468360" y="5373720"/>
            <a:ext cx="251928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8480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Rounded Rectangle 33"/>
          <p:cNvSpPr/>
          <p:nvPr/>
        </p:nvSpPr>
        <p:spPr>
          <a:xfrm>
            <a:off x="4932360" y="5373720"/>
            <a:ext cx="122400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8480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Curved Down Arrow 36"/>
          <p:cNvSpPr/>
          <p:nvPr/>
        </p:nvSpPr>
        <p:spPr>
          <a:xfrm rot="10800000">
            <a:off x="1332000" y="5876640"/>
            <a:ext cx="4248000" cy="647640"/>
          </a:xfrm>
          <a:custGeom>
            <a:avLst/>
            <a:gdLst>
              <a:gd name="textAreaLeft" fmla="*/ 1001160 w 4248000"/>
              <a:gd name="textAreaRight" fmla="*/ 3165840 w 424800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3" hR="21600" stAng="10800000" swAng="5400000"/>
                <a:lnTo>
                  <a:pt x="11006" y="0"/>
                </a:lnTo>
                <a:arcTo wR="10183" hR="21600" stAng="-5400000" swAng="3677392"/>
                <a:lnTo>
                  <a:pt x="21277" y="16200"/>
                </a:lnTo>
                <a:lnTo>
                  <a:pt x="20777" y="21600"/>
                </a:lnTo>
                <a:lnTo>
                  <a:pt x="19630" y="16200"/>
                </a:lnTo>
                <a:lnTo>
                  <a:pt x="20042" y="16200"/>
                </a:lnTo>
                <a:arcTo wR="10183" hR="21600" stAng="-1722608" swAng="-3611854"/>
                <a:lnTo>
                  <a:pt x="10594" y="18"/>
                </a:lnTo>
                <a:arcTo wR="10183" hR="21600" stAng="-5465538" swAng="-5334462"/>
                <a:close/>
              </a:path>
              <a:path fill="darkenLess" w="21600" h="21600">
                <a:moveTo>
                  <a:pt x="0" y="21600"/>
                </a:moveTo>
                <a:arcTo wR="10183" hR="21600" stAng="10800000" swAng="5400000"/>
                <a:lnTo>
                  <a:pt x="10183" y="0"/>
                </a:lnTo>
                <a:arcTo wR="10183" hR="21600" stAng="-5400000" swAng="65538"/>
                <a:lnTo>
                  <a:pt x="10594" y="18"/>
                </a:lnTo>
                <a:arcTo wR="10183" hR="21600" stAng="-5465538" swAng="-5334462"/>
                <a:close/>
              </a:path>
            </a:pathLst>
          </a:custGeom>
          <a:solidFill>
            <a:srgbClr val="984807"/>
          </a:solidFill>
          <a:ln w="9360">
            <a:solidFill>
              <a:srgbClr val="98480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092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ersonaliz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Description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826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Olive Room is a bar. HERE ARE THE DESCRIPTIONS FROM ITS WEBSITE: Here at the olive room, you will receive the finest cuisine montgomery has to off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ARE REVIEWS FROM OTHER PEOPLE: If you are looking for a unique dining experience, with excellent food, service, location, and outstanding ambiance, look no further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LACE IS SIMILAR TO OTHER PLACE(S) YOU LIKED, i.e. Tria Wine Room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3497-F350-498A-BD77-C3C0E1056A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n Example of Generated Descri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55640" y="1123920"/>
            <a:ext cx="7777080" cy="2160720"/>
            <a:chOff x="755640" y="1123920"/>
            <a:chExt cx="7777080" cy="2160720"/>
          </a:xfrm>
        </p:grpSpPr>
        <p:sp>
          <p:nvSpPr>
            <p:cNvPr id="686" name="TextBox 1"/>
            <p:cNvSpPr/>
            <p:nvPr/>
          </p:nvSpPr>
          <p:spPr>
            <a:xfrm>
              <a:off x="2916000" y="1123920"/>
              <a:ext cx="52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What is this place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Rounded Rectangle 6"/>
            <p:cNvSpPr/>
            <p:nvPr/>
          </p:nvSpPr>
          <p:spPr>
            <a:xfrm>
              <a:off x="755640" y="1625400"/>
              <a:ext cx="7777080" cy="16592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0066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8" name="Group 7"/>
          <p:cNvGrpSpPr/>
          <p:nvPr/>
        </p:nvGrpSpPr>
        <p:grpSpPr>
          <a:xfrm>
            <a:off x="287280" y="3429000"/>
            <a:ext cx="8677440" cy="3195360"/>
            <a:chOff x="287280" y="3429000"/>
            <a:chExt cx="8677440" cy="3195360"/>
          </a:xfrm>
        </p:grpSpPr>
        <p:sp>
          <p:nvSpPr>
            <p:cNvPr id="689" name="Rounded Rectangle 8"/>
            <p:cNvSpPr/>
            <p:nvPr/>
          </p:nvSpPr>
          <p:spPr>
            <a:xfrm>
              <a:off x="755280" y="3429000"/>
              <a:ext cx="8209440" cy="1727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TextBox 1"/>
            <p:cNvSpPr/>
            <p:nvPr/>
          </p:nvSpPr>
          <p:spPr>
            <a:xfrm>
              <a:off x="287280" y="6164640"/>
              <a:ext cx="45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Calibri"/>
                  <a:ea typeface="宋体"/>
                </a:rPr>
                <a:t>Why do other people like it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1" name="Group 10"/>
          <p:cNvGrpSpPr/>
          <p:nvPr/>
        </p:nvGrpSpPr>
        <p:grpSpPr>
          <a:xfrm>
            <a:off x="755640" y="5229360"/>
            <a:ext cx="9072720" cy="1394640"/>
            <a:chOff x="755640" y="5229360"/>
            <a:chExt cx="9072720" cy="1394640"/>
          </a:xfrm>
        </p:grpSpPr>
        <p:sp>
          <p:nvSpPr>
            <p:cNvPr id="692" name="Rounded Rectangle 11"/>
            <p:cNvSpPr/>
            <p:nvPr/>
          </p:nvSpPr>
          <p:spPr>
            <a:xfrm>
              <a:off x="755640" y="5229360"/>
              <a:ext cx="8209080" cy="86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98480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TextBox 1"/>
            <p:cNvSpPr/>
            <p:nvPr/>
          </p:nvSpPr>
          <p:spPr>
            <a:xfrm>
              <a:off x="4572000" y="6164280"/>
              <a:ext cx="52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84807"/>
                  </a:solidFill>
                  <a:latin typeface="Calibri"/>
                  <a:ea typeface="宋体"/>
                </a:rPr>
                <a:t>Why is it recommended for YOU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Overview of Our 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3731-9C62-40C8-AC40-8B3C86113C7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0" descr="C:\Users\ypeilin\Desktop\图片1.png"/>
          <p:cNvPicPr/>
          <p:nvPr/>
        </p:nvPicPr>
        <p:blipFill>
          <a:blip r:embed="rId1"/>
          <a:stretch/>
        </p:blipFill>
        <p:spPr>
          <a:xfrm>
            <a:off x="250920" y="1339920"/>
            <a:ext cx="669960" cy="609480"/>
          </a:xfrm>
          <a:prstGeom prst="rect">
            <a:avLst/>
          </a:prstGeom>
          <a:ln w="0">
            <a:noFill/>
          </a:ln>
        </p:spPr>
      </p:pic>
      <p:cxnSp>
        <p:nvCxnSpPr>
          <p:cNvPr id="87" name="直接箭头连接符 3"/>
          <p:cNvCxnSpPr>
            <a:stCxn id="86" idx="3"/>
            <a:endCxn id="88" idx="1"/>
          </p:cNvCxnSpPr>
          <p:nvPr/>
        </p:nvCxnSpPr>
        <p:spPr>
          <a:xfrm>
            <a:off x="920520" y="1644120"/>
            <a:ext cx="8434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TextBox 4"/>
          <p:cNvSpPr/>
          <p:nvPr/>
        </p:nvSpPr>
        <p:spPr>
          <a:xfrm>
            <a:off x="1763640" y="1136520"/>
            <a:ext cx="1440000" cy="1008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宋体"/>
              </a:rPr>
              <a:t>Candidate Suggestion Craw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258920" y="551664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Exampl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4643280" y="1290600"/>
            <a:ext cx="144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Suggestion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直接箭头连接符 19"/>
          <p:cNvCxnSpPr>
            <a:stCxn id="88" idx="3"/>
            <a:endCxn id="90" idx="1"/>
          </p:cNvCxnSpPr>
          <p:nvPr/>
        </p:nvCxnSpPr>
        <p:spPr>
          <a:xfrm>
            <a:off x="3203280" y="1644120"/>
            <a:ext cx="14403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23"/>
          <p:cNvSpPr/>
          <p:nvPr/>
        </p:nvSpPr>
        <p:spPr>
          <a:xfrm>
            <a:off x="4643280" y="5529240"/>
            <a:ext cx="144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User Profile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直接箭头连接符 24"/>
          <p:cNvCxnSpPr>
            <a:stCxn id="89" idx="3"/>
            <a:endCxn id="92" idx="1"/>
          </p:cNvCxnSpPr>
          <p:nvPr/>
        </p:nvCxnSpPr>
        <p:spPr>
          <a:xfrm>
            <a:off x="2771280" y="5870160"/>
            <a:ext cx="1872360" cy="13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28"/>
          <p:cNvSpPr/>
          <p:nvPr/>
        </p:nvSpPr>
        <p:spPr>
          <a:xfrm>
            <a:off x="5940360" y="2792520"/>
            <a:ext cx="1440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Candidates Ra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9"/>
          <p:cNvSpPr/>
          <p:nvPr/>
        </p:nvSpPr>
        <p:spPr>
          <a:xfrm>
            <a:off x="7596360" y="2792520"/>
            <a:ext cx="1439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Description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直接箭头连接符 30"/>
          <p:cNvCxnSpPr>
            <a:stCxn id="90" idx="3"/>
            <a:endCxn id="94" idx="0"/>
          </p:cNvCxnSpPr>
          <p:nvPr/>
        </p:nvCxnSpPr>
        <p:spPr>
          <a:xfrm>
            <a:off x="6084360" y="1644120"/>
            <a:ext cx="575640" cy="1148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接箭头连接符 33"/>
          <p:cNvCxnSpPr>
            <a:stCxn id="92" idx="3"/>
            <a:endCxn id="94" idx="2"/>
          </p:cNvCxnSpPr>
          <p:nvPr/>
        </p:nvCxnSpPr>
        <p:spPr>
          <a:xfrm flipV="1">
            <a:off x="6084360" y="3499560"/>
            <a:ext cx="575640" cy="2383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直接箭头连接符 36"/>
          <p:cNvCxnSpPr>
            <a:stCxn id="94" idx="3"/>
            <a:endCxn id="95" idx="1"/>
          </p:cNvCxnSpPr>
          <p:nvPr/>
        </p:nvCxnSpPr>
        <p:spPr>
          <a:xfrm flipV="1">
            <a:off x="7380360" y="3145680"/>
            <a:ext cx="2167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8"/>
          <p:cNvSpPr/>
          <p:nvPr/>
        </p:nvSpPr>
        <p:spPr>
          <a:xfrm>
            <a:off x="3132000" y="9208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Candidat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Description of Our Two Ru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F4C-E8A6-4AF3-B83C-9DB2EE5DF2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457200" y="981000"/>
          <a:ext cx="8147160" cy="5365800"/>
        </p:xfrm>
        <a:graphic>
          <a:graphicData uri="http://schemas.openxmlformats.org/drawingml/2006/table">
            <a:tbl>
              <a:tblPr/>
              <a:tblGrid>
                <a:gridCol w="2716200"/>
                <a:gridCol w="2714760"/>
                <a:gridCol w="2716200"/>
              </a:tblGrid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er Pro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0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DInfoC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alibri"/>
                          <a:ea typeface="宋体"/>
                        </a:rPr>
                        <a:t>Review Summ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pening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Meta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alibri"/>
                          <a:ea typeface="宋体"/>
                        </a:rPr>
                        <a:t>Web Site Sent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ighlighted 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cluding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DInfoC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alibri"/>
                          <a:ea typeface="宋体"/>
                        </a:rPr>
                        <a:t>Unique Full R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pening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Meta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ighlighted 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cluding Sen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ounded Rectangle 3"/>
          <p:cNvSpPr/>
          <p:nvPr/>
        </p:nvSpPr>
        <p:spPr>
          <a:xfrm>
            <a:off x="611280" y="1484280"/>
            <a:ext cx="7993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Effectiveness of the runs 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(from the CS overview pape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994-BFC5-4F57-BD26-0EE69068BB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>
            <a:off x="539640" y="1150920"/>
            <a:ext cx="8136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636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omparison with best/median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81E3-6AB5-458F-89E1-A211DB9AE7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2" descr="http://www.eecis.udel.edu/~ypeilin/trec2013_cs/UDInfoCS1_details.png"/>
          <p:cNvPicPr/>
          <p:nvPr/>
        </p:nvPicPr>
        <p:blipFill>
          <a:blip r:embed="rId1"/>
          <a:stretch/>
        </p:blipFill>
        <p:spPr>
          <a:xfrm>
            <a:off x="108000" y="1916280"/>
            <a:ext cx="8928000" cy="4465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2"/>
          <p:cNvSpPr/>
          <p:nvPr/>
        </p:nvSpPr>
        <p:spPr>
          <a:xfrm>
            <a:off x="3708360" y="15019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UDInfoCS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1778-0A1A-4428-911D-1D2F2255D0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2"/>
          <p:cNvSpPr/>
          <p:nvPr/>
        </p:nvSpPr>
        <p:spPr>
          <a:xfrm>
            <a:off x="3708360" y="15019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UDInfoCS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2" descr="http://www.eecis.udel.edu/~ypeilin/trec2013_cs/UDInfoCS2_details.png"/>
          <p:cNvPicPr/>
          <p:nvPr/>
        </p:nvPicPr>
        <p:blipFill>
          <a:blip r:embed="rId1"/>
          <a:stretch/>
        </p:blipFill>
        <p:spPr>
          <a:xfrm>
            <a:off x="108000" y="1916280"/>
            <a:ext cx="892800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Effectiveness of description gener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C0B-8327-48FC-B2BC-5AB74E03CF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619280" y="1628640"/>
          <a:ext cx="6095880" cy="1482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DInfoC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DInfoC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2" name="Cloud Callout 7"/>
          <p:cNvSpPr/>
          <p:nvPr/>
        </p:nvSpPr>
        <p:spPr>
          <a:xfrm>
            <a:off x="179280" y="3284640"/>
            <a:ext cx="8317080" cy="26654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8f26"/>
              </a:gs>
              <a:gs pos="100000">
                <a:srgbClr val="cb6c1d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 observation regarding relevance assessmen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ong the 569 suggestions returned by both run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.59% (157) of them hav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consisten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relevance labels for their websites, and 12.13% (69) of them hav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consisten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evance statu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Effectiveness of description gener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320840" y="1700280"/>
          <a:ext cx="6635880" cy="3978360"/>
        </p:xfrm>
        <a:graphic>
          <a:graphicData uri="http://schemas.openxmlformats.org/drawingml/2006/table">
            <a:tbl>
              <a:tblPr/>
              <a:tblGrid>
                <a:gridCol w="914400"/>
                <a:gridCol w="1328760"/>
                <a:gridCol w="1295280"/>
                <a:gridCol w="1069920"/>
                <a:gridCol w="2027520"/>
              </a:tblGrid>
              <a:tr h="640440">
                <a:tc gridSpan="5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return 569 same results. 157(27.59%) of them have different web site judgment. For the rest 412(72.4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InfoCS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InfoC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18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2.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7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1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5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3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.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.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3/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2.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87D-2998-4311-8985-99A5E90203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410920" y="1413000"/>
            <a:ext cx="4681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Questions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BEB-2343-4CCB-85F5-AE92C564DE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rawl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ggestion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: Y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: At most 100 pages per top category (arts, shopping, food and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number of crawled suggestions : 105,8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verage number of suggestions per context : 2,1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ax: 8410 (i.e., Washington D.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in: 302 (i.e., Crestvie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DF00-E911-423C-8A3F-4FBE6CACA0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Overview of Our 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435-1339-45C1-82BF-549B310FB1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0" descr="C:\Users\ypeilin\Desktop\图片1.png"/>
          <p:cNvPicPr/>
          <p:nvPr/>
        </p:nvPicPr>
        <p:blipFill>
          <a:blip r:embed="rId1"/>
          <a:stretch/>
        </p:blipFill>
        <p:spPr>
          <a:xfrm>
            <a:off x="250920" y="1339920"/>
            <a:ext cx="669960" cy="609480"/>
          </a:xfrm>
          <a:prstGeom prst="rect">
            <a:avLst/>
          </a:prstGeom>
          <a:ln w="0">
            <a:noFill/>
          </a:ln>
        </p:spPr>
      </p:pic>
      <p:cxnSp>
        <p:nvCxnSpPr>
          <p:cNvPr id="106" name="直接箭头连接符 3"/>
          <p:cNvCxnSpPr>
            <a:stCxn id="105" idx="3"/>
            <a:endCxn id="107" idx="1"/>
          </p:cNvCxnSpPr>
          <p:nvPr/>
        </p:nvCxnSpPr>
        <p:spPr>
          <a:xfrm>
            <a:off x="920520" y="1644120"/>
            <a:ext cx="84348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TextBox 4"/>
          <p:cNvSpPr/>
          <p:nvPr/>
        </p:nvSpPr>
        <p:spPr>
          <a:xfrm>
            <a:off x="1763640" y="1136520"/>
            <a:ext cx="1440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Candidate Suggestion Craw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258920" y="551664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Exampl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4643280" y="1290600"/>
            <a:ext cx="1441440" cy="703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宋体"/>
              </a:rPr>
              <a:t>Suggestion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直接箭头连接符 19"/>
          <p:cNvCxnSpPr>
            <a:stCxn id="107" idx="3"/>
            <a:endCxn id="109" idx="1"/>
          </p:cNvCxnSpPr>
          <p:nvPr/>
        </p:nvCxnSpPr>
        <p:spPr>
          <a:xfrm>
            <a:off x="3203280" y="1644120"/>
            <a:ext cx="14403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TextBox 23"/>
          <p:cNvSpPr/>
          <p:nvPr/>
        </p:nvSpPr>
        <p:spPr>
          <a:xfrm>
            <a:off x="4643280" y="5529240"/>
            <a:ext cx="1441440" cy="703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宋体"/>
              </a:rPr>
              <a:t>User Profile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直接箭头连接符 24"/>
          <p:cNvCxnSpPr>
            <a:stCxn id="108" idx="3"/>
            <a:endCxn id="111" idx="1"/>
          </p:cNvCxnSpPr>
          <p:nvPr/>
        </p:nvCxnSpPr>
        <p:spPr>
          <a:xfrm>
            <a:off x="2771280" y="5870160"/>
            <a:ext cx="1872360" cy="13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TextBox 28"/>
          <p:cNvSpPr/>
          <p:nvPr/>
        </p:nvSpPr>
        <p:spPr>
          <a:xfrm>
            <a:off x="5940360" y="2792520"/>
            <a:ext cx="1440000" cy="703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宋体"/>
              </a:rPr>
              <a:t>Candidates Ra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7596360" y="2792520"/>
            <a:ext cx="1439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alibri"/>
                <a:ea typeface="宋体"/>
              </a:rPr>
              <a:t>Description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直接箭头连接符 30"/>
          <p:cNvCxnSpPr>
            <a:stCxn id="109" idx="3"/>
            <a:endCxn id="113" idx="0"/>
          </p:cNvCxnSpPr>
          <p:nvPr/>
        </p:nvCxnSpPr>
        <p:spPr>
          <a:xfrm>
            <a:off x="6084360" y="1644120"/>
            <a:ext cx="575640" cy="1148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接箭头连接符 33"/>
          <p:cNvCxnSpPr>
            <a:stCxn id="111" idx="3"/>
            <a:endCxn id="113" idx="2"/>
          </p:cNvCxnSpPr>
          <p:nvPr/>
        </p:nvCxnSpPr>
        <p:spPr>
          <a:xfrm flipV="1">
            <a:off x="6084360" y="3499560"/>
            <a:ext cx="575640" cy="2383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直接箭头连接符 36"/>
          <p:cNvCxnSpPr>
            <a:stCxn id="113" idx="3"/>
            <a:endCxn id="114" idx="1"/>
          </p:cNvCxnSpPr>
          <p:nvPr/>
        </p:nvCxnSpPr>
        <p:spPr>
          <a:xfrm flipV="1">
            <a:off x="7380360" y="3145680"/>
            <a:ext cx="2167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TextBox 8"/>
          <p:cNvSpPr/>
          <p:nvPr/>
        </p:nvSpPr>
        <p:spPr>
          <a:xfrm>
            <a:off x="3132000" y="9208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宋体"/>
              </a:rPr>
              <a:t>Candidate Sugg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395280" y="2924280"/>
            <a:ext cx="5113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ilin Yang and Hui Fang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inion-based User Profile Modeling for Contextual Sugges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oceedings of the 4th International Conference on the Theory of Information Retrie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2013. (ICTIR’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Our approach for TREC2012 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99640" y="2276640"/>
            <a:ext cx="79520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 candidates based on the user pro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-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egory-bas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66C-917D-4328-88D7-9043FAD348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5292720" y="604800"/>
          <a:ext cx="3743280" cy="289872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2836800"/>
            <a:ext cx="1027080" cy="568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152800"/>
            <a:ext cx="1027080" cy="5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397160"/>
            <a:ext cx="1027080" cy="57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5"/>
          <a:stretch/>
        </p:blipFill>
        <p:spPr>
          <a:xfrm>
            <a:off x="6804000" y="676440"/>
            <a:ext cx="1027080" cy="595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0"/>
          <p:cNvSpPr/>
          <p:nvPr/>
        </p:nvSpPr>
        <p:spPr>
          <a:xfrm>
            <a:off x="6372360" y="1494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3590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620640"/>
            <a:ext cx="739800" cy="738360"/>
          </a:xfrm>
          <a:prstGeom prst="rect">
            <a:avLst/>
          </a:prstGeom>
          <a:ln w="0">
            <a:noFill/>
          </a:ln>
        </p:spPr>
      </p:pic>
      <p:sp>
        <p:nvSpPr>
          <p:cNvPr id="132" name="云形标注 39"/>
          <p:cNvSpPr/>
          <p:nvPr/>
        </p:nvSpPr>
        <p:spPr>
          <a:xfrm>
            <a:off x="1398600" y="942840"/>
            <a:ext cx="1800360" cy="2054520"/>
          </a:xfrm>
          <a:prstGeom prst="cloudCallout">
            <a:avLst>
              <a:gd name="adj1" fmla="val -74175"/>
              <a:gd name="adj2" fmla="val 456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05272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276696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135" name="虚尾箭头 17"/>
          <p:cNvSpPr/>
          <p:nvPr/>
        </p:nvSpPr>
        <p:spPr>
          <a:xfrm rot="10800000">
            <a:off x="3347640" y="829800"/>
            <a:ext cx="1800360" cy="1862280"/>
          </a:xfrm>
          <a:custGeom>
            <a:avLst/>
            <a:gdLst/>
            <a:ahLst/>
            <a:rect l="l" t="t" r="r" b="b"/>
            <a:pathLst>
              <a:path w="1800199" h="1863207">
                <a:moveTo>
                  <a:pt x="0" y="465802"/>
                </a:moveTo>
                <a:lnTo>
                  <a:pt x="56256" y="465802"/>
                </a:lnTo>
                <a:lnTo>
                  <a:pt x="56256" y="1397405"/>
                </a:lnTo>
                <a:lnTo>
                  <a:pt x="0" y="1397405"/>
                </a:lnTo>
                <a:lnTo>
                  <a:pt x="0" y="465802"/>
                </a:lnTo>
                <a:close/>
                <a:moveTo>
                  <a:pt x="112512" y="465802"/>
                </a:moveTo>
                <a:lnTo>
                  <a:pt x="225025" y="465802"/>
                </a:lnTo>
                <a:lnTo>
                  <a:pt x="225025" y="1397405"/>
                </a:lnTo>
                <a:lnTo>
                  <a:pt x="112512" y="1397405"/>
                </a:lnTo>
                <a:lnTo>
                  <a:pt x="112512" y="465802"/>
                </a:lnTo>
                <a:close/>
                <a:moveTo>
                  <a:pt x="281281" y="465802"/>
                </a:moveTo>
                <a:lnTo>
                  <a:pt x="900100" y="465802"/>
                </a:lnTo>
                <a:lnTo>
                  <a:pt x="900100" y="0"/>
                </a:lnTo>
                <a:lnTo>
                  <a:pt x="1800199" y="931604"/>
                </a:lnTo>
                <a:lnTo>
                  <a:pt x="900100" y="1863207"/>
                </a:lnTo>
                <a:lnTo>
                  <a:pt x="900100" y="1397405"/>
                </a:lnTo>
                <a:lnTo>
                  <a:pt x="281281" y="1397405"/>
                </a:lnTo>
                <a:lnTo>
                  <a:pt x="281281" y="465802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3564000" y="1341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  <a:ea typeface="宋体"/>
              </a:rPr>
              <a:t>User Profile Model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324000" y="24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2"/>
          <p:cNvSpPr/>
          <p:nvPr/>
        </p:nvSpPr>
        <p:spPr>
          <a:xfrm>
            <a:off x="179280" y="4292640"/>
            <a:ext cx="48974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  <a:ea typeface="宋体"/>
              </a:rPr>
              <a:t>Places from Philadelphi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9F9E-E3B4-4722-9E56-EDEC9EEA66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 Motivating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Rounded Rectangle 34"/>
          <p:cNvGrpSpPr/>
          <p:nvPr/>
        </p:nvGrpSpPr>
        <p:grpSpPr>
          <a:xfrm>
            <a:off x="1706400" y="1163520"/>
            <a:ext cx="1195560" cy="470160"/>
            <a:chOff x="1706400" y="1163520"/>
            <a:chExt cx="1195560" cy="470160"/>
          </a:xfrm>
        </p:grpSpPr>
        <p:pic>
          <p:nvPicPr>
            <p:cNvPr id="142" name="Rounded Rectangle 34" descr=""/>
            <p:cNvPicPr/>
            <p:nvPr/>
          </p:nvPicPr>
          <p:blipFill>
            <a:blip r:embed="rId10"/>
            <a:stretch/>
          </p:blipFill>
          <p:spPr>
            <a:xfrm>
              <a:off x="1706400" y="1163520"/>
              <a:ext cx="11955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781280" y="1214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Rounded Rectangle 36"/>
          <p:cNvGrpSpPr/>
          <p:nvPr/>
        </p:nvGrpSpPr>
        <p:grpSpPr>
          <a:xfrm>
            <a:off x="1706400" y="2243160"/>
            <a:ext cx="1195560" cy="469800"/>
            <a:chOff x="1706400" y="2243160"/>
            <a:chExt cx="1195560" cy="469800"/>
          </a:xfrm>
        </p:grpSpPr>
        <p:pic>
          <p:nvPicPr>
            <p:cNvPr id="145" name="Rounded Rectangle 36" descr=""/>
            <p:cNvPicPr/>
            <p:nvPr/>
          </p:nvPicPr>
          <p:blipFill>
            <a:blip r:embed="rId11"/>
            <a:stretch/>
          </p:blipFill>
          <p:spPr>
            <a:xfrm>
              <a:off x="1706400" y="2243160"/>
              <a:ext cx="1195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781280" y="2293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684360" y="5091120"/>
          <a:ext cx="3887640" cy="1081080"/>
        </p:xfrm>
        <a:graphic>
          <a:graphicData uri="http://schemas.openxmlformats.org/drawingml/2006/table">
            <a:tbl>
              <a:tblPr/>
              <a:tblGrid>
                <a:gridCol w="3024000"/>
                <a:gridCol w="863640"/>
              </a:tblGrid>
              <a:tr h="514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perison Hot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iberty B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4" descr="http://media-cdn.tripadvisor.com/media/photo-s/01/f4/75/d1/early-morning-from-the.jpg"/>
          <p:cNvPicPr/>
          <p:nvPr/>
        </p:nvPicPr>
        <p:blipFill>
          <a:blip r:embed="rId12"/>
          <a:stretch/>
        </p:blipFill>
        <p:spPr>
          <a:xfrm>
            <a:off x="2700360" y="5146560"/>
            <a:ext cx="758880" cy="4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png-3.findicons.com/files/icons/1609/ose_png/256/tick.png"/>
          <p:cNvPicPr/>
          <p:nvPr/>
        </p:nvPicPr>
        <p:blipFill>
          <a:blip r:embed="rId13"/>
          <a:stretch/>
        </p:blipFill>
        <p:spPr>
          <a:xfrm>
            <a:off x="3890880" y="5013360"/>
            <a:ext cx="609840" cy="608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findicons.com/files/icons/1609/ose_png/256/error.png"/>
          <p:cNvPicPr/>
          <p:nvPr/>
        </p:nvPicPr>
        <p:blipFill>
          <a:blip r:embed="rId14"/>
          <a:stretch/>
        </p:blipFill>
        <p:spPr>
          <a:xfrm>
            <a:off x="3889440" y="5573880"/>
            <a:ext cx="590400" cy="591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4" descr=""/>
          <p:cNvPicPr/>
          <p:nvPr/>
        </p:nvPicPr>
        <p:blipFill>
          <a:blip r:embed="rId15"/>
          <a:stretch/>
        </p:blipFill>
        <p:spPr>
          <a:xfrm>
            <a:off x="2700360" y="5689440"/>
            <a:ext cx="758880" cy="4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-27360"/>
            <a:ext cx="7309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scription-based Profile Mode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5292720" y="817560"/>
          <a:ext cx="3743280" cy="289872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3049560"/>
            <a:ext cx="1027080" cy="56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365200"/>
            <a:ext cx="1027080" cy="54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609560"/>
            <a:ext cx="102708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5"/>
          <a:stretch/>
        </p:blipFill>
        <p:spPr>
          <a:xfrm>
            <a:off x="6804000" y="888840"/>
            <a:ext cx="1027080" cy="5954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0"/>
          <p:cNvSpPr/>
          <p:nvPr/>
        </p:nvSpPr>
        <p:spPr>
          <a:xfrm>
            <a:off x="6372360" y="3618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57176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833400"/>
            <a:ext cx="739800" cy="738360"/>
          </a:xfrm>
          <a:prstGeom prst="rect">
            <a:avLst/>
          </a:prstGeom>
          <a:ln w="0">
            <a:noFill/>
          </a:ln>
        </p:spPr>
      </p:pic>
      <p:sp>
        <p:nvSpPr>
          <p:cNvPr id="162" name="云形标注 39"/>
          <p:cNvSpPr/>
          <p:nvPr/>
        </p:nvSpPr>
        <p:spPr>
          <a:xfrm>
            <a:off x="1187280" y="942840"/>
            <a:ext cx="3240360" cy="3206880"/>
          </a:xfrm>
          <a:prstGeom prst="cloudCallout">
            <a:avLst>
              <a:gd name="adj1" fmla="val -60763"/>
              <a:gd name="adj2" fmla="val -2634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26548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29797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165" name="虚尾箭头 17"/>
          <p:cNvSpPr/>
          <p:nvPr/>
        </p:nvSpPr>
        <p:spPr>
          <a:xfrm rot="10800000">
            <a:off x="4427280" y="1428840"/>
            <a:ext cx="865080" cy="1495440"/>
          </a:xfrm>
          <a:custGeom>
            <a:avLst/>
            <a:gdLst/>
            <a:ahLst/>
            <a:rect l="l" t="t" r="r" b="b"/>
            <a:pathLst>
              <a:path w="1188133" h="1495520">
                <a:moveTo>
                  <a:pt x="0" y="373880"/>
                </a:moveTo>
                <a:lnTo>
                  <a:pt x="37129" y="373880"/>
                </a:lnTo>
                <a:lnTo>
                  <a:pt x="37129" y="1121640"/>
                </a:lnTo>
                <a:lnTo>
                  <a:pt x="0" y="1121640"/>
                </a:lnTo>
                <a:lnTo>
                  <a:pt x="0" y="373880"/>
                </a:lnTo>
                <a:close/>
                <a:moveTo>
                  <a:pt x="74258" y="373880"/>
                </a:moveTo>
                <a:lnTo>
                  <a:pt x="148517" y="373880"/>
                </a:lnTo>
                <a:lnTo>
                  <a:pt x="148517" y="1121640"/>
                </a:lnTo>
                <a:lnTo>
                  <a:pt x="74258" y="1121640"/>
                </a:lnTo>
                <a:lnTo>
                  <a:pt x="74258" y="373880"/>
                </a:lnTo>
                <a:close/>
                <a:moveTo>
                  <a:pt x="185646" y="373880"/>
                </a:moveTo>
                <a:lnTo>
                  <a:pt x="594067" y="373880"/>
                </a:lnTo>
                <a:lnTo>
                  <a:pt x="594067" y="0"/>
                </a:lnTo>
                <a:lnTo>
                  <a:pt x="1188133" y="747760"/>
                </a:lnTo>
                <a:lnTo>
                  <a:pt x="594067" y="1495520"/>
                </a:lnTo>
                <a:lnTo>
                  <a:pt x="594067" y="1121640"/>
                </a:lnTo>
                <a:lnTo>
                  <a:pt x="185646" y="1121640"/>
                </a:lnTo>
                <a:lnTo>
                  <a:pt x="185646" y="373880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34920" y="2790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619280" y="4653000"/>
            <a:ext cx="157968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R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右箭头 4"/>
          <p:cNvSpPr/>
          <p:nvPr/>
        </p:nvSpPr>
        <p:spPr>
          <a:xfrm rot="5400000">
            <a:off x="2204640" y="4081320"/>
            <a:ext cx="4050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右箭头 25"/>
          <p:cNvSpPr/>
          <p:nvPr/>
        </p:nvSpPr>
        <p:spPr>
          <a:xfrm rot="16200000">
            <a:off x="2220120" y="4915440"/>
            <a:ext cx="3744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620720" y="133668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Central Park is a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public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 park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… 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  <a:ea typeface="宋体"/>
              </a:rPr>
              <a:t>remarkable food in unique environ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…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largest art museum in the US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…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宋体"/>
              </a:rPr>
              <a:t>Jazz music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8"/>
          <p:cNvSpPr/>
          <p:nvPr/>
        </p:nvSpPr>
        <p:spPr>
          <a:xfrm flipV="1">
            <a:off x="1187280" y="2545920"/>
            <a:ext cx="3238560" cy="190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076720" y="4299120"/>
          <a:ext cx="3205440" cy="1081080"/>
        </p:xfrm>
        <a:graphic>
          <a:graphicData uri="http://schemas.openxmlformats.org/drawingml/2006/table">
            <a:tbl>
              <a:tblPr/>
              <a:tblGrid>
                <a:gridCol w="416160"/>
                <a:gridCol w="2789280"/>
              </a:tblGrid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iberty B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perison Ho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Picture 4" descr="http://media-cdn.tripadvisor.com/media/photo-s/01/f4/75/d1/early-morning-from-the.jpg"/>
          <p:cNvPicPr/>
          <p:nvPr/>
        </p:nvPicPr>
        <p:blipFill>
          <a:blip r:embed="rId10"/>
          <a:stretch/>
        </p:blipFill>
        <p:spPr>
          <a:xfrm>
            <a:off x="7413480" y="4869000"/>
            <a:ext cx="758880" cy="43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png-3.findicons.com/files/icons/1609/ose_png/256/tick.png"/>
          <p:cNvPicPr/>
          <p:nvPr/>
        </p:nvPicPr>
        <p:blipFill>
          <a:blip r:embed="rId11"/>
          <a:stretch/>
        </p:blipFill>
        <p:spPr>
          <a:xfrm>
            <a:off x="8283600" y="4791240"/>
            <a:ext cx="609480" cy="607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findicons.com/files/icons/1609/ose_png/256/error.png"/>
          <p:cNvPicPr/>
          <p:nvPr/>
        </p:nvPicPr>
        <p:blipFill>
          <a:blip r:embed="rId12"/>
          <a:stretch/>
        </p:blipFill>
        <p:spPr>
          <a:xfrm>
            <a:off x="8282160" y="4221000"/>
            <a:ext cx="59040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250920" y="5511960"/>
          <a:ext cx="5473440" cy="1279440"/>
        </p:xfrm>
        <a:graphic>
          <a:graphicData uri="http://schemas.openxmlformats.org/drawingml/2006/table">
            <a:tbl>
              <a:tblPr/>
              <a:tblGrid>
                <a:gridCol w="1008000"/>
                <a:gridCol w="44654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merica's most historic areas … Downtown 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public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rt circuit tour 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t Operison the focus is on detail - and the guest is always at the center of attention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4" descr="http://media-cdn.tripadvisor.com/media/photo-s/01/f4/75/d1/early-morning-from-the.jpg"/>
          <p:cNvPicPr/>
          <p:nvPr/>
        </p:nvPicPr>
        <p:blipFill>
          <a:blip r:embed="rId13"/>
          <a:stretch/>
        </p:blipFill>
        <p:spPr>
          <a:xfrm>
            <a:off x="395280" y="6237360"/>
            <a:ext cx="758880" cy="431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5"/>
          <p:cNvSpPr/>
          <p:nvPr/>
        </p:nvSpPr>
        <p:spPr>
          <a:xfrm>
            <a:off x="6372360" y="5818320"/>
            <a:ext cx="20160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Can not be generalized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12A-DFC0-4E8F-BE88-1978592B1D2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右箭头 4"/>
          <p:cNvSpPr/>
          <p:nvPr/>
        </p:nvSpPr>
        <p:spPr>
          <a:xfrm>
            <a:off x="3419640" y="4616280"/>
            <a:ext cx="996840" cy="468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Rounded Rectangle 41"/>
          <p:cNvGrpSpPr/>
          <p:nvPr/>
        </p:nvGrpSpPr>
        <p:grpSpPr>
          <a:xfrm>
            <a:off x="480960" y="731880"/>
            <a:ext cx="1195560" cy="468360"/>
            <a:chOff x="480960" y="731880"/>
            <a:chExt cx="1195560" cy="468360"/>
          </a:xfrm>
        </p:grpSpPr>
        <p:pic>
          <p:nvPicPr>
            <p:cNvPr id="182" name="Rounded Rectangle 41" descr=""/>
            <p:cNvPicPr/>
            <p:nvPr/>
          </p:nvPicPr>
          <p:blipFill>
            <a:blip r:embed="rId14"/>
            <a:stretch/>
          </p:blipFill>
          <p:spPr>
            <a:xfrm>
              <a:off x="480960" y="731880"/>
              <a:ext cx="1195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7280" y="782640"/>
              <a:ext cx="1044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Rounded Rectangle 46"/>
          <p:cNvGrpSpPr/>
          <p:nvPr/>
        </p:nvGrpSpPr>
        <p:grpSpPr>
          <a:xfrm>
            <a:off x="480960" y="3614760"/>
            <a:ext cx="1195560" cy="469800"/>
            <a:chOff x="480960" y="3614760"/>
            <a:chExt cx="1195560" cy="469800"/>
          </a:xfrm>
        </p:grpSpPr>
        <p:pic>
          <p:nvPicPr>
            <p:cNvPr id="185" name="Rounded Rectangle 46" descr=""/>
            <p:cNvPicPr/>
            <p:nvPr/>
          </p:nvPicPr>
          <p:blipFill>
            <a:blip r:embed="rId15"/>
            <a:stretch/>
          </p:blipFill>
          <p:spPr>
            <a:xfrm>
              <a:off x="480960" y="3614760"/>
              <a:ext cx="1195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57280" y="3662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7" name="Picture 74" descr=""/>
          <p:cNvPicPr/>
          <p:nvPr/>
        </p:nvPicPr>
        <p:blipFill>
          <a:blip r:embed="rId16"/>
          <a:stretch/>
        </p:blipFill>
        <p:spPr>
          <a:xfrm>
            <a:off x="395280" y="5589720"/>
            <a:ext cx="758880" cy="43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4" descr=""/>
          <p:cNvPicPr/>
          <p:nvPr/>
        </p:nvPicPr>
        <p:blipFill>
          <a:blip r:embed="rId17"/>
          <a:stretch/>
        </p:blipFill>
        <p:spPr>
          <a:xfrm>
            <a:off x="7435800" y="4359240"/>
            <a:ext cx="758880" cy="432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"/>
          <p:cNvSpPr/>
          <p:nvPr/>
        </p:nvSpPr>
        <p:spPr>
          <a:xfrm>
            <a:off x="-36360" y="46864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Candidate 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292720" y="932040"/>
          <a:ext cx="3743280" cy="289872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3164040"/>
            <a:ext cx="1027080" cy="568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479680"/>
            <a:ext cx="1027080" cy="539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724040"/>
            <a:ext cx="1027080" cy="57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5"/>
          <a:stretch/>
        </p:blipFill>
        <p:spPr>
          <a:xfrm>
            <a:off x="6804000" y="1003320"/>
            <a:ext cx="1027080" cy="5954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0"/>
          <p:cNvSpPr/>
          <p:nvPr/>
        </p:nvSpPr>
        <p:spPr>
          <a:xfrm>
            <a:off x="6372360" y="47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68588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947880"/>
            <a:ext cx="739800" cy="738000"/>
          </a:xfrm>
          <a:prstGeom prst="rect">
            <a:avLst/>
          </a:prstGeom>
          <a:ln w="0">
            <a:noFill/>
          </a:ln>
        </p:spPr>
      </p:pic>
      <p:sp>
        <p:nvSpPr>
          <p:cNvPr id="199" name="云形标注 39"/>
          <p:cNvSpPr/>
          <p:nvPr/>
        </p:nvSpPr>
        <p:spPr>
          <a:xfrm>
            <a:off x="1327320" y="692280"/>
            <a:ext cx="2668320" cy="3206520"/>
          </a:xfrm>
          <a:prstGeom prst="cloudCallout">
            <a:avLst>
              <a:gd name="adj1" fmla="val -66268"/>
              <a:gd name="adj2" fmla="val -12268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37960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309420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202" name="虚尾箭头 17"/>
          <p:cNvSpPr/>
          <p:nvPr/>
        </p:nvSpPr>
        <p:spPr>
          <a:xfrm rot="10800000">
            <a:off x="4067280" y="1646280"/>
            <a:ext cx="1187280" cy="1495440"/>
          </a:xfrm>
          <a:custGeom>
            <a:avLst/>
            <a:gdLst/>
            <a:ahLst/>
            <a:rect l="l" t="t" r="r" b="b"/>
            <a:pathLst>
              <a:path w="1188133" h="1495520">
                <a:moveTo>
                  <a:pt x="0" y="373880"/>
                </a:moveTo>
                <a:lnTo>
                  <a:pt x="37129" y="373880"/>
                </a:lnTo>
                <a:lnTo>
                  <a:pt x="37129" y="1121640"/>
                </a:lnTo>
                <a:lnTo>
                  <a:pt x="0" y="1121640"/>
                </a:lnTo>
                <a:lnTo>
                  <a:pt x="0" y="373880"/>
                </a:lnTo>
                <a:close/>
                <a:moveTo>
                  <a:pt x="74258" y="373880"/>
                </a:moveTo>
                <a:lnTo>
                  <a:pt x="148517" y="373880"/>
                </a:lnTo>
                <a:lnTo>
                  <a:pt x="148517" y="1121640"/>
                </a:lnTo>
                <a:lnTo>
                  <a:pt x="74258" y="1121640"/>
                </a:lnTo>
                <a:lnTo>
                  <a:pt x="74258" y="373880"/>
                </a:lnTo>
                <a:close/>
                <a:moveTo>
                  <a:pt x="185646" y="373880"/>
                </a:moveTo>
                <a:lnTo>
                  <a:pt x="594067" y="373880"/>
                </a:lnTo>
                <a:lnTo>
                  <a:pt x="594067" y="0"/>
                </a:lnTo>
                <a:lnTo>
                  <a:pt x="1188133" y="747760"/>
                </a:lnTo>
                <a:lnTo>
                  <a:pt x="594067" y="1495520"/>
                </a:lnTo>
                <a:lnTo>
                  <a:pt x="594067" y="1121640"/>
                </a:lnTo>
                <a:lnTo>
                  <a:pt x="185646" y="1121640"/>
                </a:lnTo>
                <a:lnTo>
                  <a:pt x="185646" y="373880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06200" y="2276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1619280" y="4653000"/>
            <a:ext cx="157968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R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右箭头 4"/>
          <p:cNvSpPr/>
          <p:nvPr/>
        </p:nvSpPr>
        <p:spPr>
          <a:xfrm rot="5400000">
            <a:off x="2204640" y="4081320"/>
            <a:ext cx="4050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右箭头 25"/>
          <p:cNvSpPr/>
          <p:nvPr/>
        </p:nvSpPr>
        <p:spPr>
          <a:xfrm rot="16200000">
            <a:off x="2220120" y="4915440"/>
            <a:ext cx="3744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1619280" y="1085760"/>
            <a:ext cx="27417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宋体"/>
              </a:rPr>
              <a:t>Landma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宋体"/>
              </a:rPr>
              <a:t>Japanese Restaur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宋体"/>
              </a:rPr>
              <a:t>Art Muse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宋体"/>
              </a:rPr>
              <a:t>Night B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接连接符 8"/>
          <p:cNvSpPr/>
          <p:nvPr/>
        </p:nvSpPr>
        <p:spPr>
          <a:xfrm>
            <a:off x="1327320" y="2386080"/>
            <a:ext cx="26589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9640" y="5511960"/>
          <a:ext cx="3240360" cy="1081080"/>
        </p:xfrm>
        <a:graphic>
          <a:graphicData uri="http://schemas.openxmlformats.org/drawingml/2006/table">
            <a:tbl>
              <a:tblPr/>
              <a:tblGrid>
                <a:gridCol w="1152720"/>
                <a:gridCol w="2087640"/>
              </a:tblGrid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Landma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o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0" name="Picture 4" descr="http://media-cdn.tripadvisor.com/media/photo-s/01/f4/75/d1/early-morning-from-the.jpg"/>
          <p:cNvPicPr/>
          <p:nvPr/>
        </p:nvPicPr>
        <p:blipFill>
          <a:blip r:embed="rId10"/>
          <a:stretch/>
        </p:blipFill>
        <p:spPr>
          <a:xfrm>
            <a:off x="684360" y="6093000"/>
            <a:ext cx="75852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5003640" y="4370400"/>
          <a:ext cx="3205440" cy="1081080"/>
        </p:xfrm>
        <a:graphic>
          <a:graphicData uri="http://schemas.openxmlformats.org/drawingml/2006/table">
            <a:tbl>
              <a:tblPr/>
              <a:tblGrid>
                <a:gridCol w="416160"/>
                <a:gridCol w="27892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Liberty B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Operison Ho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4" descr="http://media-cdn.tripadvisor.com/media/photo-s/01/f4/75/d1/early-morning-from-the.jpg"/>
          <p:cNvPicPr/>
          <p:nvPr/>
        </p:nvPicPr>
        <p:blipFill>
          <a:blip r:embed="rId11"/>
          <a:stretch/>
        </p:blipFill>
        <p:spPr>
          <a:xfrm>
            <a:off x="7340760" y="4940280"/>
            <a:ext cx="758520" cy="432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png-3.findicons.com/files/icons/1609/ose_png/256/tick.png"/>
          <p:cNvPicPr/>
          <p:nvPr/>
        </p:nvPicPr>
        <p:blipFill>
          <a:blip r:embed="rId12"/>
          <a:stretch/>
        </p:blipFill>
        <p:spPr>
          <a:xfrm>
            <a:off x="8210520" y="4862520"/>
            <a:ext cx="609480" cy="608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findicons.com/files/icons/1609/ose_png/256/error.png"/>
          <p:cNvPicPr/>
          <p:nvPr/>
        </p:nvPicPr>
        <p:blipFill>
          <a:blip r:embed="rId13"/>
          <a:stretch/>
        </p:blipFill>
        <p:spPr>
          <a:xfrm>
            <a:off x="8209080" y="4292640"/>
            <a:ext cx="590400" cy="59040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B005-6DB6-417D-B623-E597BDB5B2D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标题 1"/>
          <p:cNvSpPr/>
          <p:nvPr/>
        </p:nvSpPr>
        <p:spPr>
          <a:xfrm>
            <a:off x="34920" y="-14400"/>
            <a:ext cx="900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宋体"/>
              </a:rPr>
              <a:t>Category-based Profile Mode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Rounded Rectangle 37"/>
          <p:cNvGrpSpPr/>
          <p:nvPr/>
        </p:nvGrpSpPr>
        <p:grpSpPr>
          <a:xfrm>
            <a:off x="480960" y="804960"/>
            <a:ext cx="1195560" cy="469800"/>
            <a:chOff x="480960" y="804960"/>
            <a:chExt cx="1195560" cy="469800"/>
          </a:xfrm>
        </p:grpSpPr>
        <p:pic>
          <p:nvPicPr>
            <p:cNvPr id="218" name="Rounded Rectangle 37" descr=""/>
            <p:cNvPicPr/>
            <p:nvPr/>
          </p:nvPicPr>
          <p:blipFill>
            <a:blip r:embed="rId14"/>
            <a:stretch/>
          </p:blipFill>
          <p:spPr>
            <a:xfrm>
              <a:off x="480960" y="804960"/>
              <a:ext cx="1195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57280" y="853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Rounded Rectangle 38"/>
          <p:cNvGrpSpPr/>
          <p:nvPr/>
        </p:nvGrpSpPr>
        <p:grpSpPr>
          <a:xfrm>
            <a:off x="480960" y="3322800"/>
            <a:ext cx="1195560" cy="474480"/>
            <a:chOff x="480960" y="3322800"/>
            <a:chExt cx="1195560" cy="474480"/>
          </a:xfrm>
        </p:grpSpPr>
        <p:pic>
          <p:nvPicPr>
            <p:cNvPr id="221" name="Rounded Rectangle 38" descr=""/>
            <p:cNvPicPr/>
            <p:nvPr/>
          </p:nvPicPr>
          <p:blipFill>
            <a:blip r:embed="rId15"/>
            <a:stretch/>
          </p:blipFill>
          <p:spPr>
            <a:xfrm>
              <a:off x="480960" y="332280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57280" y="3375000"/>
              <a:ext cx="1044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右箭头 4"/>
          <p:cNvSpPr/>
          <p:nvPr/>
        </p:nvSpPr>
        <p:spPr>
          <a:xfrm>
            <a:off x="3419640" y="4616280"/>
            <a:ext cx="996840" cy="468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1"/>
          <p:cNvSpPr/>
          <p:nvPr/>
        </p:nvSpPr>
        <p:spPr>
          <a:xfrm>
            <a:off x="5219640" y="5908680"/>
            <a:ext cx="2952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till not quite 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74" descr=""/>
          <p:cNvPicPr/>
          <p:nvPr/>
        </p:nvPicPr>
        <p:blipFill>
          <a:blip r:embed="rId16"/>
          <a:stretch/>
        </p:blipFill>
        <p:spPr>
          <a:xfrm>
            <a:off x="684360" y="5554800"/>
            <a:ext cx="758520" cy="431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4" descr=""/>
          <p:cNvPicPr/>
          <p:nvPr/>
        </p:nvPicPr>
        <p:blipFill>
          <a:blip r:embed="rId17"/>
          <a:stretch/>
        </p:blipFill>
        <p:spPr>
          <a:xfrm>
            <a:off x="7340760" y="4410000"/>
            <a:ext cx="758520" cy="432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-36360" y="46864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宋体"/>
              </a:rPr>
              <a:t>Candidate 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41Z</dcterms:created>
  <dc:creator>ypeilin</dc:creator>
  <dc:description/>
  <dc:language>en-US</dc:language>
  <cp:lastModifiedBy>Hui Fang</cp:lastModifiedBy>
  <dcterms:modified xsi:type="dcterms:W3CDTF">2013-11-21T12:35:36Z</dcterms:modified>
  <cp:revision>631</cp:revision>
  <dc:subject/>
  <dc:title>Opinion-based User Profile Modeling for Contextual Suggestions</dc:title>
</cp:coreProperties>
</file>