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31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42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FE69-E9F9-4F85-B2E4-350363E4A5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2F27-4B51-4B51-8625-F5E862F9461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CA1-BAED-48E1-8D88-C099348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664-2F68-44BF-8E9E-62A42830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EDC-72B6-458C-8C96-1EA5B5B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F4C-F805-4174-8C39-B37BDED3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198-AC68-4508-990E-290EB896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A82-34F7-46EC-BF0D-7295E6AF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954-71D8-4CB3-A322-FD4FCF6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748-3A64-4523-92DE-7F065F09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4FF-E6BE-4293-A13E-85F4CEA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46F-0EFE-412C-9509-4C919BC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CCB-0160-4918-AB7A-5C4A820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180-595C-495F-AF69-BFD92E6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4B3-B5D8-439B-8BFD-FA464CFFA41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B70-087E-4269-9C4A-4902C9900B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30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Rockwell"/>
              </a:rPr>
              <a:t>Opinions Matter - InfoLab@UD at 2014 Contextual Suggestion Tr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Peilin Yang and Hui F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24" descr="https://www.udel.edu/lock-down/ocm-graphics/internal/InterlockingUD1C.jpg"/>
          <p:cNvPicPr/>
          <p:nvPr/>
        </p:nvPicPr>
        <p:blipFill>
          <a:blip r:embed="rId1"/>
          <a:stretch/>
        </p:blipFill>
        <p:spPr>
          <a:xfrm>
            <a:off x="6804000" y="5877000"/>
            <a:ext cx="496800" cy="64764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DE56-1B26-4F0D-AFD4-63791F2BF1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infolab-logo.png"/>
          <p:cNvPicPr/>
          <p:nvPr/>
        </p:nvPicPr>
        <p:blipFill>
          <a:blip r:embed="rId2"/>
          <a:stretch/>
        </p:blipFill>
        <p:spPr>
          <a:xfrm>
            <a:off x="7288200" y="5832360"/>
            <a:ext cx="1747800" cy="765360"/>
          </a:xfrm>
          <a:prstGeom prst="rect">
            <a:avLst/>
          </a:prstGeom>
          <a:ln w="0">
            <a:noFill/>
          </a:ln>
        </p:spPr>
      </p:pic>
      <p:sp>
        <p:nvSpPr>
          <p:cNvPr id="53" name="副标题 2"/>
          <p:cNvSpPr/>
          <p:nvPr/>
        </p:nvSpPr>
        <p:spPr>
          <a:xfrm>
            <a:off x="1835280" y="501336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Rockwell"/>
                <a:ea typeface="宋体"/>
              </a:rPr>
              <a:t>Presented by Kuang 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6A8-05A7-4FF8-AFC0-A5FED65FDF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In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  <a:ea typeface="宋体"/>
              </a:rPr>
              <a:t>No single factor can capture the real reas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6"/>
          <p:cNvSpPr/>
          <p:nvPr/>
        </p:nvSpPr>
        <p:spPr>
          <a:xfrm>
            <a:off x="3492360" y="2349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Enrich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1"/>
          <p:cNvSpPr/>
          <p:nvPr/>
        </p:nvSpPr>
        <p:spPr>
          <a:xfrm>
            <a:off x="1835280" y="3303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Explore the opin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2"/>
          <p:cNvSpPr/>
          <p:nvPr/>
        </p:nvSpPr>
        <p:spPr>
          <a:xfrm>
            <a:off x="539640" y="42339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Leverage the wisdom of crow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88B-80C1-42CD-BB35-77F215D574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Profile Modeling - U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avatar, hostes, user, woman icon"/>
          <p:cNvPicPr/>
          <p:nvPr/>
        </p:nvPicPr>
        <p:blipFill>
          <a:blip r:embed="rId1"/>
          <a:stretch/>
        </p:blipFill>
        <p:spPr>
          <a:xfrm>
            <a:off x="4572000" y="89388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avatar, ninja, user, warrior icon"/>
          <p:cNvPicPr/>
          <p:nvPr/>
        </p:nvPicPr>
        <p:blipFill>
          <a:blip r:embed="rId2"/>
          <a:stretch/>
        </p:blipFill>
        <p:spPr>
          <a:xfrm>
            <a:off x="4173480" y="5103720"/>
            <a:ext cx="46980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avatar, girl, nerd, user, woman icon"/>
          <p:cNvPicPr/>
          <p:nvPr/>
        </p:nvPicPr>
        <p:blipFill>
          <a:blip r:embed="rId3"/>
          <a:stretch/>
        </p:blipFill>
        <p:spPr>
          <a:xfrm>
            <a:off x="4178160" y="4292640"/>
            <a:ext cx="481320" cy="48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avatar, circus, man, user, wizard icon"/>
          <p:cNvPicPr/>
          <p:nvPr/>
        </p:nvPicPr>
        <p:blipFill>
          <a:blip r:embed="rId4"/>
          <a:stretch/>
        </p:blipFill>
        <p:spPr>
          <a:xfrm>
            <a:off x="4173480" y="5878440"/>
            <a:ext cx="490680" cy="503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avatar, genius, it, man, user icon"/>
          <p:cNvPicPr/>
          <p:nvPr/>
        </p:nvPicPr>
        <p:blipFill>
          <a:blip r:embed="rId5"/>
          <a:stretch/>
        </p:blipFill>
        <p:spPr>
          <a:xfrm>
            <a:off x="4572000" y="1747800"/>
            <a:ext cx="438120" cy="455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s://cdn4.iconfinder.com/data/icons/user-avatar-flat-icons/512/User_Avatar-44-512.png"/>
          <p:cNvPicPr/>
          <p:nvPr/>
        </p:nvPicPr>
        <p:blipFill>
          <a:blip r:embed="rId6"/>
          <a:stretch/>
        </p:blipFill>
        <p:spPr>
          <a:xfrm>
            <a:off x="250920" y="30700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5" name="左大括号 1"/>
          <p:cNvSpPr/>
          <p:nvPr/>
        </p:nvSpPr>
        <p:spPr>
          <a:xfrm>
            <a:off x="1258920" y="1052640"/>
            <a:ext cx="409680" cy="4897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78560 h 4897440"/>
              <a:gd name="textAreaBottom" fmla="*/ 471888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9"/>
                  <a:pt x="10800" y="2517"/>
                </a:cubicBezTo>
                <a:lnTo>
                  <a:pt x="10800" y="8283"/>
                </a:lnTo>
                <a:cubicBezTo>
                  <a:pt x="10800" y="9542"/>
                  <a:pt x="5400" y="10800"/>
                  <a:pt x="0" y="10800"/>
                </a:cubicBezTo>
                <a:cubicBezTo>
                  <a:pt x="5400" y="10800"/>
                  <a:pt x="10800" y="12059"/>
                  <a:pt x="10800" y="13317"/>
                </a:cubicBezTo>
                <a:lnTo>
                  <a:pt x="10800" y="19083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1763640" y="10843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Ruxb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五角星 3"/>
          <p:cNvSpPr/>
          <p:nvPr/>
        </p:nvSpPr>
        <p:spPr>
          <a:xfrm>
            <a:off x="2843280" y="11253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五角星 12"/>
          <p:cNvSpPr/>
          <p:nvPr/>
        </p:nvSpPr>
        <p:spPr>
          <a:xfrm>
            <a:off x="3203640" y="112536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五角星 13"/>
          <p:cNvSpPr/>
          <p:nvPr/>
        </p:nvSpPr>
        <p:spPr>
          <a:xfrm>
            <a:off x="3564000" y="11253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五角星 14"/>
          <p:cNvSpPr/>
          <p:nvPr/>
        </p:nvSpPr>
        <p:spPr>
          <a:xfrm>
            <a:off x="3924360" y="112536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1652760" y="5229360"/>
            <a:ext cx="173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Museum of Science &amp;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五角星 18"/>
          <p:cNvSpPr/>
          <p:nvPr/>
        </p:nvSpPr>
        <p:spPr>
          <a:xfrm>
            <a:off x="3419640" y="558972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45384" y="142287"/>
                </a:lnTo>
                <a:lnTo>
                  <a:pt x="180182" y="0"/>
                </a:lnTo>
                <a:lnTo>
                  <a:pt x="214979" y="142287"/>
                </a:lnTo>
                <a:lnTo>
                  <a:pt x="360363" y="131582"/>
                </a:lnTo>
                <a:lnTo>
                  <a:pt x="236484" y="208815"/>
                </a:lnTo>
                <a:lnTo>
                  <a:pt x="291540" y="344486"/>
                </a:lnTo>
                <a:lnTo>
                  <a:pt x="180182" y="249932"/>
                </a:lnTo>
                <a:lnTo>
                  <a:pt x="68823" y="344486"/>
                </a:lnTo>
                <a:lnTo>
                  <a:pt x="123879" y="208815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直接箭头连接符 6"/>
          <p:cNvCxnSpPr/>
          <p:nvPr/>
        </p:nvCxnSpPr>
        <p:spPr>
          <a:xfrm flipV="1">
            <a:off x="2842920" y="1556640"/>
            <a:ext cx="1080" cy="1367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4" name="直接箭头连接符 23"/>
          <p:cNvCxnSpPr/>
          <p:nvPr/>
        </p:nvCxnSpPr>
        <p:spPr>
          <a:xfrm>
            <a:off x="2842920" y="3933360"/>
            <a:ext cx="1080" cy="1296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35" name="TextBox 11"/>
          <p:cNvSpPr/>
          <p:nvPr/>
        </p:nvSpPr>
        <p:spPr>
          <a:xfrm>
            <a:off x="1547640" y="3213000"/>
            <a:ext cx="42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Rockwell"/>
                <a:ea typeface="宋体"/>
              </a:rPr>
              <a:t>Only Ratings are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右箭头 16"/>
          <p:cNvSpPr/>
          <p:nvPr/>
        </p:nvSpPr>
        <p:spPr>
          <a:xfrm>
            <a:off x="1562040" y="3033720"/>
            <a:ext cx="423396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宋体"/>
              </a:rPr>
              <a:t>Find Reviews w/Similar Ra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左大括号 29"/>
          <p:cNvSpPr/>
          <p:nvPr/>
        </p:nvSpPr>
        <p:spPr>
          <a:xfrm>
            <a:off x="4367160" y="973080"/>
            <a:ext cx="103320" cy="1519200"/>
          </a:xfrm>
          <a:custGeom>
            <a:avLst/>
            <a:gdLst>
              <a:gd name="textAreaLeft" fmla="*/ 66240 w 103320"/>
              <a:gd name="textAreaRight" fmla="*/ 103680 w 103320"/>
              <a:gd name="textAreaTop" fmla="*/ 45000 h 1519200"/>
              <a:gd name="textAreaBottom" fmla="*/ 147420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2"/>
                  <a:pt x="10800" y="2044"/>
                </a:cubicBezTo>
                <a:lnTo>
                  <a:pt x="10800" y="8756"/>
                </a:lnTo>
                <a:cubicBezTo>
                  <a:pt x="10800" y="9778"/>
                  <a:pt x="5400" y="10800"/>
                  <a:pt x="0" y="10800"/>
                </a:cubicBezTo>
                <a:cubicBezTo>
                  <a:pt x="5400" y="10800"/>
                  <a:pt x="10800" y="11822"/>
                  <a:pt x="10800" y="12844"/>
                </a:cubicBezTo>
                <a:lnTo>
                  <a:pt x="10800" y="19556"/>
                </a:lnTo>
                <a:cubicBezTo>
                  <a:pt x="10800" y="205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五角星 30"/>
          <p:cNvSpPr/>
          <p:nvPr/>
        </p:nvSpPr>
        <p:spPr>
          <a:xfrm>
            <a:off x="507672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五角星 31"/>
          <p:cNvSpPr/>
          <p:nvPr/>
        </p:nvSpPr>
        <p:spPr>
          <a:xfrm>
            <a:off x="543564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五角星 32"/>
          <p:cNvSpPr/>
          <p:nvPr/>
        </p:nvSpPr>
        <p:spPr>
          <a:xfrm>
            <a:off x="579600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五角星 33"/>
          <p:cNvSpPr/>
          <p:nvPr/>
        </p:nvSpPr>
        <p:spPr>
          <a:xfrm>
            <a:off x="615636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五角星 34"/>
          <p:cNvSpPr/>
          <p:nvPr/>
        </p:nvSpPr>
        <p:spPr>
          <a:xfrm>
            <a:off x="5076720" y="177624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五角星 35"/>
          <p:cNvSpPr/>
          <p:nvPr/>
        </p:nvSpPr>
        <p:spPr>
          <a:xfrm>
            <a:off x="5435640" y="17762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五角星 36"/>
          <p:cNvSpPr/>
          <p:nvPr/>
        </p:nvSpPr>
        <p:spPr>
          <a:xfrm>
            <a:off x="5796000" y="17762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五角星 37"/>
          <p:cNvSpPr/>
          <p:nvPr/>
        </p:nvSpPr>
        <p:spPr>
          <a:xfrm>
            <a:off x="6156360" y="17762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五角星 38"/>
          <p:cNvSpPr/>
          <p:nvPr/>
        </p:nvSpPr>
        <p:spPr>
          <a:xfrm>
            <a:off x="651672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4948200" y="13320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cious cuisine, prefect ser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0"/>
          <p:cNvSpPr/>
          <p:nvPr/>
        </p:nvSpPr>
        <p:spPr>
          <a:xfrm>
            <a:off x="4932360" y="212256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the food and the ambi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左大括号 41"/>
          <p:cNvSpPr/>
          <p:nvPr/>
        </p:nvSpPr>
        <p:spPr>
          <a:xfrm>
            <a:off x="3995640" y="4645080"/>
            <a:ext cx="103320" cy="1520640"/>
          </a:xfrm>
          <a:custGeom>
            <a:avLst/>
            <a:gdLst>
              <a:gd name="textAreaLeft" fmla="*/ 66240 w 103320"/>
              <a:gd name="textAreaRight" fmla="*/ 103680 w 103320"/>
              <a:gd name="textAreaTop" fmla="*/ 45000 h 1520640"/>
              <a:gd name="textAreaBottom" fmla="*/ 1475640 h 152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1"/>
                  <a:pt x="10800" y="2042"/>
                </a:cubicBezTo>
                <a:lnTo>
                  <a:pt x="10800" y="8758"/>
                </a:lnTo>
                <a:cubicBezTo>
                  <a:pt x="10800" y="9779"/>
                  <a:pt x="5400" y="10800"/>
                  <a:pt x="0" y="10800"/>
                </a:cubicBezTo>
                <a:cubicBezTo>
                  <a:pt x="5400" y="10800"/>
                  <a:pt x="10800" y="11821"/>
                  <a:pt x="10800" y="12842"/>
                </a:cubicBezTo>
                <a:lnTo>
                  <a:pt x="10800" y="19558"/>
                </a:lnTo>
                <a:cubicBezTo>
                  <a:pt x="10800" y="2057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五角星 42"/>
          <p:cNvSpPr/>
          <p:nvPr/>
        </p:nvSpPr>
        <p:spPr>
          <a:xfrm>
            <a:off x="4716360" y="436248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五角星 43"/>
          <p:cNvSpPr/>
          <p:nvPr/>
        </p:nvSpPr>
        <p:spPr>
          <a:xfrm>
            <a:off x="5076720" y="436248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五角星 44"/>
          <p:cNvSpPr/>
          <p:nvPr/>
        </p:nvSpPr>
        <p:spPr>
          <a:xfrm>
            <a:off x="4716360" y="514836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五角星 46"/>
          <p:cNvSpPr/>
          <p:nvPr/>
        </p:nvSpPr>
        <p:spPr>
          <a:xfrm>
            <a:off x="4716360" y="589428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五角星 47"/>
          <p:cNvSpPr/>
          <p:nvPr/>
        </p:nvSpPr>
        <p:spPr>
          <a:xfrm>
            <a:off x="5076720" y="589428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4572000" y="47070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teres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49"/>
          <p:cNvSpPr/>
          <p:nvPr/>
        </p:nvSpPr>
        <p:spPr>
          <a:xfrm>
            <a:off x="4587840" y="544500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thing spe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0"/>
          <p:cNvSpPr/>
          <p:nvPr/>
        </p:nvSpPr>
        <p:spPr>
          <a:xfrm>
            <a:off x="4572000" y="6227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have more transportation supp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24"/>
          <p:cNvSpPr/>
          <p:nvPr/>
        </p:nvSpPr>
        <p:spPr>
          <a:xfrm>
            <a:off x="5019840" y="1747800"/>
            <a:ext cx="30812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53"/>
          <p:cNvSpPr/>
          <p:nvPr/>
        </p:nvSpPr>
        <p:spPr>
          <a:xfrm>
            <a:off x="5003640" y="2468520"/>
            <a:ext cx="308160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54"/>
          <p:cNvSpPr/>
          <p:nvPr/>
        </p:nvSpPr>
        <p:spPr>
          <a:xfrm flipV="1">
            <a:off x="4643280" y="5057280"/>
            <a:ext cx="1513080" cy="972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56"/>
          <p:cNvSpPr/>
          <p:nvPr/>
        </p:nvSpPr>
        <p:spPr>
          <a:xfrm>
            <a:off x="4643280" y="5805360"/>
            <a:ext cx="206064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58"/>
          <p:cNvSpPr/>
          <p:nvPr/>
        </p:nvSpPr>
        <p:spPr>
          <a:xfrm>
            <a:off x="4664160" y="6597720"/>
            <a:ext cx="430056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直接箭头连接符 39"/>
          <p:cNvCxnSpPr/>
          <p:nvPr/>
        </p:nvCxnSpPr>
        <p:spPr>
          <a:xfrm flipH="1" flipV="1">
            <a:off x="7019640" y="2564640"/>
            <a:ext cx="289440" cy="359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直接箭头连接符 63"/>
          <p:cNvCxnSpPr/>
          <p:nvPr/>
        </p:nvCxnSpPr>
        <p:spPr>
          <a:xfrm flipH="1" flipV="1">
            <a:off x="7470360" y="1775880"/>
            <a:ext cx="180000" cy="11916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65" name="TextBox 59"/>
          <p:cNvSpPr/>
          <p:nvPr/>
        </p:nvSpPr>
        <p:spPr>
          <a:xfrm>
            <a:off x="5796000" y="2852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Rockwell"/>
                <a:ea typeface="宋体"/>
              </a:rPr>
              <a:t>Positive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68"/>
          <p:cNvSpPr/>
          <p:nvPr/>
        </p:nvSpPr>
        <p:spPr>
          <a:xfrm>
            <a:off x="5796000" y="36147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Rockwell"/>
                <a:ea typeface="宋体"/>
              </a:rPr>
              <a:t>Negative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7" name="直接箭头连接符 69"/>
          <p:cNvCxnSpPr/>
          <p:nvPr/>
        </p:nvCxnSpPr>
        <p:spPr>
          <a:xfrm flipH="1">
            <a:off x="6155640" y="4176360"/>
            <a:ext cx="359640" cy="69300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8" name="直接箭头连接符 71"/>
          <p:cNvCxnSpPr>
            <a:endCxn id="256" idx="0"/>
          </p:cNvCxnSpPr>
          <p:nvPr/>
        </p:nvCxnSpPr>
        <p:spPr>
          <a:xfrm flipH="1">
            <a:off x="6345360" y="4176360"/>
            <a:ext cx="358920" cy="126900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9" name="直接箭头连接符 74"/>
          <p:cNvCxnSpPr>
            <a:endCxn id="257" idx="0"/>
          </p:cNvCxnSpPr>
          <p:nvPr/>
        </p:nvCxnSpPr>
        <p:spPr>
          <a:xfrm flipH="1">
            <a:off x="6948000" y="4247640"/>
            <a:ext cx="216720" cy="19803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EDA-61F5-462B-9446-26E486971B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Profile Modeling - U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9528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Representations of Reviews when building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611280" y="1606680"/>
            <a:ext cx="7921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Full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F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use full text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Unique terms from Full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UF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only the unique terms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Selective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S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most frequent terms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Unique terms from Selective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US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only consider the unique terms in S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Nouns in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N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nouns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Review Summarie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RS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summary of the review. RS are the terms extracted from the reviews using Opinosis Algorith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Rockwell"/>
                <a:ea typeface="宋体"/>
              </a:rPr>
              <a:t>[2]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179280" y="5931000"/>
            <a:ext cx="842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] K. Ganesan, C. Zhai, and J. Han. Opinosis: a graph-based approach to abstractive summarization of highly redundant opinions. In Proceedings of the 23rd International Conference on Computational Linguistics, COLING ’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BEC-9BB3-48E8-86E5-5B1EF717C3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Profile Modeling – Candidate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左大括号 1"/>
          <p:cNvSpPr/>
          <p:nvPr/>
        </p:nvSpPr>
        <p:spPr>
          <a:xfrm>
            <a:off x="1569960" y="1052640"/>
            <a:ext cx="409680" cy="4897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78560 h 4897440"/>
              <a:gd name="textAreaBottom" fmla="*/ 471888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9"/>
                  <a:pt x="10800" y="2517"/>
                </a:cubicBezTo>
                <a:lnTo>
                  <a:pt x="10800" y="8283"/>
                </a:lnTo>
                <a:cubicBezTo>
                  <a:pt x="10800" y="9542"/>
                  <a:pt x="5400" y="10800"/>
                  <a:pt x="0" y="10800"/>
                </a:cubicBezTo>
                <a:cubicBezTo>
                  <a:pt x="5400" y="10800"/>
                  <a:pt x="10800" y="12059"/>
                  <a:pt x="10800" y="13317"/>
                </a:cubicBezTo>
                <a:lnTo>
                  <a:pt x="10800" y="19083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五角星 30"/>
          <p:cNvSpPr/>
          <p:nvPr/>
        </p:nvSpPr>
        <p:spPr>
          <a:xfrm>
            <a:off x="270036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五角星 31"/>
          <p:cNvSpPr/>
          <p:nvPr/>
        </p:nvSpPr>
        <p:spPr>
          <a:xfrm>
            <a:off x="305928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五角星 32"/>
          <p:cNvSpPr/>
          <p:nvPr/>
        </p:nvSpPr>
        <p:spPr>
          <a:xfrm>
            <a:off x="341964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五角星 33"/>
          <p:cNvSpPr/>
          <p:nvPr/>
        </p:nvSpPr>
        <p:spPr>
          <a:xfrm>
            <a:off x="378000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五角星 34"/>
          <p:cNvSpPr/>
          <p:nvPr/>
        </p:nvSpPr>
        <p:spPr>
          <a:xfrm>
            <a:off x="2700360" y="200484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五角星 35"/>
          <p:cNvSpPr/>
          <p:nvPr/>
        </p:nvSpPr>
        <p:spPr>
          <a:xfrm>
            <a:off x="3059280" y="20048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五角星 36"/>
          <p:cNvSpPr/>
          <p:nvPr/>
        </p:nvSpPr>
        <p:spPr>
          <a:xfrm>
            <a:off x="3419640" y="20048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五角星 37"/>
          <p:cNvSpPr/>
          <p:nvPr/>
        </p:nvSpPr>
        <p:spPr>
          <a:xfrm>
            <a:off x="3780000" y="20048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五角星 38"/>
          <p:cNvSpPr/>
          <p:nvPr/>
        </p:nvSpPr>
        <p:spPr>
          <a:xfrm>
            <a:off x="414036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21"/>
          <p:cNvSpPr/>
          <p:nvPr/>
        </p:nvSpPr>
        <p:spPr>
          <a:xfrm>
            <a:off x="2630520" y="1268280"/>
            <a:ext cx="64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ly amazing food and the most friendly and inviting atmosphere that I've ever experienc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0"/>
          <p:cNvSpPr/>
          <p:nvPr/>
        </p:nvSpPr>
        <p:spPr>
          <a:xfrm>
            <a:off x="2627280" y="2382840"/>
            <a:ext cx="61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od was very reasonably priced. No soggy dough and just the right amount of sweetnes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五角星 42"/>
          <p:cNvSpPr/>
          <p:nvPr/>
        </p:nvSpPr>
        <p:spPr>
          <a:xfrm>
            <a:off x="2700360" y="4365720"/>
            <a:ext cx="358920" cy="342720"/>
          </a:xfrm>
          <a:custGeom>
            <a:avLst/>
            <a:gdLst/>
            <a:ahLst/>
            <a:rect l="l" t="t" r="r" b="b"/>
            <a:pathLst>
              <a:path w="358775" h="342900">
                <a:moveTo>
                  <a:pt x="0" y="130976"/>
                </a:moveTo>
                <a:lnTo>
                  <a:pt x="137041" y="130977"/>
                </a:lnTo>
                <a:lnTo>
                  <a:pt x="179388" y="0"/>
                </a:lnTo>
                <a:lnTo>
                  <a:pt x="221734" y="130977"/>
                </a:lnTo>
                <a:lnTo>
                  <a:pt x="358775" y="130976"/>
                </a:lnTo>
                <a:lnTo>
                  <a:pt x="247906" y="211923"/>
                </a:lnTo>
                <a:lnTo>
                  <a:pt x="290255" y="342899"/>
                </a:lnTo>
                <a:lnTo>
                  <a:pt x="179388" y="261950"/>
                </a:lnTo>
                <a:lnTo>
                  <a:pt x="68520" y="342899"/>
                </a:lnTo>
                <a:lnTo>
                  <a:pt x="11086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五角星 43"/>
          <p:cNvSpPr/>
          <p:nvPr/>
        </p:nvSpPr>
        <p:spPr>
          <a:xfrm>
            <a:off x="3059280" y="43657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五角星 44"/>
          <p:cNvSpPr/>
          <p:nvPr/>
        </p:nvSpPr>
        <p:spPr>
          <a:xfrm>
            <a:off x="2700360" y="546084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48"/>
          <p:cNvSpPr/>
          <p:nvPr/>
        </p:nvSpPr>
        <p:spPr>
          <a:xfrm>
            <a:off x="2671920" y="471636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 ball for a dollar. I guess so? But nothing spe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9"/>
          <p:cNvSpPr/>
          <p:nvPr/>
        </p:nvSpPr>
        <p:spPr>
          <a:xfrm>
            <a:off x="2643120" y="5832360"/>
            <a:ext cx="56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've done some pretty disgusting things in my life... trust me, but I've always been considerate of other people and their bounda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直接箭头连接符 39"/>
          <p:cNvCxnSpPr/>
          <p:nvPr/>
        </p:nvCxnSpPr>
        <p:spPr>
          <a:xfrm flipH="1" flipV="1">
            <a:off x="5637960" y="2706480"/>
            <a:ext cx="172440" cy="530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95" name="直接箭头连接符 63"/>
          <p:cNvCxnSpPr/>
          <p:nvPr/>
        </p:nvCxnSpPr>
        <p:spPr>
          <a:xfrm flipV="1">
            <a:off x="6046920" y="1772640"/>
            <a:ext cx="326160" cy="1424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296" name="TextBox 59"/>
          <p:cNvSpPr/>
          <p:nvPr/>
        </p:nvSpPr>
        <p:spPr>
          <a:xfrm>
            <a:off x="3059280" y="312732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Rockwell"/>
                <a:ea typeface="宋体"/>
              </a:rPr>
              <a:t>Positive Candidate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8"/>
          <p:cNvSpPr/>
          <p:nvPr/>
        </p:nvSpPr>
        <p:spPr>
          <a:xfrm>
            <a:off x="3059280" y="361476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Rockwell"/>
                <a:ea typeface="宋体"/>
              </a:rPr>
              <a:t>Negative Candidate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8" name="直接箭头连接符 69"/>
          <p:cNvCxnSpPr/>
          <p:nvPr/>
        </p:nvCxnSpPr>
        <p:spPr>
          <a:xfrm flipH="1">
            <a:off x="4318920" y="4076280"/>
            <a:ext cx="361080" cy="694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9" name="直接箭头连接符 74"/>
          <p:cNvCxnSpPr/>
          <p:nvPr/>
        </p:nvCxnSpPr>
        <p:spPr>
          <a:xfrm flipH="1">
            <a:off x="4858920" y="4076280"/>
            <a:ext cx="289440" cy="17787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triangle" w="med"/>
          </a:ln>
        </p:spPr>
      </p:cxnSp>
      <p:pic>
        <p:nvPicPr>
          <p:cNvPr id="300" name="Picture 4" descr="http://i.istockimg.com/file_thumbview_approve/8838887/2/stock-illustration-8838887-world-landmark-icon-set.jpg"/>
          <p:cNvPicPr/>
          <p:nvPr/>
        </p:nvPicPr>
        <p:blipFill>
          <a:blip r:embed="rId1"/>
          <a:stretch/>
        </p:blipFill>
        <p:spPr>
          <a:xfrm>
            <a:off x="284040" y="2924280"/>
            <a:ext cx="1263600" cy="1152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african, afro, american, avatar, user, woman icon"/>
          <p:cNvPicPr/>
          <p:nvPr/>
        </p:nvPicPr>
        <p:blipFill>
          <a:blip r:embed="rId2"/>
          <a:stretch/>
        </p:blipFill>
        <p:spPr>
          <a:xfrm>
            <a:off x="2120760" y="1125360"/>
            <a:ext cx="506520" cy="506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avatar, hip, hippie, jamaican, user icon"/>
          <p:cNvPicPr/>
          <p:nvPr/>
        </p:nvPicPr>
        <p:blipFill>
          <a:blip r:embed="rId3"/>
          <a:stretch/>
        </p:blipFill>
        <p:spPr>
          <a:xfrm>
            <a:off x="2124000" y="5589720"/>
            <a:ext cx="506520" cy="506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avatar, boy, man, pirate, user icon"/>
          <p:cNvPicPr/>
          <p:nvPr/>
        </p:nvPicPr>
        <p:blipFill>
          <a:blip r:embed="rId4"/>
          <a:stretch/>
        </p:blipFill>
        <p:spPr>
          <a:xfrm>
            <a:off x="2124000" y="447984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avatar, chef, cook, man, user icon"/>
          <p:cNvPicPr/>
          <p:nvPr/>
        </p:nvPicPr>
        <p:blipFill>
          <a:blip r:embed="rId5"/>
          <a:stretch/>
        </p:blipFill>
        <p:spPr>
          <a:xfrm>
            <a:off x="2124000" y="2128680"/>
            <a:ext cx="506520" cy="508320"/>
          </a:xfrm>
          <a:prstGeom prst="rect">
            <a:avLst/>
          </a:prstGeom>
          <a:ln w="0">
            <a:noFill/>
          </a:ln>
        </p:spPr>
      </p:pic>
      <p:sp>
        <p:nvSpPr>
          <p:cNvPr id="305" name="直接连接符 40"/>
          <p:cNvSpPr/>
          <p:nvPr/>
        </p:nvSpPr>
        <p:spPr>
          <a:xfrm>
            <a:off x="2671920" y="1604880"/>
            <a:ext cx="5500440" cy="27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接连接符 41"/>
          <p:cNvSpPr/>
          <p:nvPr/>
        </p:nvSpPr>
        <p:spPr>
          <a:xfrm>
            <a:off x="2671920" y="1889280"/>
            <a:ext cx="3536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接连接符 45"/>
          <p:cNvSpPr/>
          <p:nvPr/>
        </p:nvSpPr>
        <p:spPr>
          <a:xfrm>
            <a:off x="2725560" y="5084640"/>
            <a:ext cx="48913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接连接符 46"/>
          <p:cNvSpPr/>
          <p:nvPr/>
        </p:nvSpPr>
        <p:spPr>
          <a:xfrm>
            <a:off x="2700360" y="2708280"/>
            <a:ext cx="5832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47"/>
          <p:cNvSpPr/>
          <p:nvPr/>
        </p:nvSpPr>
        <p:spPr>
          <a:xfrm>
            <a:off x="2700360" y="2994120"/>
            <a:ext cx="27795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48"/>
          <p:cNvSpPr/>
          <p:nvPr/>
        </p:nvSpPr>
        <p:spPr>
          <a:xfrm>
            <a:off x="2725560" y="6165720"/>
            <a:ext cx="54468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49"/>
          <p:cNvSpPr/>
          <p:nvPr/>
        </p:nvSpPr>
        <p:spPr>
          <a:xfrm>
            <a:off x="2725560" y="6453360"/>
            <a:ext cx="54468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50"/>
          <p:cNvSpPr/>
          <p:nvPr/>
        </p:nvSpPr>
        <p:spPr>
          <a:xfrm>
            <a:off x="2725560" y="6742080"/>
            <a:ext cx="105444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406-D676-4EEB-8114-9AFCBC5442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317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8" name="曲线连接符 12"/>
          <p:cNvCxnSpPr>
            <a:stCxn id="315" idx="2"/>
            <a:endCxn id="317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319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320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2" name="曲线连接符 20"/>
          <p:cNvCxnSpPr>
            <a:stCxn id="317" idx="2"/>
            <a:endCxn id="320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323" name="曲线连接符 24"/>
          <p:cNvCxnSpPr>
            <a:stCxn id="320" idx="2"/>
            <a:endCxn id="321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324" name="Picture 8" descr="http://descriptivewords.org/descriptivewords/kids/descriptivewords-for-taste.jpg"/>
          <p:cNvPicPr/>
          <p:nvPr/>
        </p:nvPicPr>
        <p:blipFill>
          <a:blip r:embed="rId3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://www.talkinbusiness.net/cms/wp-content/uploads/2013/04/rankings.jpg"/>
          <p:cNvPicPr/>
          <p:nvPr/>
        </p:nvPicPr>
        <p:blipFill>
          <a:blip r:embed="rId4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Candidate Suggestion Ran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直接箭头连接符 5"/>
          <p:cNvCxnSpPr/>
          <p:nvPr/>
        </p:nvCxnSpPr>
        <p:spPr>
          <a:xfrm flipV="1">
            <a:off x="3742920" y="2493360"/>
            <a:ext cx="1545480" cy="108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8" name="直接箭头连接符 14"/>
          <p:cNvCxnSpPr/>
          <p:nvPr/>
        </p:nvCxnSpPr>
        <p:spPr>
          <a:xfrm flipV="1">
            <a:off x="3742920" y="2566800"/>
            <a:ext cx="1545480" cy="86400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直接箭头连接符 18"/>
          <p:cNvCxnSpPr/>
          <p:nvPr/>
        </p:nvCxnSpPr>
        <p:spPr>
          <a:xfrm>
            <a:off x="3779640" y="2567160"/>
            <a:ext cx="1508760" cy="86400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B375-B9E8-402E-913E-33F40056F5B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直接箭头连接符 13"/>
          <p:cNvCxnSpPr/>
          <p:nvPr/>
        </p:nvCxnSpPr>
        <p:spPr>
          <a:xfrm>
            <a:off x="3745080" y="3501720"/>
            <a:ext cx="1543680" cy="108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2" name="矩形标注 21"/>
          <p:cNvSpPr/>
          <p:nvPr/>
        </p:nvSpPr>
        <p:spPr>
          <a:xfrm>
            <a:off x="611280" y="4005360"/>
            <a:ext cx="3313080" cy="720720"/>
          </a:xfrm>
          <a:prstGeom prst="wedgeRectCallout">
            <a:avLst>
              <a:gd name="adj1" fmla="val -513"/>
              <a:gd name="adj2" fmla="val -8681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es the user dislike  exampl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标注 22"/>
          <p:cNvSpPr/>
          <p:nvPr/>
        </p:nvSpPr>
        <p:spPr>
          <a:xfrm>
            <a:off x="611280" y="1197000"/>
            <a:ext cx="3313080" cy="720720"/>
          </a:xfrm>
          <a:prstGeom prst="wedgeRectCallout">
            <a:avLst>
              <a:gd name="adj1" fmla="val -796"/>
              <a:gd name="adj2" fmla="val 8564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es the user like exampl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标注 28"/>
          <p:cNvSpPr/>
          <p:nvPr/>
        </p:nvSpPr>
        <p:spPr>
          <a:xfrm>
            <a:off x="5288040" y="4005360"/>
            <a:ext cx="3494160" cy="720720"/>
          </a:xfrm>
          <a:prstGeom prst="wedgeRectCallout">
            <a:avLst>
              <a:gd name="adj1" fmla="val 310"/>
              <a:gd name="adj2" fmla="val -8884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 other users dislike candidat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标注 29"/>
          <p:cNvSpPr/>
          <p:nvPr/>
        </p:nvSpPr>
        <p:spPr>
          <a:xfrm>
            <a:off x="5214960" y="1197000"/>
            <a:ext cx="3332160" cy="720720"/>
          </a:xfrm>
          <a:prstGeom prst="wedgeRectCallout">
            <a:avLst>
              <a:gd name="adj1" fmla="val 314"/>
              <a:gd name="adj2" fmla="val 886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 other users like candidat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ounded Rectangle 31"/>
          <p:cNvSpPr/>
          <p:nvPr/>
        </p:nvSpPr>
        <p:spPr>
          <a:xfrm>
            <a:off x="1116000" y="2205000"/>
            <a:ext cx="24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sitive User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ounded Rectangle 32"/>
          <p:cNvSpPr/>
          <p:nvPr/>
        </p:nvSpPr>
        <p:spPr>
          <a:xfrm>
            <a:off x="1116000" y="3213000"/>
            <a:ext cx="2484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Negative User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33"/>
          <p:cNvSpPr/>
          <p:nvPr/>
        </p:nvSpPr>
        <p:spPr>
          <a:xfrm>
            <a:off x="5437080" y="2205000"/>
            <a:ext cx="266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ositive Candi.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ounded Rectangle 34"/>
          <p:cNvSpPr/>
          <p:nvPr/>
        </p:nvSpPr>
        <p:spPr>
          <a:xfrm>
            <a:off x="5437080" y="3213000"/>
            <a:ext cx="266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Negative Candi.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2" descr="https://cdn4.iconfinder.com/data/icons/user-avatar-flat-icons/512/User_Avatar-44-512.png"/>
          <p:cNvPicPr/>
          <p:nvPr/>
        </p:nvPicPr>
        <p:blipFill>
          <a:blip r:embed="rId1"/>
          <a:stretch/>
        </p:blipFill>
        <p:spPr>
          <a:xfrm>
            <a:off x="181080" y="24336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http://i.istockimg.com/file_thumbview_approve/8838887/2/stock-illustration-8838887-world-landmark-icon-set.jpg"/>
          <p:cNvPicPr/>
          <p:nvPr/>
        </p:nvPicPr>
        <p:blipFill>
          <a:blip r:embed="rId2"/>
          <a:stretch/>
        </p:blipFill>
        <p:spPr>
          <a:xfrm>
            <a:off x="8205840" y="2494080"/>
            <a:ext cx="758880" cy="6919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9"/>
          <p:cNvSpPr/>
          <p:nvPr/>
        </p:nvSpPr>
        <p:spPr>
          <a:xfrm>
            <a:off x="3927600" y="21240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Rockwell"/>
                <a:ea typeface="宋体"/>
              </a:rPr>
              <a:t>Simi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8"/>
          <p:cNvSpPr/>
          <p:nvPr/>
        </p:nvSpPr>
        <p:spPr>
          <a:xfrm>
            <a:off x="2484360" y="50864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  <a:ea typeface="宋体"/>
              </a:rPr>
              <a:t>Learning to R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  <a:ea typeface="宋体"/>
              </a:rPr>
              <a:t>Linear Interp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下箭头 12"/>
          <p:cNvSpPr/>
          <p:nvPr/>
        </p:nvSpPr>
        <p:spPr>
          <a:xfrm>
            <a:off x="4246560" y="3646440"/>
            <a:ext cx="541440" cy="15829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Ranking – Learning to Ra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350-7104-42E8-A797-D053247D6D8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539640" y="1241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1. Features: Similarities Sc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468360" y="1847880"/>
            <a:ext cx="5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1197000" y="1847880"/>
            <a:ext cx="7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U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2052720" y="1847880"/>
            <a:ext cx="7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25"/>
          <p:cNvSpPr/>
          <p:nvPr/>
        </p:nvSpPr>
        <p:spPr>
          <a:xfrm>
            <a:off x="2844720" y="1847880"/>
            <a:ext cx="7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U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6"/>
          <p:cNvSpPr/>
          <p:nvPr/>
        </p:nvSpPr>
        <p:spPr>
          <a:xfrm>
            <a:off x="3708360" y="1847880"/>
            <a:ext cx="7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4437000" y="1847880"/>
            <a:ext cx="7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加号 4"/>
          <p:cNvSpPr/>
          <p:nvPr/>
        </p:nvSpPr>
        <p:spPr>
          <a:xfrm>
            <a:off x="900000" y="199080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47766" y="137803"/>
                </a:moveTo>
                <a:lnTo>
                  <a:pt x="137802" y="137803"/>
                </a:lnTo>
                <a:lnTo>
                  <a:pt x="137802" y="47766"/>
                </a:lnTo>
                <a:lnTo>
                  <a:pt x="222560" y="47766"/>
                </a:lnTo>
                <a:lnTo>
                  <a:pt x="222560" y="137803"/>
                </a:lnTo>
                <a:lnTo>
                  <a:pt x="312596" y="137803"/>
                </a:lnTo>
                <a:lnTo>
                  <a:pt x="312596" y="222560"/>
                </a:lnTo>
                <a:lnTo>
                  <a:pt x="222560" y="222560"/>
                </a:lnTo>
                <a:lnTo>
                  <a:pt x="222560" y="312597"/>
                </a:lnTo>
                <a:lnTo>
                  <a:pt x="137802" y="312597"/>
                </a:lnTo>
                <a:lnTo>
                  <a:pt x="137802" y="222560"/>
                </a:lnTo>
                <a:lnTo>
                  <a:pt x="47766" y="222560"/>
                </a:lnTo>
                <a:lnTo>
                  <a:pt x="47766" y="137803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加号 28"/>
          <p:cNvSpPr/>
          <p:nvPr/>
        </p:nvSpPr>
        <p:spPr>
          <a:xfrm>
            <a:off x="1763640" y="199080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47766" y="137803"/>
                </a:moveTo>
                <a:lnTo>
                  <a:pt x="137802" y="137803"/>
                </a:lnTo>
                <a:lnTo>
                  <a:pt x="137802" y="47766"/>
                </a:lnTo>
                <a:lnTo>
                  <a:pt x="222560" y="47766"/>
                </a:lnTo>
                <a:lnTo>
                  <a:pt x="222560" y="137803"/>
                </a:lnTo>
                <a:lnTo>
                  <a:pt x="312596" y="137803"/>
                </a:lnTo>
                <a:lnTo>
                  <a:pt x="312596" y="222560"/>
                </a:lnTo>
                <a:lnTo>
                  <a:pt x="222560" y="222560"/>
                </a:lnTo>
                <a:lnTo>
                  <a:pt x="222560" y="312597"/>
                </a:lnTo>
                <a:lnTo>
                  <a:pt x="137802" y="312597"/>
                </a:lnTo>
                <a:lnTo>
                  <a:pt x="137802" y="222560"/>
                </a:lnTo>
                <a:lnTo>
                  <a:pt x="47766" y="222560"/>
                </a:lnTo>
                <a:lnTo>
                  <a:pt x="47766" y="137803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加号 35"/>
          <p:cNvSpPr/>
          <p:nvPr/>
        </p:nvSpPr>
        <p:spPr>
          <a:xfrm>
            <a:off x="2484360" y="199080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47766" y="137803"/>
                </a:moveTo>
                <a:lnTo>
                  <a:pt x="137802" y="137803"/>
                </a:lnTo>
                <a:lnTo>
                  <a:pt x="137802" y="47766"/>
                </a:lnTo>
                <a:lnTo>
                  <a:pt x="222560" y="47766"/>
                </a:lnTo>
                <a:lnTo>
                  <a:pt x="222560" y="137803"/>
                </a:lnTo>
                <a:lnTo>
                  <a:pt x="312596" y="137803"/>
                </a:lnTo>
                <a:lnTo>
                  <a:pt x="312596" y="222560"/>
                </a:lnTo>
                <a:lnTo>
                  <a:pt x="222560" y="222560"/>
                </a:lnTo>
                <a:lnTo>
                  <a:pt x="222560" y="312597"/>
                </a:lnTo>
                <a:lnTo>
                  <a:pt x="137802" y="312597"/>
                </a:lnTo>
                <a:lnTo>
                  <a:pt x="137802" y="222560"/>
                </a:lnTo>
                <a:lnTo>
                  <a:pt x="47766" y="222560"/>
                </a:lnTo>
                <a:lnTo>
                  <a:pt x="47766" y="137803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加号 36"/>
          <p:cNvSpPr/>
          <p:nvPr/>
        </p:nvSpPr>
        <p:spPr>
          <a:xfrm>
            <a:off x="3421080" y="1990800"/>
            <a:ext cx="358920" cy="360360"/>
          </a:xfrm>
          <a:custGeom>
            <a:avLst/>
            <a:gdLst/>
            <a:ahLst/>
            <a:rect l="l" t="t" r="r" b="b"/>
            <a:pathLst>
              <a:path w="358775" h="360363">
                <a:moveTo>
                  <a:pt x="47556" y="137990"/>
                </a:moveTo>
                <a:lnTo>
                  <a:pt x="137196" y="137990"/>
                </a:lnTo>
                <a:lnTo>
                  <a:pt x="137196" y="47766"/>
                </a:lnTo>
                <a:lnTo>
                  <a:pt x="221579" y="47766"/>
                </a:lnTo>
                <a:lnTo>
                  <a:pt x="221579" y="137990"/>
                </a:lnTo>
                <a:lnTo>
                  <a:pt x="311219" y="137990"/>
                </a:lnTo>
                <a:lnTo>
                  <a:pt x="311219" y="222373"/>
                </a:lnTo>
                <a:lnTo>
                  <a:pt x="221579" y="222373"/>
                </a:lnTo>
                <a:lnTo>
                  <a:pt x="221579" y="312597"/>
                </a:lnTo>
                <a:lnTo>
                  <a:pt x="137196" y="312597"/>
                </a:lnTo>
                <a:lnTo>
                  <a:pt x="137196" y="222373"/>
                </a:lnTo>
                <a:lnTo>
                  <a:pt x="47556" y="222373"/>
                </a:lnTo>
                <a:lnTo>
                  <a:pt x="47556" y="137990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加号 37"/>
          <p:cNvSpPr/>
          <p:nvPr/>
        </p:nvSpPr>
        <p:spPr>
          <a:xfrm>
            <a:off x="4132440" y="199080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47766" y="137803"/>
                </a:moveTo>
                <a:lnTo>
                  <a:pt x="137802" y="137803"/>
                </a:lnTo>
                <a:lnTo>
                  <a:pt x="137802" y="47766"/>
                </a:lnTo>
                <a:lnTo>
                  <a:pt x="222560" y="47766"/>
                </a:lnTo>
                <a:lnTo>
                  <a:pt x="222560" y="137803"/>
                </a:lnTo>
                <a:lnTo>
                  <a:pt x="312596" y="137803"/>
                </a:lnTo>
                <a:lnTo>
                  <a:pt x="312596" y="222560"/>
                </a:lnTo>
                <a:lnTo>
                  <a:pt x="222560" y="222560"/>
                </a:lnTo>
                <a:lnTo>
                  <a:pt x="222560" y="312597"/>
                </a:lnTo>
                <a:lnTo>
                  <a:pt x="137802" y="312597"/>
                </a:lnTo>
                <a:lnTo>
                  <a:pt x="137802" y="222560"/>
                </a:lnTo>
                <a:lnTo>
                  <a:pt x="47766" y="222560"/>
                </a:lnTo>
                <a:lnTo>
                  <a:pt x="47766" y="137803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6"/>
          <p:cNvSpPr/>
          <p:nvPr/>
        </p:nvSpPr>
        <p:spPr>
          <a:xfrm>
            <a:off x="468360" y="1847880"/>
            <a:ext cx="4464000" cy="70812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加号 39"/>
          <p:cNvSpPr/>
          <p:nvPr/>
        </p:nvSpPr>
        <p:spPr>
          <a:xfrm>
            <a:off x="5003640" y="2021040"/>
            <a:ext cx="360360" cy="360360"/>
          </a:xfrm>
          <a:custGeom>
            <a:avLst/>
            <a:gdLst/>
            <a:ahLst/>
            <a:rect l="l" t="t" r="r" b="b"/>
            <a:pathLst>
              <a:path w="360363" h="360362">
                <a:moveTo>
                  <a:pt x="47766" y="137802"/>
                </a:moveTo>
                <a:lnTo>
                  <a:pt x="137803" y="137802"/>
                </a:lnTo>
                <a:lnTo>
                  <a:pt x="137803" y="47766"/>
                </a:lnTo>
                <a:lnTo>
                  <a:pt x="222560" y="47766"/>
                </a:lnTo>
                <a:lnTo>
                  <a:pt x="222560" y="137802"/>
                </a:lnTo>
                <a:lnTo>
                  <a:pt x="312597" y="137802"/>
                </a:lnTo>
                <a:lnTo>
                  <a:pt x="312597" y="222560"/>
                </a:lnTo>
                <a:lnTo>
                  <a:pt x="222560" y="222560"/>
                </a:lnTo>
                <a:lnTo>
                  <a:pt x="222560" y="312596"/>
                </a:lnTo>
                <a:lnTo>
                  <a:pt x="137803" y="312596"/>
                </a:lnTo>
                <a:lnTo>
                  <a:pt x="137803" y="222560"/>
                </a:lnTo>
                <a:lnTo>
                  <a:pt x="47766" y="222560"/>
                </a:lnTo>
                <a:lnTo>
                  <a:pt x="47766" y="137802"/>
                </a:lnTo>
                <a:close/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0"/>
          <p:cNvSpPr/>
          <p:nvPr/>
        </p:nvSpPr>
        <p:spPr>
          <a:xfrm>
            <a:off x="5435640" y="1817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Lucida Console"/>
                <a:ea typeface="宋体"/>
              </a:rPr>
              <a:t>Category Simil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b0f0"/>
                </a:solidFill>
                <a:latin typeface="Lucida Console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42"/>
          <p:cNvSpPr/>
          <p:nvPr/>
        </p:nvSpPr>
        <p:spPr>
          <a:xfrm>
            <a:off x="5435640" y="1847880"/>
            <a:ext cx="3168720" cy="70812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1476360" y="25671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Review Simila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43"/>
          <p:cNvSpPr/>
          <p:nvPr/>
        </p:nvSpPr>
        <p:spPr>
          <a:xfrm>
            <a:off x="5508720" y="25671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Category Similariti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Rockwell"/>
                <a:ea typeface="宋体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8"/>
          <p:cNvSpPr/>
          <p:nvPr/>
        </p:nvSpPr>
        <p:spPr>
          <a:xfrm>
            <a:off x="250920" y="6165720"/>
            <a:ext cx="82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] P. Yang and H. Fang. An exploration of ranking-based strategy for contextual suggestion. In Proceedings of 21st Text REtrieval Conference (TREC 201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44"/>
          <p:cNvSpPr/>
          <p:nvPr/>
        </p:nvSpPr>
        <p:spPr>
          <a:xfrm>
            <a:off x="539640" y="321804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2. Metho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1444680" y="3833640"/>
            <a:ext cx="29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M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LambdaM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SV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http://etc-mysitemyway.s3.amazonaws.com/icons/legacy-previews/icons-256/green-jelly-icons-symbols-shapes/019227-green-jelly-icon-symbols-shapes-check-mark5-ps.png"/>
          <p:cNvPicPr/>
          <p:nvPr/>
        </p:nvPicPr>
        <p:blipFill>
          <a:blip r:embed="rId1"/>
          <a:stretch/>
        </p:blipFill>
        <p:spPr>
          <a:xfrm>
            <a:off x="1500120" y="4087800"/>
            <a:ext cx="3650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Ranking – Linear Interpo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8098-DC99-4931-A0BE-AFCBE731BB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1" descr=""/>
          <p:cNvPicPr/>
          <p:nvPr/>
        </p:nvPicPr>
        <p:blipFill>
          <a:blip r:embed="rId1"/>
          <a:stretch/>
        </p:blipFill>
        <p:spPr>
          <a:xfrm>
            <a:off x="822240" y="2554200"/>
            <a:ext cx="7205760" cy="804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0"/>
          <p:cNvSpPr/>
          <p:nvPr/>
        </p:nvSpPr>
        <p:spPr>
          <a:xfrm>
            <a:off x="1692360" y="3789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31"/>
          <p:cNvSpPr/>
          <p:nvPr/>
        </p:nvSpPr>
        <p:spPr>
          <a:xfrm>
            <a:off x="2556000" y="378936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U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32"/>
          <p:cNvSpPr/>
          <p:nvPr/>
        </p:nvSpPr>
        <p:spPr>
          <a:xfrm>
            <a:off x="3500280" y="378936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33"/>
          <p:cNvSpPr/>
          <p:nvPr/>
        </p:nvSpPr>
        <p:spPr>
          <a:xfrm>
            <a:off x="4211640" y="3789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U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507672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45"/>
          <p:cNvSpPr/>
          <p:nvPr/>
        </p:nvSpPr>
        <p:spPr>
          <a:xfrm>
            <a:off x="579600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http://etc-mysitemyway.s3.amazonaws.com/icons/legacy-previews/icons-256/green-jelly-icons-symbols-shapes/019227-green-jelly-icon-symbols-shapes-check-mark5-ps.png"/>
          <p:cNvPicPr/>
          <p:nvPr/>
        </p:nvPicPr>
        <p:blipFill>
          <a:blip r:embed="rId2"/>
          <a:stretch/>
        </p:blipFill>
        <p:spPr>
          <a:xfrm>
            <a:off x="5862600" y="374796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D6F-3DE4-499B-836D-F42F874A99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4" name="曲线连接符 12"/>
          <p:cNvCxnSpPr>
            <a:stCxn id="381" idx="2"/>
            <a:endCxn id="383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385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386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曲线连接符 20"/>
          <p:cNvCxnSpPr>
            <a:stCxn id="383" idx="2"/>
            <a:endCxn id="386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389" name="曲线连接符 24"/>
          <p:cNvCxnSpPr>
            <a:stCxn id="386" idx="2"/>
            <a:endCxn id="387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390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Personalized </a:t>
            </a: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Description Gen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A32E-4E54-4DB2-B7C9-CC6FA25095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ounded Rectangle 1"/>
          <p:cNvSpPr/>
          <p:nvPr/>
        </p:nvSpPr>
        <p:spPr>
          <a:xfrm>
            <a:off x="468360" y="1557360"/>
            <a:ext cx="3255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b3a2c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Rockwell"/>
                <a:ea typeface="宋体"/>
              </a:rPr>
              <a:t>Opening Sen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ounded Rectangle 6"/>
          <p:cNvSpPr/>
          <p:nvPr/>
        </p:nvSpPr>
        <p:spPr>
          <a:xfrm>
            <a:off x="468360" y="3305160"/>
            <a:ext cx="3255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2d0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Rockwell"/>
                <a:ea typeface="宋体"/>
              </a:rPr>
              <a:t>Highlighted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ounded Rectangle 8"/>
          <p:cNvSpPr/>
          <p:nvPr/>
        </p:nvSpPr>
        <p:spPr>
          <a:xfrm>
            <a:off x="468360" y="4797360"/>
            <a:ext cx="3255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Rockwell"/>
                <a:ea typeface="宋体"/>
              </a:rPr>
              <a:t>Concluding Sen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ounded Rectangle 6"/>
          <p:cNvSpPr/>
          <p:nvPr/>
        </p:nvSpPr>
        <p:spPr>
          <a:xfrm>
            <a:off x="468360" y="2619360"/>
            <a:ext cx="3255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Rockwell"/>
                <a:ea typeface="宋体"/>
              </a:rPr>
              <a:t>“</a:t>
            </a:r>
            <a:r>
              <a:rPr b="0" lang="en-US" sz="2000" spc="-1" strike="noStrike">
                <a:solidFill>
                  <a:srgbClr val="0070c0"/>
                </a:solidFill>
                <a:latin typeface="Rockwell"/>
                <a:ea typeface="宋体"/>
              </a:rPr>
              <a:t>Official”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34"/>
          <p:cNvSpPr/>
          <p:nvPr/>
        </p:nvSpPr>
        <p:spPr>
          <a:xfrm>
            <a:off x="3687840" y="1598760"/>
            <a:ext cx="40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What kind of this place i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35"/>
          <p:cNvSpPr/>
          <p:nvPr/>
        </p:nvSpPr>
        <p:spPr>
          <a:xfrm>
            <a:off x="3672000" y="2639880"/>
            <a:ext cx="51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What is this place? (see below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36"/>
          <p:cNvSpPr/>
          <p:nvPr/>
        </p:nvSpPr>
        <p:spPr>
          <a:xfrm>
            <a:off x="480960" y="21034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Fin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37"/>
          <p:cNvSpPr/>
          <p:nvPr/>
        </p:nvSpPr>
        <p:spPr>
          <a:xfrm>
            <a:off x="3652920" y="3325680"/>
            <a:ext cx="41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Why do other people like it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38"/>
          <p:cNvSpPr/>
          <p:nvPr/>
        </p:nvSpPr>
        <p:spPr>
          <a:xfrm>
            <a:off x="3670200" y="4818240"/>
            <a:ext cx="50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Why is this recommended for YOU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39"/>
          <p:cNvSpPr/>
          <p:nvPr/>
        </p:nvSpPr>
        <p:spPr>
          <a:xfrm>
            <a:off x="468360" y="5376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Positive example suggestion with the same fin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40"/>
          <p:cNvSpPr/>
          <p:nvPr/>
        </p:nvSpPr>
        <p:spPr>
          <a:xfrm>
            <a:off x="468360" y="389412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Sentences containing frequent nouns in positive reviews and more positive ad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1E73-056B-4B93-A21B-977CBC8E32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曲线连接符 12"/>
          <p:cNvCxnSpPr>
            <a:stCxn id="56" idx="2"/>
            <a:endCxn id="58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60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64" name="曲线连接符 20"/>
          <p:cNvCxnSpPr>
            <a:stCxn id="58" idx="2"/>
            <a:endCxn id="61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65" name="曲线连接符 24"/>
          <p:cNvCxnSpPr>
            <a:stCxn id="61" idx="2"/>
            <a:endCxn id="62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66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Descriptio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6"/>
          <p:cNvSpPr/>
          <p:nvPr/>
        </p:nvSpPr>
        <p:spPr>
          <a:xfrm>
            <a:off x="468360" y="1341360"/>
            <a:ext cx="82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Rockwell"/>
                <a:ea typeface="Times New Roman"/>
              </a:rPr>
              <a:t>The “Olive Room” is a bar. </a:t>
            </a:r>
            <a:r>
              <a:rPr b="0" i="1" lang="en-US" sz="2800" spc="-1" strike="noStrike">
                <a:solidFill>
                  <a:srgbClr val="0070c0"/>
                </a:solidFill>
                <a:latin typeface="Rockwell"/>
                <a:ea typeface="Times New Roman"/>
              </a:rPr>
              <a:t>Here at the olive room, you will receive the finest cuisine. </a:t>
            </a:r>
            <a:r>
              <a:rPr b="0" i="1" lang="en-US" sz="2800" spc="-1" strike="noStrike">
                <a:solidFill>
                  <a:srgbClr val="00b050"/>
                </a:solidFill>
                <a:latin typeface="Rockwell"/>
                <a:ea typeface="Times New Roman"/>
              </a:rPr>
              <a:t>“If you are looking for a unique dining experience, with excellent food, service, location, and outstanding ambiance, look no further!”</a:t>
            </a:r>
            <a:r>
              <a:rPr b="0" i="1" lang="en-US" sz="2800" spc="-1" strike="noStrike">
                <a:solidFill>
                  <a:srgbClr val="984807"/>
                </a:solidFill>
                <a:latin typeface="Rockwell"/>
                <a:ea typeface="Times New Roman"/>
              </a:rPr>
              <a:t> This place is similar to another place you liked: Tria Wine 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EA1-C391-42C8-866B-7CE9BED6B05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14"/>
          <p:cNvSpPr/>
          <p:nvPr/>
        </p:nvSpPr>
        <p:spPr>
          <a:xfrm>
            <a:off x="755640" y="423864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Rockwell"/>
                <a:ea typeface="Times New Roman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Rockwell"/>
                <a:ea typeface="Times New Roman"/>
              </a:rPr>
              <a:t>kind of this place i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755640" y="467028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Rockwell"/>
                <a:ea typeface="Times New Roman"/>
              </a:rPr>
              <a:t>What is this pla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16"/>
          <p:cNvSpPr/>
          <p:nvPr/>
        </p:nvSpPr>
        <p:spPr>
          <a:xfrm>
            <a:off x="826920" y="5129280"/>
            <a:ext cx="41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Rockwell"/>
                <a:ea typeface="Times New Roman"/>
              </a:rPr>
              <a:t>Why do other people like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7"/>
          <p:cNvSpPr/>
          <p:nvPr/>
        </p:nvSpPr>
        <p:spPr>
          <a:xfrm>
            <a:off x="826920" y="55594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Rockwell"/>
                <a:ea typeface="Times New Roman"/>
              </a:rPr>
              <a:t>Why is this recommended for Y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1"/>
          <p:cNvSpPr/>
          <p:nvPr/>
        </p:nvSpPr>
        <p:spPr>
          <a:xfrm>
            <a:off x="468360" y="1341360"/>
            <a:ext cx="8136000" cy="2676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50920" y="1600200"/>
          <a:ext cx="8686800" cy="158436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MR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B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40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.6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74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.70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REC Med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34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.3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739-45DA-4272-9FCA-660A859F5F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24000" y="350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Rockwell"/>
                <a:ea typeface="宋体"/>
              </a:rPr>
              <a:t>UDInfoCS2014_1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: Learning to Ran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Rockwell"/>
                <a:ea typeface="宋体"/>
              </a:rPr>
              <a:t>UDInfoCS2014_2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: Linear Interp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框架 1"/>
          <p:cNvSpPr/>
          <p:nvPr/>
        </p:nvSpPr>
        <p:spPr>
          <a:xfrm>
            <a:off x="108000" y="2349360"/>
            <a:ext cx="8928000" cy="432000"/>
          </a:xfrm>
          <a:custGeom>
            <a:avLst/>
            <a:gdLst/>
            <a:ahLst/>
            <a:rect l="l" t="t" r="r" b="b"/>
            <a:pathLst>
              <a:path w="8928992" h="432048">
                <a:moveTo>
                  <a:pt x="0" y="0"/>
                </a:moveTo>
                <a:lnTo>
                  <a:pt x="8928992" y="0"/>
                </a:lnTo>
                <a:lnTo>
                  <a:pt x="8928992" y="432048"/>
                </a:lnTo>
                <a:lnTo>
                  <a:pt x="0" y="432048"/>
                </a:lnTo>
                <a:lnTo>
                  <a:pt x="0" y="0"/>
                </a:lnTo>
                <a:close/>
                <a:moveTo>
                  <a:pt x="54006" y="54006"/>
                </a:moveTo>
                <a:lnTo>
                  <a:pt x="54006" y="378042"/>
                </a:lnTo>
                <a:lnTo>
                  <a:pt x="8874986" y="378042"/>
                </a:lnTo>
                <a:lnTo>
                  <a:pt x="8874986" y="54006"/>
                </a:lnTo>
                <a:lnTo>
                  <a:pt x="54006" y="54006"/>
                </a:lnTo>
                <a:close/>
              </a:path>
            </a:pathLst>
          </a:cu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0920" y="1600200"/>
          <a:ext cx="8686800" cy="1495440"/>
        </p:xfrm>
        <a:graphic>
          <a:graphicData uri="http://schemas.openxmlformats.org/drawingml/2006/table">
            <a:tbl>
              <a:tblPr/>
              <a:tblGrid>
                <a:gridCol w="2160360"/>
                <a:gridCol w="1314720"/>
                <a:gridCol w="1736640"/>
                <a:gridCol w="1738440"/>
                <a:gridCol w="1736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 non-g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 de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 w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40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44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64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7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5439-D3FB-4ECA-A43C-2E05C54BB5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1"/>
          <p:cNvSpPr/>
          <p:nvPr/>
        </p:nvSpPr>
        <p:spPr>
          <a:xfrm>
            <a:off x="250920" y="32446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There is some geo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Linear Interpolation achieves better performance on websi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250920" y="1413000"/>
          <a:ext cx="8642160" cy="1800000"/>
        </p:xfrm>
        <a:graphic>
          <a:graphicData uri="http://schemas.openxmlformats.org/drawingml/2006/table">
            <a:tbl>
              <a:tblPr/>
              <a:tblGrid>
                <a:gridCol w="2233440"/>
                <a:gridCol w="2087640"/>
                <a:gridCol w="2160720"/>
                <a:gridCol w="2160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8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1252/14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8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660/7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8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660/78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UDInfoCS2014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8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1224/14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9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890/96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8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(890/108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F55-906D-4A48-B620-C824189D64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矩形 1"/>
          <p:cNvSpPr/>
          <p:nvPr/>
        </p:nvSpPr>
        <p:spPr>
          <a:xfrm>
            <a:off x="250920" y="3519360"/>
            <a:ext cx="864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Accuracy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: number of suggestions of which the judgments of description and website are consistent divided by the total number of judged suggest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Precision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: number of suggestions of which both description and website are relevant divided by the number of suggestions of which description are releva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Recall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: number of suggestions of which the judgments of description and website are both relevant divided by the number of suggestions of which website are releva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340000" y="1989000"/>
            <a:ext cx="46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0"/>
                </a:solidFill>
                <a:latin typeface="Rockwel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Questions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384-DFE1-4F20-A48E-6A44FFB459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AD84-C6D2-40F2-8F55-91AB275DA6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71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曲线连接符 12"/>
          <p:cNvCxnSpPr>
            <a:stCxn id="69" idx="2"/>
            <a:endCxn id="71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73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74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77" name="曲线连接符 20"/>
          <p:cNvCxnSpPr>
            <a:stCxn id="71" idx="2"/>
            <a:endCxn id="74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78" name="曲线连接符 24"/>
          <p:cNvCxnSpPr>
            <a:stCxn id="74" idx="2"/>
            <a:endCxn id="75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79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  <p:sp>
        <p:nvSpPr>
          <p:cNvPr id="80" name="矩形 2"/>
          <p:cNvSpPr/>
          <p:nvPr/>
        </p:nvSpPr>
        <p:spPr>
          <a:xfrm>
            <a:off x="250920" y="2241720"/>
            <a:ext cx="8497800" cy="414000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508720" y="96516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Rockwell"/>
                <a:ea typeface="宋体"/>
              </a:rPr>
              <a:t>Opinions matter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下箭头 5"/>
          <p:cNvSpPr/>
          <p:nvPr/>
        </p:nvSpPr>
        <p:spPr>
          <a:xfrm rot="1295400">
            <a:off x="7059600" y="1490400"/>
            <a:ext cx="450720" cy="69192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DEBC-F865-4FD3-A60D-C9680E83A7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曲线连接符 12"/>
          <p:cNvCxnSpPr>
            <a:stCxn id="85" idx="2"/>
            <a:endCxn id="87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89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90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93" name="曲线连接符 20"/>
          <p:cNvCxnSpPr>
            <a:stCxn id="87" idx="2"/>
            <a:endCxn id="90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94" name="曲线连接符 24"/>
          <p:cNvCxnSpPr>
            <a:stCxn id="90" idx="2"/>
            <a:endCxn id="91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95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  <p:cxnSp>
        <p:nvCxnSpPr>
          <p:cNvPr id="96" name="曲线连接符 19"/>
          <p:cNvCxnSpPr/>
          <p:nvPr/>
        </p:nvCxnSpPr>
        <p:spPr>
          <a:xfrm rot="5400000">
            <a:off x="6184800" y="2240640"/>
            <a:ext cx="650160" cy="13320"/>
          </a:xfrm>
          <a:prstGeom prst="curvedConnector5">
            <a:avLst>
              <a:gd name="adj1" fmla="val 49972"/>
              <a:gd name="adj2" fmla="val 50000"/>
              <a:gd name="adj3" fmla="val 49972"/>
            </a:avLst>
          </a:prstGeom>
          <a:ln w="76320">
            <a:solidFill>
              <a:srgbClr val="0070c0"/>
            </a:solidFill>
            <a:prstDash val="sysDash"/>
            <a:miter/>
            <a:tailEnd len="med" type="triangle" w="med"/>
          </a:ln>
        </p:spPr>
      </p:cxnSp>
      <p:cxnSp>
        <p:nvCxnSpPr>
          <p:cNvPr id="97" name="曲线连接符 21"/>
          <p:cNvCxnSpPr>
            <a:stCxn id="87" idx="2"/>
          </p:cNvCxnSpPr>
          <p:nvPr/>
        </p:nvCxnSpPr>
        <p:spPr>
          <a:xfrm rot="5400000">
            <a:off x="4930920" y="2564640"/>
            <a:ext cx="865800" cy="2305440"/>
          </a:xfrm>
          <a:prstGeom prst="curvedConnector2">
            <a:avLst/>
          </a:prstGeom>
          <a:ln w="76320">
            <a:solidFill>
              <a:srgbClr val="0070c0"/>
            </a:solidFill>
            <a:prstDash val="sysDash"/>
            <a:miter/>
            <a:tailEnd len="med" type="triangle" w="med"/>
          </a:ln>
        </p:spPr>
      </p:cxnSp>
      <p:cxnSp>
        <p:nvCxnSpPr>
          <p:cNvPr id="98" name="曲线连接符 28"/>
          <p:cNvCxnSpPr>
            <a:endCxn id="91" idx="0"/>
          </p:cNvCxnSpPr>
          <p:nvPr/>
        </p:nvCxnSpPr>
        <p:spPr>
          <a:xfrm>
            <a:off x="4211280" y="4581000"/>
            <a:ext cx="2305440" cy="864360"/>
          </a:xfrm>
          <a:prstGeom prst="curvedConnector2">
            <a:avLst/>
          </a:prstGeom>
          <a:ln w="76320">
            <a:solidFill>
              <a:srgbClr val="0070c0"/>
            </a:solidFill>
            <a:prstDash val="sysDash"/>
            <a:miter/>
            <a:tailEnd len="med" type="triangle" w="med"/>
          </a:ln>
        </p:spPr>
      </p:cxnSp>
      <p:sp>
        <p:nvSpPr>
          <p:cNvPr id="99" name="矩形 29"/>
          <p:cNvSpPr/>
          <p:nvPr/>
        </p:nvSpPr>
        <p:spPr>
          <a:xfrm>
            <a:off x="4356000" y="1052640"/>
            <a:ext cx="4319640" cy="532908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0"/>
          <p:cNvSpPr/>
          <p:nvPr/>
        </p:nvSpPr>
        <p:spPr>
          <a:xfrm>
            <a:off x="4645080" y="413388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Rockwell"/>
              </a:rPr>
              <a:t>Similar with last year’s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36360" y="1012680"/>
            <a:ext cx="43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Compare with last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6391"/>
          <p:cNvSpPr/>
          <p:nvPr/>
        </p:nvSpPr>
        <p:spPr>
          <a:xfrm>
            <a:off x="611280" y="2627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Rockwell"/>
              </a:rPr>
              <a:t>Linear Interpo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Rockwell"/>
                <a:ea typeface="MS PGothic"/>
              </a:rPr>
              <a:t>last year’s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3"/>
          <p:cNvSpPr/>
          <p:nvPr/>
        </p:nvSpPr>
        <p:spPr>
          <a:xfrm>
            <a:off x="108000" y="2565360"/>
            <a:ext cx="4176720" cy="23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611280" y="3286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Rockwell"/>
              </a:rPr>
              <a:t>Learning to R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Rockwell"/>
                <a:ea typeface="MS PGothic"/>
              </a:rPr>
              <a:t>worthy to 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opsb.us/wp-content/uploads/2012/10/481px-NEW-2.gif"/>
          <p:cNvPicPr/>
          <p:nvPr/>
        </p:nvPicPr>
        <p:blipFill>
          <a:blip r:embed="rId5"/>
          <a:stretch/>
        </p:blipFill>
        <p:spPr>
          <a:xfrm>
            <a:off x="2987640" y="3303720"/>
            <a:ext cx="61452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44097 0.00023 E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0023 L -0.0316 -2.59259E-006 E">
                                      <p:cBhvr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EEC-B16A-499C-ABD3-6372062F3B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110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曲线连接符 12"/>
          <p:cNvCxnSpPr>
            <a:stCxn id="108" idx="2"/>
            <a:endCxn id="110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112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113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116" name="曲线连接符 20"/>
          <p:cNvCxnSpPr>
            <a:stCxn id="110" idx="2"/>
            <a:endCxn id="113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117" name="曲线连接符 24"/>
          <p:cNvCxnSpPr>
            <a:stCxn id="113" idx="2"/>
            <a:endCxn id="114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118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4" descr="http://www.newyork101.net/wp-content/uploads/2011/08/New-York-Tourist-Map.jpg"/>
          <p:cNvPicPr/>
          <p:nvPr/>
        </p:nvPicPr>
        <p:blipFill>
          <a:blip r:embed="rId1"/>
          <a:stretch/>
        </p:blipFill>
        <p:spPr>
          <a:xfrm>
            <a:off x="2158920" y="1557360"/>
            <a:ext cx="4415040" cy="352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Candidate Suggestion Craw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177-3210-4180-AB94-CDE565BD77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2"/>
          <p:cNvSpPr/>
          <p:nvPr/>
        </p:nvSpPr>
        <p:spPr>
          <a:xfrm>
            <a:off x="2374920" y="1916280"/>
            <a:ext cx="3565440" cy="3439800"/>
          </a:xfrm>
          <a:prstGeom prst="ellipse">
            <a:avLst/>
          </a:prstGeom>
          <a:solidFill>
            <a:srgbClr val="d9969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http://www.clipartbest.com/cliparts/di6/nGp/di6nGp7i9.png"/>
          <p:cNvPicPr/>
          <p:nvPr/>
        </p:nvPicPr>
        <p:blipFill>
          <a:blip r:embed="rId2"/>
          <a:stretch/>
        </p:blipFill>
        <p:spPr>
          <a:xfrm>
            <a:off x="4011480" y="323388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24" name="矩形标注 5"/>
          <p:cNvSpPr/>
          <p:nvPr/>
        </p:nvSpPr>
        <p:spPr>
          <a:xfrm>
            <a:off x="7020000" y="1177920"/>
            <a:ext cx="1125360" cy="1890720"/>
          </a:xfrm>
          <a:prstGeom prst="wedgeRectCallout">
            <a:avLst>
              <a:gd name="adj1" fmla="val -276768"/>
              <a:gd name="adj2" fmla="val 6771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2" descr="http://fardhanadamy.files.wordpress.com/2011/04/empire_state_building-83.jpg"/>
          <p:cNvPicPr/>
          <p:nvPr/>
        </p:nvPicPr>
        <p:blipFill>
          <a:blip r:embed="rId3"/>
          <a:stretch/>
        </p:blipFill>
        <p:spPr>
          <a:xfrm>
            <a:off x="7020000" y="1197000"/>
            <a:ext cx="1125360" cy="1854000"/>
          </a:xfrm>
          <a:prstGeom prst="rect">
            <a:avLst/>
          </a:prstGeom>
          <a:ln w="0">
            <a:noFill/>
          </a:ln>
        </p:spPr>
      </p:pic>
      <p:sp>
        <p:nvSpPr>
          <p:cNvPr id="126" name="矩形标注 22"/>
          <p:cNvSpPr/>
          <p:nvPr/>
        </p:nvSpPr>
        <p:spPr>
          <a:xfrm>
            <a:off x="684360" y="1179360"/>
            <a:ext cx="1250640" cy="1513080"/>
          </a:xfrm>
          <a:prstGeom prst="wedgeRectCallout">
            <a:avLst>
              <a:gd name="adj1" fmla="val 95249"/>
              <a:gd name="adj2" fmla="val 11049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6" descr="http://www.nyctourist.com/images/liberty/liberty2005.jpg"/>
          <p:cNvPicPr/>
          <p:nvPr/>
        </p:nvPicPr>
        <p:blipFill>
          <a:blip r:embed="rId4"/>
          <a:stretch/>
        </p:blipFill>
        <p:spPr>
          <a:xfrm>
            <a:off x="684360" y="1179360"/>
            <a:ext cx="1250640" cy="15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http://img.allw.mn/content/food/2013/06/4_japanese-cuisine.jpg"/>
          <p:cNvPicPr/>
          <p:nvPr/>
        </p:nvPicPr>
        <p:blipFill>
          <a:blip r:embed="rId5"/>
          <a:stretch/>
        </p:blipFill>
        <p:spPr>
          <a:xfrm>
            <a:off x="6792840" y="3786120"/>
            <a:ext cx="1882800" cy="1155600"/>
          </a:xfrm>
          <a:prstGeom prst="rect">
            <a:avLst/>
          </a:prstGeom>
          <a:ln w="0">
            <a:noFill/>
          </a:ln>
        </p:spPr>
      </p:pic>
      <p:sp>
        <p:nvSpPr>
          <p:cNvPr id="129" name="矩形标注 26"/>
          <p:cNvSpPr/>
          <p:nvPr/>
        </p:nvSpPr>
        <p:spPr>
          <a:xfrm>
            <a:off x="6792840" y="3789360"/>
            <a:ext cx="1882800" cy="1152360"/>
          </a:xfrm>
          <a:prstGeom prst="wedgeRectCallout">
            <a:avLst>
              <a:gd name="adj1" fmla="val -152171"/>
              <a:gd name="adj2" fmla="val -6610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0" descr="http://www.crainsnewyork.com/apps/pbcsi.dll/storyimage/CN/20131020/HOSPITALITY_TOURISM/310209979/V3/0/The-debate-over-who-will-build-the-mall-on-Staten-Island-could-derail-the-wheel.jpg?q=100&amp;cci_ts=20131018194307"/>
          <p:cNvPicPr/>
          <p:nvPr/>
        </p:nvPicPr>
        <p:blipFill>
          <a:blip r:embed="rId6"/>
          <a:stretch/>
        </p:blipFill>
        <p:spPr>
          <a:xfrm>
            <a:off x="312840" y="4076640"/>
            <a:ext cx="16304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矩形标注 28"/>
          <p:cNvSpPr/>
          <p:nvPr/>
        </p:nvSpPr>
        <p:spPr>
          <a:xfrm>
            <a:off x="312840" y="4149720"/>
            <a:ext cx="1630440" cy="1165320"/>
          </a:xfrm>
          <a:prstGeom prst="wedgeRectCallout">
            <a:avLst>
              <a:gd name="adj1" fmla="val 173097"/>
              <a:gd name="adj2" fmla="val -7216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8" descr="http://arguzsoft.com/aplications/imagenes/icon_shopcart.png"/>
          <p:cNvPicPr/>
          <p:nvPr/>
        </p:nvPicPr>
        <p:blipFill>
          <a:blip r:embed="rId7"/>
          <a:stretch/>
        </p:blipFill>
        <p:spPr>
          <a:xfrm>
            <a:off x="6642000" y="5729400"/>
            <a:ext cx="522360" cy="531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http://www.cookcenter.us/new-images/MuseumIconWords.gif"/>
          <p:cNvPicPr/>
          <p:nvPr/>
        </p:nvPicPr>
        <p:blipFill>
          <a:blip r:embed="rId8"/>
          <a:stretch/>
        </p:blipFill>
        <p:spPr>
          <a:xfrm>
            <a:off x="4427640" y="5729400"/>
            <a:ext cx="487440" cy="49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www.veryicon.com/icon/png/Object/Points%20Of%20Interest/Theater%20Yellow%202.png"/>
          <p:cNvPicPr/>
          <p:nvPr/>
        </p:nvPicPr>
        <p:blipFill>
          <a:blip r:embed="rId9"/>
          <a:stretch/>
        </p:blipFill>
        <p:spPr>
          <a:xfrm>
            <a:off x="5940360" y="5730840"/>
            <a:ext cx="500040" cy="498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http://images.inmagine.com/400nwm/valueclips/unc265/u18783668.jpg"/>
          <p:cNvPicPr/>
          <p:nvPr/>
        </p:nvPicPr>
        <p:blipFill>
          <a:blip r:embed="rId10"/>
          <a:stretch/>
        </p:blipFill>
        <p:spPr>
          <a:xfrm>
            <a:off x="5076720" y="5611680"/>
            <a:ext cx="695520" cy="696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http://jkupdate.com/upload/org_img/education_1366556924Bar_Icon.png"/>
          <p:cNvPicPr/>
          <p:nvPr/>
        </p:nvPicPr>
        <p:blipFill>
          <a:blip r:embed="rId11"/>
          <a:stretch/>
        </p:blipFill>
        <p:spPr>
          <a:xfrm>
            <a:off x="3780000" y="5684760"/>
            <a:ext cx="537840" cy="513000"/>
          </a:xfrm>
          <a:prstGeom prst="rect">
            <a:avLst/>
          </a:prstGeom>
          <a:ln w="0">
            <a:noFill/>
          </a:ln>
        </p:spPr>
      </p:pic>
      <p:pic>
        <p:nvPicPr>
          <p:cNvPr id="137" name="TextBox 6" descr=""/>
          <p:cNvPicPr/>
          <p:nvPr/>
        </p:nvPicPr>
        <p:blipFill>
          <a:blip r:embed="rId12"/>
          <a:stretch/>
        </p:blipFill>
        <p:spPr>
          <a:xfrm>
            <a:off x="324000" y="5699160"/>
            <a:ext cx="352872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矩形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TextBox 37" descr=""/>
          <p:cNvPicPr/>
          <p:nvPr/>
        </p:nvPicPr>
        <p:blipFill>
          <a:blip r:embed="rId13"/>
          <a:stretch/>
        </p:blipFill>
        <p:spPr>
          <a:xfrm>
            <a:off x="7302600" y="5772240"/>
            <a:ext cx="59220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"/>
          <p:cNvSpPr/>
          <p:nvPr/>
        </p:nvSpPr>
        <p:spPr>
          <a:xfrm>
            <a:off x="2955240" y="105264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  <a:ea typeface="宋体"/>
              </a:rPr>
              <a:t>Source : Y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7CB5-2DE6-4B58-8EC9-49F5EA78B3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Candidate Suggestion Craw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1692360" y="1015920"/>
            <a:ext cx="5111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Yelp ur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URL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overallRating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total_review_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pics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宋体"/>
              </a:rPr>
              <a:t>Re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user_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user_friends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user_reviews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ra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com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useful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funny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Console"/>
                <a:ea typeface="MS PGothic"/>
              </a:rPr>
              <a:t>cool_cou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右大括号 6"/>
          <p:cNvSpPr/>
          <p:nvPr/>
        </p:nvSpPr>
        <p:spPr>
          <a:xfrm>
            <a:off x="5508720" y="1197000"/>
            <a:ext cx="431640" cy="5184720"/>
          </a:xfrm>
          <a:custGeom>
            <a:avLst/>
            <a:gdLst>
              <a:gd name="textAreaLeft" fmla="*/ 0 w 431640"/>
              <a:gd name="textAreaRight" fmla="*/ 155880 w 431640"/>
              <a:gd name="textAreaTop" fmla="*/ 159480 h 5184720"/>
              <a:gd name="textAreaBottom" fmla="*/ 502524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2"/>
                  <a:pt x="10800" y="2124"/>
                </a:cubicBezTo>
                <a:lnTo>
                  <a:pt x="10800" y="8676"/>
                </a:lnTo>
                <a:cubicBezTo>
                  <a:pt x="10800" y="9738"/>
                  <a:pt x="16200" y="10800"/>
                  <a:pt x="21600" y="10800"/>
                </a:cubicBezTo>
                <a:cubicBezTo>
                  <a:pt x="16200" y="10800"/>
                  <a:pt x="10800" y="11862"/>
                  <a:pt x="10800" y="12924"/>
                </a:cubicBezTo>
                <a:lnTo>
                  <a:pt x="10800" y="19476"/>
                </a:lnTo>
                <a:cubicBezTo>
                  <a:pt x="10800" y="2053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5883120" y="35402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Lucida Console"/>
                <a:ea typeface="宋体"/>
              </a:rPr>
              <a:t>J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1640" y="1989000"/>
            <a:ext cx="2881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Source : Ye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Total :  60,4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verage: 1,2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50920" y="3068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73EF-B1C1-402C-AF1F-BFA2592939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r>
              <a:rPr b="1" lang="en-US" sz="2400" spc="-1" strike="noStrike" baseline="30000">
                <a:solidFill>
                  <a:srgbClr val="eeece1"/>
                </a:solidFill>
                <a:latin typeface="Lucida Console"/>
                <a:ea typeface="宋体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曲线连接符 12"/>
          <p:cNvCxnSpPr>
            <a:stCxn id="150" idx="2"/>
            <a:endCxn id="152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154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155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158" name="曲线连接符 20"/>
          <p:cNvCxnSpPr>
            <a:stCxn id="152" idx="2"/>
            <a:endCxn id="155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159" name="曲线连接符 24"/>
          <p:cNvCxnSpPr>
            <a:stCxn id="155" idx="2"/>
            <a:endCxn id="156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160" name="Picture 8" descr="http://descriptivewords.org/descriptivewords/kids/descriptivewords-for-taste.jpg"/>
          <p:cNvPicPr/>
          <p:nvPr/>
        </p:nvPicPr>
        <p:blipFill>
          <a:blip r:embed="rId4"/>
          <a:stretch/>
        </p:blipFill>
        <p:spPr>
          <a:xfrm>
            <a:off x="3317760" y="5445000"/>
            <a:ext cx="1109880" cy="72252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179280" y="62895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P. Yang and H. Fang. Opinion-based user profile modeling for contextual suggestions. In Proceedings of the 2013 Conference on the Theory of Information Retrieval, ICTIR’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http://www.clipartlord.com/wp-content/uploads/2014/08/check.png"/>
          <p:cNvPicPr/>
          <p:nvPr/>
        </p:nvPicPr>
        <p:blipFill>
          <a:blip r:embed="rId1"/>
          <a:stretch/>
        </p:blipFill>
        <p:spPr>
          <a:xfrm>
            <a:off x="4643280" y="2620800"/>
            <a:ext cx="520920" cy="52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http://www.clipartlord.com/wp-content/uploads/2014/08/check.png"/>
          <p:cNvPicPr/>
          <p:nvPr/>
        </p:nvPicPr>
        <p:blipFill>
          <a:blip r:embed="rId2"/>
          <a:stretch/>
        </p:blipFill>
        <p:spPr>
          <a:xfrm>
            <a:off x="4211640" y="2060640"/>
            <a:ext cx="520560" cy="5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www.clipartlord.com/wp-content/uploads/2014/08/check.png"/>
          <p:cNvPicPr/>
          <p:nvPr/>
        </p:nvPicPr>
        <p:blipFill>
          <a:blip r:embed="rId3"/>
          <a:stretch/>
        </p:blipFill>
        <p:spPr>
          <a:xfrm>
            <a:off x="5292720" y="2370240"/>
            <a:ext cx="520560" cy="520560"/>
          </a:xfrm>
          <a:prstGeom prst="rect">
            <a:avLst/>
          </a:prstGeom>
          <a:ln w="0">
            <a:noFill/>
          </a:ln>
        </p:spPr>
      </p:pic>
      <p:sp>
        <p:nvSpPr>
          <p:cNvPr id="16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CD28-6C32-4A22-8021-516FC785AB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In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s://cdn4.iconfinder.com/data/icons/user-avatar-flat-icons/512/User_Avatar-44-512.png"/>
          <p:cNvPicPr/>
          <p:nvPr/>
        </p:nvPicPr>
        <p:blipFill>
          <a:blip r:embed="rId4"/>
          <a:stretch/>
        </p:blipFill>
        <p:spPr>
          <a:xfrm>
            <a:off x="108000" y="22780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i.istockimg.com/file_thumbview_approve/8838887/2/stock-illustration-8838887-world-landmark-icon-set.jpg"/>
          <p:cNvPicPr/>
          <p:nvPr/>
        </p:nvPicPr>
        <p:blipFill>
          <a:blip r:embed="rId5"/>
          <a:stretch/>
        </p:blipFill>
        <p:spPr>
          <a:xfrm>
            <a:off x="1865160" y="1052640"/>
            <a:ext cx="835200" cy="761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http://thumb9.shutterstock.com/display_pic_with_logo/635953/112644086/stock-vector-restaurant-icon-112644086.jpg"/>
          <p:cNvPicPr/>
          <p:nvPr/>
        </p:nvPicPr>
        <p:blipFill>
          <a:blip r:embed="rId6"/>
          <a:stretch/>
        </p:blipFill>
        <p:spPr>
          <a:xfrm>
            <a:off x="1865160" y="2276640"/>
            <a:ext cx="835200" cy="75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7"/>
          <a:stretch/>
        </p:blipFill>
        <p:spPr>
          <a:xfrm>
            <a:off x="1865160" y="3522600"/>
            <a:ext cx="835200" cy="770040"/>
          </a:xfrm>
          <a:prstGeom prst="rect">
            <a:avLst/>
          </a:prstGeom>
          <a:ln w="0">
            <a:noFill/>
          </a:ln>
        </p:spPr>
      </p:pic>
      <p:sp>
        <p:nvSpPr>
          <p:cNvPr id="171" name="椭圆 9"/>
          <p:cNvSpPr/>
          <p:nvPr/>
        </p:nvSpPr>
        <p:spPr>
          <a:xfrm>
            <a:off x="1042920" y="1989000"/>
            <a:ext cx="217440" cy="144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椭圆 14"/>
          <p:cNvSpPr/>
          <p:nvPr/>
        </p:nvSpPr>
        <p:spPr>
          <a:xfrm>
            <a:off x="1260360" y="1557360"/>
            <a:ext cx="343080" cy="2826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16"/>
          <p:cNvSpPr/>
          <p:nvPr/>
        </p:nvSpPr>
        <p:spPr>
          <a:xfrm>
            <a:off x="1042920" y="2709720"/>
            <a:ext cx="217440" cy="144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椭圆 17"/>
          <p:cNvSpPr/>
          <p:nvPr/>
        </p:nvSpPr>
        <p:spPr>
          <a:xfrm>
            <a:off x="1332000" y="2639880"/>
            <a:ext cx="271440" cy="214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5" name="直接箭头连接符 12"/>
          <p:cNvCxnSpPr/>
          <p:nvPr/>
        </p:nvCxnSpPr>
        <p:spPr>
          <a:xfrm>
            <a:off x="971280" y="3068640"/>
            <a:ext cx="633960" cy="72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TextBox 19"/>
          <p:cNvSpPr/>
          <p:nvPr/>
        </p:nvSpPr>
        <p:spPr>
          <a:xfrm>
            <a:off x="1690560" y="1731960"/>
            <a:ext cx="13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宋体"/>
              </a:rPr>
              <a:t>Landmar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1684440" y="28735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宋体"/>
              </a:rPr>
              <a:t>Restaur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1755720" y="41702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宋体"/>
              </a:rPr>
              <a:t>Shopp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3060720" y="21574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Type (American, Mexic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Ambience (quiet, h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Price (low, middle, hi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9" descr="http://www.clipartlord.com/wp-content/uploads/2014/08/check.png"/>
          <p:cNvPicPr/>
          <p:nvPr/>
        </p:nvPicPr>
        <p:blipFill>
          <a:blip r:embed="rId8"/>
          <a:stretch/>
        </p:blipFill>
        <p:spPr>
          <a:xfrm>
            <a:off x="5213520" y="98100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http://www.clipartlord.com/wp-content/uploads/2014/08/check.png"/>
          <p:cNvPicPr/>
          <p:nvPr/>
        </p:nvPicPr>
        <p:blipFill>
          <a:blip r:embed="rId9"/>
          <a:stretch/>
        </p:blipFill>
        <p:spPr>
          <a:xfrm>
            <a:off x="4844880" y="1341360"/>
            <a:ext cx="520920" cy="5209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9"/>
          <p:cNvSpPr/>
          <p:nvPr/>
        </p:nvSpPr>
        <p:spPr>
          <a:xfrm>
            <a:off x="3060720" y="106992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Type (Ancient, Moder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SuitableFor (Family, Adul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3132000" y="191628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Doma 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Ipondo Japanese Cuis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Museum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Uncle Sam St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1"/>
          <p:cNvSpPr/>
          <p:nvPr/>
        </p:nvSpPr>
        <p:spPr>
          <a:xfrm>
            <a:off x="468360" y="5084640"/>
            <a:ext cx="288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Ipondo Japanese Cuis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Museum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Uncle Sam St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Doma 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2"/>
          <p:cNvSpPr/>
          <p:nvPr/>
        </p:nvSpPr>
        <p:spPr>
          <a:xfrm>
            <a:off x="3338640" y="5084640"/>
            <a:ext cx="288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Uncle Sam St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Museum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Ipondo Japanese Cuis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Doma 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1676520" y="907920"/>
            <a:ext cx="1239840" cy="367344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9"/>
          <p:cNvSpPr/>
          <p:nvPr/>
        </p:nvSpPr>
        <p:spPr>
          <a:xfrm>
            <a:off x="6453360" y="192888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Others like i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乘号 34"/>
          <p:cNvSpPr/>
          <p:nvPr/>
        </p:nvSpPr>
        <p:spPr>
          <a:xfrm>
            <a:off x="1144440" y="3071880"/>
            <a:ext cx="324000" cy="399960"/>
          </a:xfrm>
          <a:custGeom>
            <a:avLst/>
            <a:gdLst/>
            <a:ahLst/>
            <a:rect l="l" t="t" r="r" b="b"/>
            <a:pathLst>
              <a:path w="323850" h="400050">
                <a:moveTo>
                  <a:pt x="48179" y="120045"/>
                </a:moveTo>
                <a:lnTo>
                  <a:pt x="107382" y="72119"/>
                </a:lnTo>
                <a:lnTo>
                  <a:pt x="161925" y="139496"/>
                </a:lnTo>
                <a:lnTo>
                  <a:pt x="216468" y="72119"/>
                </a:lnTo>
                <a:lnTo>
                  <a:pt x="275671" y="120045"/>
                </a:lnTo>
                <a:lnTo>
                  <a:pt x="210925" y="200025"/>
                </a:lnTo>
                <a:lnTo>
                  <a:pt x="275671" y="280005"/>
                </a:lnTo>
                <a:lnTo>
                  <a:pt x="216468" y="327931"/>
                </a:lnTo>
                <a:lnTo>
                  <a:pt x="161925" y="260554"/>
                </a:lnTo>
                <a:lnTo>
                  <a:pt x="107382" y="327931"/>
                </a:lnTo>
                <a:lnTo>
                  <a:pt x="48179" y="280005"/>
                </a:lnTo>
                <a:lnTo>
                  <a:pt x="112925" y="200025"/>
                </a:lnTo>
                <a:lnTo>
                  <a:pt x="48179" y="1200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5"/>
          <p:cNvSpPr/>
          <p:nvPr/>
        </p:nvSpPr>
        <p:spPr>
          <a:xfrm>
            <a:off x="6291360" y="5084640"/>
            <a:ext cx="288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Uncle Sam St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Museum of Modern 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Statue of Lib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Ipondo Japanese Cuis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Doma 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692360" y="45813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Rockwell"/>
                <a:ea typeface="宋体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7"/>
          <p:cNvSpPr/>
          <p:nvPr/>
        </p:nvSpPr>
        <p:spPr>
          <a:xfrm>
            <a:off x="3052800" y="907920"/>
            <a:ext cx="3247920" cy="3673440"/>
          </a:xfrm>
          <a:prstGeom prst="rect">
            <a:avLst/>
          </a:prstGeom>
          <a:noFill/>
          <a:ln w="28440">
            <a:solidFill>
              <a:srgbClr val="4bac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4105440" y="46465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Rockwell"/>
                <a:ea typeface="宋体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9"/>
          <p:cNvSpPr/>
          <p:nvPr/>
        </p:nvSpPr>
        <p:spPr>
          <a:xfrm>
            <a:off x="6443640" y="907920"/>
            <a:ext cx="2521080" cy="3673440"/>
          </a:xfrm>
          <a:prstGeom prst="rect">
            <a:avLst/>
          </a:prstGeom>
          <a:noFill/>
          <a:ln w="2844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6804000" y="464328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Rockwell"/>
                <a:ea typeface="宋体"/>
              </a:rPr>
              <a:t>Miscellane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直接箭头连接符 5"/>
          <p:cNvCxnSpPr/>
          <p:nvPr/>
        </p:nvCxnSpPr>
        <p:spPr>
          <a:xfrm>
            <a:off x="468000" y="6264000"/>
            <a:ext cx="1080" cy="261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直接箭头连接符 41"/>
          <p:cNvCxnSpPr/>
          <p:nvPr/>
        </p:nvCxnSpPr>
        <p:spPr>
          <a:xfrm flipV="1">
            <a:off x="468000" y="6001560"/>
            <a:ext cx="1080" cy="23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97" name="直接箭头连接符 42"/>
          <p:cNvCxnSpPr/>
          <p:nvPr/>
        </p:nvCxnSpPr>
        <p:spPr>
          <a:xfrm flipV="1">
            <a:off x="468000" y="5731920"/>
            <a:ext cx="1080" cy="208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98" name="直接箭头连接符 44"/>
          <p:cNvCxnSpPr/>
          <p:nvPr/>
        </p:nvCxnSpPr>
        <p:spPr>
          <a:xfrm flipV="1">
            <a:off x="468000" y="5425200"/>
            <a:ext cx="1080" cy="235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99" name="直接箭头连接符 45"/>
          <p:cNvCxnSpPr/>
          <p:nvPr/>
        </p:nvCxnSpPr>
        <p:spPr>
          <a:xfrm flipV="1">
            <a:off x="468000" y="5157000"/>
            <a:ext cx="1080" cy="207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0" name="直接箭头连接符 47"/>
          <p:cNvCxnSpPr/>
          <p:nvPr/>
        </p:nvCxnSpPr>
        <p:spPr>
          <a:xfrm>
            <a:off x="3338280" y="6001920"/>
            <a:ext cx="1080" cy="261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直接箭头连接符 48"/>
          <p:cNvCxnSpPr/>
          <p:nvPr/>
        </p:nvCxnSpPr>
        <p:spPr>
          <a:xfrm flipV="1">
            <a:off x="3338280" y="5435280"/>
            <a:ext cx="1080" cy="226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2" name="直接箭头连接符 50"/>
          <p:cNvCxnSpPr/>
          <p:nvPr/>
        </p:nvCxnSpPr>
        <p:spPr>
          <a:xfrm>
            <a:off x="3195720" y="5805000"/>
            <a:ext cx="22464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203" name="直接箭头连接符 52"/>
          <p:cNvCxnSpPr/>
          <p:nvPr/>
        </p:nvCxnSpPr>
        <p:spPr>
          <a:xfrm>
            <a:off x="3213000" y="5260680"/>
            <a:ext cx="22608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204" name="直接箭头连接符 53"/>
          <p:cNvCxnSpPr/>
          <p:nvPr/>
        </p:nvCxnSpPr>
        <p:spPr>
          <a:xfrm>
            <a:off x="3195720" y="6393960"/>
            <a:ext cx="22464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205" name="直接箭头连接符 54"/>
          <p:cNvCxnSpPr/>
          <p:nvPr/>
        </p:nvCxnSpPr>
        <p:spPr>
          <a:xfrm>
            <a:off x="6143760" y="6393960"/>
            <a:ext cx="22608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206" name="直接箭头连接符 55"/>
          <p:cNvCxnSpPr/>
          <p:nvPr/>
        </p:nvCxnSpPr>
        <p:spPr>
          <a:xfrm>
            <a:off x="6143760" y="6119280"/>
            <a:ext cx="226080" cy="10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207" name="直接箭头连接符 56"/>
          <p:cNvCxnSpPr/>
          <p:nvPr/>
        </p:nvCxnSpPr>
        <p:spPr>
          <a:xfrm>
            <a:off x="6256080" y="5694120"/>
            <a:ext cx="1080" cy="261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8" name="直接箭头连接符 57"/>
          <p:cNvCxnSpPr/>
          <p:nvPr/>
        </p:nvCxnSpPr>
        <p:spPr>
          <a:xfrm flipV="1">
            <a:off x="6256080" y="5425200"/>
            <a:ext cx="1080" cy="226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09" name="直接箭头连接符 58"/>
          <p:cNvCxnSpPr/>
          <p:nvPr/>
        </p:nvCxnSpPr>
        <p:spPr>
          <a:xfrm flipV="1">
            <a:off x="6256080" y="5187600"/>
            <a:ext cx="1080" cy="226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pic>
        <p:nvPicPr>
          <p:cNvPr id="210" name="Picture 9" descr="http://www.clipartlord.com/wp-content/uploads/2014/08/check.png"/>
          <p:cNvPicPr/>
          <p:nvPr/>
        </p:nvPicPr>
        <p:blipFill>
          <a:blip r:embed="rId10"/>
          <a:stretch/>
        </p:blipFill>
        <p:spPr>
          <a:xfrm>
            <a:off x="8317080" y="180036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41Z</dcterms:created>
  <dc:creator>ypeilin</dc:creator>
  <dc:description/>
  <dc:language>en-US</dc:language>
  <cp:lastModifiedBy>kuang lu</cp:lastModifiedBy>
  <dcterms:modified xsi:type="dcterms:W3CDTF">2014-11-19T18:49:38Z</dcterms:modified>
  <cp:revision>801</cp:revision>
  <dc:subject/>
  <dc:title>Opinion-based User Profile Modeling for Contextual Suggestions</dc:title>
</cp:coreProperties>
</file>