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32.png" ContentType="image/png"/>
  <Override PartName="/ppt/media/image35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41.jpeg" ContentType="image/jpeg"/>
  <Override PartName="/ppt/media/image13.jpeg" ContentType="image/jpeg"/>
  <Override PartName="/ppt/media/image44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88D7-4E8C-4713-9EAB-EB0BB4FF34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to FB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1492-FA08-4D6F-97DB-AC2D31E74C9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D57-BAAE-4B70-90C4-40DDADEA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9D5-8F46-4C3C-8631-F44FFB2D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646-B2BC-4F47-992E-027F5F38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65A-5E0E-43CC-B27F-E4AF6649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104-D561-436C-B88E-93103828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CED1-89FC-4C38-ABAE-85288743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0CD5-EA73-4109-A90D-C4FEE509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49E-CA79-4B5A-9F50-293FB48F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BC3-A1EE-4115-9E2B-0A012F3A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3A2-0656-48C4-8B46-14AF91FC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D26-38CF-4064-876D-7263AA2E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3C5-97A0-41C1-80D0-7C2ED424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379C-18CF-4341-85E7-E9FCE867544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A745-6540-4C95-8DA8-80192FE41AF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30.png"/><Relationship Id="rId24" Type="http://schemas.openxmlformats.org/officeDocument/2006/relationships/image" Target="../media/image22.png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1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32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0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3.png"/><Relationship Id="rId6" Type="http://schemas.openxmlformats.org/officeDocument/2006/relationships/image" Target="../media/image31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34.png"/><Relationship Id="rId10" Type="http://schemas.openxmlformats.org/officeDocument/2006/relationships/image" Target="../media/image32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34.png"/><Relationship Id="rId18" Type="http://schemas.openxmlformats.org/officeDocument/2006/relationships/image" Target="../media/image30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37.png"/><Relationship Id="rId10" Type="http://schemas.openxmlformats.org/officeDocument/2006/relationships/image" Target="../media/image32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34.png"/><Relationship Id="rId17" Type="http://schemas.openxmlformats.org/officeDocument/2006/relationships/image" Target="../media/image30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37.png"/><Relationship Id="rId10" Type="http://schemas.openxmlformats.org/officeDocument/2006/relationships/image" Target="../media/image32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34.png"/><Relationship Id="rId17" Type="http://schemas.openxmlformats.org/officeDocument/2006/relationships/image" Target="../media/image32.png"/><Relationship Id="rId18" Type="http://schemas.openxmlformats.org/officeDocument/2006/relationships/image" Target="../media/image30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37.png"/><Relationship Id="rId10" Type="http://schemas.openxmlformats.org/officeDocument/2006/relationships/image" Target="../media/image4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34.png"/><Relationship Id="rId16" Type="http://schemas.openxmlformats.org/officeDocument/2006/relationships/image" Target="../media/image32.png"/><Relationship Id="rId17" Type="http://schemas.openxmlformats.org/officeDocument/2006/relationships/image" Target="../media/image30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37.png"/><Relationship Id="rId10" Type="http://schemas.openxmlformats.org/officeDocument/2006/relationships/image" Target="../media/image4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34.png"/><Relationship Id="rId16" Type="http://schemas.openxmlformats.org/officeDocument/2006/relationships/image" Target="../media/image32.png"/><Relationship Id="rId17" Type="http://schemas.openxmlformats.org/officeDocument/2006/relationships/image" Target="../media/image37.png"/><Relationship Id="rId18" Type="http://schemas.openxmlformats.org/officeDocument/2006/relationships/image" Target="../media/image30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34.png"/><Relationship Id="rId8" Type="http://schemas.openxmlformats.org/officeDocument/2006/relationships/image" Target="../media/image32.png"/><Relationship Id="rId9" Type="http://schemas.openxmlformats.org/officeDocument/2006/relationships/image" Target="../media/image37.png"/><Relationship Id="rId10" Type="http://schemas.openxmlformats.org/officeDocument/2006/relationships/image" Target="../media/image30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41.jpeg"/><Relationship Id="rId11" Type="http://schemas.openxmlformats.org/officeDocument/2006/relationships/image" Target="../media/image20.jpeg"/><Relationship Id="rId12" Type="http://schemas.openxmlformats.org/officeDocument/2006/relationships/image" Target="../media/image20.jpeg"/><Relationship Id="rId13" Type="http://schemas.openxmlformats.org/officeDocument/2006/relationships/image" Target="../media/image17.png"/><Relationship Id="rId14" Type="http://schemas.openxmlformats.org/officeDocument/2006/relationships/image" Target="../media/image16.png"/><Relationship Id="rId15" Type="http://schemas.openxmlformats.org/officeDocument/2006/relationships/image" Target="../media/image21.jpeg"/><Relationship Id="rId16" Type="http://schemas.openxmlformats.org/officeDocument/2006/relationships/image" Target="../media/image42.png"/><Relationship Id="rId17" Type="http://schemas.openxmlformats.org/officeDocument/2006/relationships/image" Target="../media/image43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jpeg"/><Relationship Id="rId13" Type="http://schemas.openxmlformats.org/officeDocument/2006/relationships/image" Target="../media/image17.png"/><Relationship Id="rId14" Type="http://schemas.openxmlformats.org/officeDocument/2006/relationships/image" Target="../media/image16.png"/><Relationship Id="rId15" Type="http://schemas.openxmlformats.org/officeDocument/2006/relationships/image" Target="../media/image21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21.jpeg"/><Relationship Id="rId11" Type="http://schemas.openxmlformats.org/officeDocument/2006/relationships/image" Target="../media/image20.jpeg"/><Relationship Id="rId12" Type="http://schemas.openxmlformats.org/officeDocument/2006/relationships/image" Target="../media/image17.png"/><Relationship Id="rId13" Type="http://schemas.openxmlformats.org/officeDocument/2006/relationships/image" Target="../media/image16.png"/><Relationship Id="rId14" Type="http://schemas.openxmlformats.org/officeDocument/2006/relationships/image" Target="../media/image21.jpeg"/><Relationship Id="rId15" Type="http://schemas.openxmlformats.org/officeDocument/2006/relationships/image" Target="../media/image20.jpe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21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0.jpeg"/><Relationship Id="rId14" Type="http://schemas.openxmlformats.org/officeDocument/2006/relationships/image" Target="../media/image17.png"/><Relationship Id="rId15" Type="http://schemas.openxmlformats.org/officeDocument/2006/relationships/image" Target="../media/image16.png"/><Relationship Id="rId16" Type="http://schemas.openxmlformats.org/officeDocument/2006/relationships/image" Target="../media/image18.png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09280"/>
            <a:ext cx="864216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alibri"/>
              </a:rPr>
              <a:t>Opinion-based</a:t>
            </a:r>
            <a:r>
              <a:rPr b="1" lang="en-US" sz="3600" spc="-1" strike="noStrike">
                <a:solidFill>
                  <a:srgbClr val="000090"/>
                </a:solidFill>
                <a:latin typeface="Calibri"/>
              </a:rPr>
              <a:t> User Profile Modeling for Contextual Sugg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28464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ilin Yang and Hui Fa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of Dela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24" descr="https://www.udel.edu/lock-down/ocm-graphics/internal/InterlockingUD1C.jpg"/>
          <p:cNvPicPr/>
          <p:nvPr/>
        </p:nvPicPr>
        <p:blipFill>
          <a:blip r:embed="rId1"/>
          <a:stretch/>
        </p:blipFill>
        <p:spPr>
          <a:xfrm>
            <a:off x="8317080" y="6021360"/>
            <a:ext cx="496800" cy="647640"/>
          </a:xfrm>
          <a:prstGeom prst="rect">
            <a:avLst/>
          </a:prstGeom>
          <a:ln w="0">
            <a:noFill/>
          </a:ln>
        </p:spPr>
      </p:pic>
      <p:sp>
        <p:nvSpPr>
          <p:cNvPr id="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91C5-0482-4580-AEAA-08D606703D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148104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201780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http://wikieducator.org/images/1/16/Dummy_user.png"/>
          <p:cNvPicPr/>
          <p:nvPr/>
        </p:nvPicPr>
        <p:blipFill>
          <a:blip r:embed="rId7"/>
          <a:stretch/>
        </p:blipFill>
        <p:spPr>
          <a:xfrm>
            <a:off x="3419640" y="256068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01960" y="1541520"/>
            <a:ext cx="271440" cy="258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ttp://www.clker.com/cliparts/f/9/8/1/1216181106356570529jean_victor_balin_icon_star.svg.med.png"/>
          <p:cNvPicPr/>
          <p:nvPr/>
        </p:nvPicPr>
        <p:blipFill>
          <a:blip r:embed="rId9"/>
          <a:stretch/>
        </p:blipFill>
        <p:spPr>
          <a:xfrm>
            <a:off x="4070520" y="1541520"/>
            <a:ext cx="271440" cy="258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http://www.clker.com/cliparts/f/9/8/1/1216181106356570529jean_victor_balin_icon_star.svg.med.png"/>
          <p:cNvPicPr/>
          <p:nvPr/>
        </p:nvPicPr>
        <p:blipFill>
          <a:blip r:embed="rId10"/>
          <a:stretch/>
        </p:blipFill>
        <p:spPr>
          <a:xfrm>
            <a:off x="4338720" y="154152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ttp://www.clker.com/cliparts/f/9/8/1/1216181106356570529jean_victor_balin_icon_star.svg.med.png"/>
          <p:cNvPicPr/>
          <p:nvPr/>
        </p:nvPicPr>
        <p:blipFill>
          <a:blip r:embed="rId11"/>
          <a:stretch/>
        </p:blipFill>
        <p:spPr>
          <a:xfrm>
            <a:off x="4606920" y="154152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ttp://www.clker.com/cliparts/f/9/8/1/1216181106356570529jean_victor_balin_icon_star.svg.med.png"/>
          <p:cNvPicPr/>
          <p:nvPr/>
        </p:nvPicPr>
        <p:blipFill>
          <a:blip r:embed="rId12"/>
          <a:stretch/>
        </p:blipFill>
        <p:spPr>
          <a:xfrm>
            <a:off x="4875120" y="1544760"/>
            <a:ext cx="273240" cy="260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3814920" y="206064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083120" y="206064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http://www.clker.com/cliparts/f/9/8/1/1216181106356570529jean_victor_balin_icon_star.svg.med.png"/>
          <p:cNvPicPr/>
          <p:nvPr/>
        </p:nvPicPr>
        <p:blipFill>
          <a:blip r:embed="rId15"/>
          <a:stretch/>
        </p:blipFill>
        <p:spPr>
          <a:xfrm>
            <a:off x="4352760" y="2060640"/>
            <a:ext cx="271800" cy="260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http://www.clker.com/cliparts/f/9/8/1/1216181106356570529jean_victor_balin_icon_star.svg.med.png"/>
          <p:cNvPicPr/>
          <p:nvPr/>
        </p:nvPicPr>
        <p:blipFill>
          <a:blip r:embed="rId16"/>
          <a:stretch/>
        </p:blipFill>
        <p:spPr>
          <a:xfrm>
            <a:off x="4621320" y="2060640"/>
            <a:ext cx="271440" cy="260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http://www.clker.com/cliparts/f/9/8/1/1216181106356570529jean_victor_balin_icon_star.svg.med.png"/>
          <p:cNvPicPr/>
          <p:nvPr/>
        </p:nvPicPr>
        <p:blipFill>
          <a:blip r:embed="rId17"/>
          <a:stretch/>
        </p:blipFill>
        <p:spPr>
          <a:xfrm>
            <a:off x="3835440" y="2595600"/>
            <a:ext cx="271440" cy="260280"/>
          </a:xfrm>
          <a:prstGeom prst="rect">
            <a:avLst/>
          </a:prstGeom>
          <a:ln w="0">
            <a:noFill/>
          </a:ln>
        </p:spPr>
      </p:pic>
      <p:sp>
        <p:nvSpPr>
          <p:cNvPr id="281" name="右箭头 2"/>
          <p:cNvSpPr/>
          <p:nvPr/>
        </p:nvSpPr>
        <p:spPr>
          <a:xfrm rot="20058000">
            <a:off x="2665440" y="2134800"/>
            <a:ext cx="714240" cy="719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6942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5245200" y="1557360"/>
            <a:ext cx="550800" cy="252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29"/>
          <p:cNvSpPr/>
          <p:nvPr/>
        </p:nvSpPr>
        <p:spPr>
          <a:xfrm>
            <a:off x="5245200" y="2097000"/>
            <a:ext cx="550800" cy="252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30"/>
          <p:cNvSpPr/>
          <p:nvPr/>
        </p:nvSpPr>
        <p:spPr>
          <a:xfrm>
            <a:off x="5245200" y="2600280"/>
            <a:ext cx="550800" cy="2523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31"/>
          <p:cNvSpPr/>
          <p:nvPr/>
        </p:nvSpPr>
        <p:spPr>
          <a:xfrm>
            <a:off x="6470640" y="1914480"/>
            <a:ext cx="549360" cy="2523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32"/>
          <p:cNvSpPr/>
          <p:nvPr/>
        </p:nvSpPr>
        <p:spPr>
          <a:xfrm>
            <a:off x="6470640" y="2454120"/>
            <a:ext cx="549360" cy="2527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C6D8-0F75-4309-8213-31857DE5F2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Rounded Rectangle 33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289" name="Rounded Rectangle 33" descr=""/>
            <p:cNvPicPr/>
            <p:nvPr/>
          </p:nvPicPr>
          <p:blipFill>
            <a:blip r:embed="rId23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Rounded Rectangle 34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292" name="Rounded Rectangle 34" descr=""/>
            <p:cNvPicPr/>
            <p:nvPr/>
          </p:nvPicPr>
          <p:blipFill>
            <a:blip r:embed="rId24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337644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http://www.clker.com/cliparts/f/9/8/1/1216181106356570529jean_victor_balin_icon_star.svg.med.png"/>
          <p:cNvPicPr/>
          <p:nvPr/>
        </p:nvPicPr>
        <p:blipFill>
          <a:blip r:embed="rId6"/>
          <a:stretch/>
        </p:blipFill>
        <p:spPr>
          <a:xfrm>
            <a:off x="3814920" y="287640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http://www.clker.com/cliparts/f/9/8/1/1216181106356570529jean_victor_balin_icon_star.svg.med.png"/>
          <p:cNvPicPr/>
          <p:nvPr/>
        </p:nvPicPr>
        <p:blipFill>
          <a:blip r:embed="rId7"/>
          <a:stretch/>
        </p:blipFill>
        <p:spPr>
          <a:xfrm>
            <a:off x="3835440" y="3411360"/>
            <a:ext cx="271440" cy="258840"/>
          </a:xfrm>
          <a:prstGeom prst="rect">
            <a:avLst/>
          </a:prstGeom>
          <a:ln w="0">
            <a:noFill/>
          </a:ln>
        </p:spPr>
      </p:pic>
      <p:sp>
        <p:nvSpPr>
          <p:cNvPr id="306" name="右箭头 2"/>
          <p:cNvSpPr/>
          <p:nvPr/>
        </p:nvSpPr>
        <p:spPr>
          <a:xfrm rot="20147400">
            <a:off x="2665440" y="2949480"/>
            <a:ext cx="714240" cy="7207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6852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30"/>
          <p:cNvSpPr/>
          <p:nvPr/>
        </p:nvSpPr>
        <p:spPr>
          <a:xfrm>
            <a:off x="5245200" y="3392640"/>
            <a:ext cx="550800" cy="25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31"/>
          <p:cNvSpPr/>
          <p:nvPr/>
        </p:nvSpPr>
        <p:spPr>
          <a:xfrm>
            <a:off x="6300720" y="1914480"/>
            <a:ext cx="549360" cy="25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32"/>
          <p:cNvSpPr/>
          <p:nvPr/>
        </p:nvSpPr>
        <p:spPr>
          <a:xfrm>
            <a:off x="6300720" y="2454120"/>
            <a:ext cx="549360" cy="252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2" descr="http://www.clker.com/cliparts/f/9/8/1/1216181106356570529jean_victor_balin_icon_star.svg.med.png"/>
          <p:cNvPicPr/>
          <p:nvPr/>
        </p:nvPicPr>
        <p:blipFill>
          <a:blip r:embed="rId11"/>
          <a:stretch/>
        </p:blipFill>
        <p:spPr>
          <a:xfrm>
            <a:off x="4111560" y="3409920"/>
            <a:ext cx="273240" cy="258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http://www.clker.com/cliparts/f/9/8/1/1216181106356570529jean_victor_balin_icon_star.svg.med.png"/>
          <p:cNvPicPr/>
          <p:nvPr/>
        </p:nvPicPr>
        <p:blipFill>
          <a:blip r:embed="rId12"/>
          <a:stretch/>
        </p:blipFill>
        <p:spPr>
          <a:xfrm>
            <a:off x="4379760" y="3409920"/>
            <a:ext cx="273240" cy="258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4648320" y="340992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917960" y="3413160"/>
            <a:ext cx="271440" cy="2588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http://wikieducator.org/images/1/16/Dummy_user.png"/>
          <p:cNvPicPr/>
          <p:nvPr/>
        </p:nvPicPr>
        <p:blipFill>
          <a:blip r:embed="rId15"/>
          <a:stretch/>
        </p:blipFill>
        <p:spPr>
          <a:xfrm>
            <a:off x="3419640" y="2835360"/>
            <a:ext cx="366480" cy="365040"/>
          </a:xfrm>
          <a:prstGeom prst="rect">
            <a:avLst/>
          </a:prstGeom>
          <a:ln w="0">
            <a:noFill/>
          </a:ln>
        </p:spPr>
      </p:pic>
      <p:sp>
        <p:nvSpPr>
          <p:cNvPr id="315" name="矩形 38"/>
          <p:cNvSpPr/>
          <p:nvPr/>
        </p:nvSpPr>
        <p:spPr>
          <a:xfrm>
            <a:off x="5245200" y="2889360"/>
            <a:ext cx="550800" cy="25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E973-B219-4F96-80E9-5769283F8B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Rounded Rectangle 23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318" name="Rounded Rectangle 23" descr=""/>
            <p:cNvPicPr/>
            <p:nvPr/>
          </p:nvPicPr>
          <p:blipFill>
            <a:blip r:embed="rId17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Rounded Rectangle 24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321" name="Rounded Rectangle 24" descr=""/>
            <p:cNvPicPr/>
            <p:nvPr/>
          </p:nvPicPr>
          <p:blipFill>
            <a:blip r:embed="rId18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283536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337644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http://www.clker.com/cliparts/f/9/8/1/1216181106356570529jean_victor_balin_icon_star.svg.med.png"/>
          <p:cNvPicPr/>
          <p:nvPr/>
        </p:nvPicPr>
        <p:blipFill>
          <a:blip r:embed="rId7"/>
          <a:stretch/>
        </p:blipFill>
        <p:spPr>
          <a:xfrm>
            <a:off x="3814920" y="287640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35440" y="3411360"/>
            <a:ext cx="271440" cy="258840"/>
          </a:xfrm>
          <a:prstGeom prst="rect">
            <a:avLst/>
          </a:prstGeom>
          <a:ln w="0">
            <a:noFill/>
          </a:ln>
        </p:spPr>
      </p:pic>
      <p:sp>
        <p:nvSpPr>
          <p:cNvPr id="336" name="右箭头 2"/>
          <p:cNvSpPr/>
          <p:nvPr/>
        </p:nvSpPr>
        <p:spPr>
          <a:xfrm rot="20147400">
            <a:off x="2665440" y="2949480"/>
            <a:ext cx="714240" cy="7207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6852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29"/>
          <p:cNvSpPr/>
          <p:nvPr/>
        </p:nvSpPr>
        <p:spPr>
          <a:xfrm>
            <a:off x="5245200" y="2889360"/>
            <a:ext cx="550800" cy="25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30"/>
          <p:cNvSpPr/>
          <p:nvPr/>
        </p:nvSpPr>
        <p:spPr>
          <a:xfrm>
            <a:off x="5245200" y="3392640"/>
            <a:ext cx="550800" cy="252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31"/>
          <p:cNvSpPr/>
          <p:nvPr/>
        </p:nvSpPr>
        <p:spPr>
          <a:xfrm>
            <a:off x="6300720" y="1914480"/>
            <a:ext cx="549360" cy="252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32"/>
          <p:cNvSpPr/>
          <p:nvPr/>
        </p:nvSpPr>
        <p:spPr>
          <a:xfrm>
            <a:off x="6300720" y="2454120"/>
            <a:ext cx="549360" cy="25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4111560" y="3409920"/>
            <a:ext cx="273240" cy="258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379760" y="3409920"/>
            <a:ext cx="273240" cy="258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http://www.clker.com/cliparts/f/9/8/1/1216181106356570529jean_victor_balin_icon_star.svg.med.png"/>
          <p:cNvPicPr/>
          <p:nvPr/>
        </p:nvPicPr>
        <p:blipFill>
          <a:blip r:embed="rId15"/>
          <a:stretch/>
        </p:blipFill>
        <p:spPr>
          <a:xfrm>
            <a:off x="4648320" y="340992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http://www.clker.com/cliparts/f/9/8/1/1216181106356570529jean_victor_balin_icon_star.svg.med.png"/>
          <p:cNvPicPr/>
          <p:nvPr/>
        </p:nvPicPr>
        <p:blipFill>
          <a:blip r:embed="rId16"/>
          <a:stretch/>
        </p:blipFill>
        <p:spPr>
          <a:xfrm>
            <a:off x="4917960" y="3413160"/>
            <a:ext cx="27144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矩形 26"/>
          <p:cNvSpPr/>
          <p:nvPr/>
        </p:nvSpPr>
        <p:spPr>
          <a:xfrm>
            <a:off x="7667640" y="1920960"/>
            <a:ext cx="550800" cy="2538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96F3-E822-4B42-AFC9-D6EF62E6EF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Rounded Rectangle 25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348" name="Rounded Rectangle 25" descr=""/>
            <p:cNvPicPr/>
            <p:nvPr/>
          </p:nvPicPr>
          <p:blipFill>
            <a:blip r:embed="rId18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Rounded Rectangle 27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351" name="Rounded Rectangle 27" descr=""/>
            <p:cNvPicPr/>
            <p:nvPr/>
          </p:nvPicPr>
          <p:blipFill>
            <a:blip r:embed="rId19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4145040"/>
            <a:ext cx="366480" cy="3664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363852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http://www.clker.com/cliparts/f/9/8/1/1216181106356570529jean_victor_balin_icon_star.svg.med.png"/>
          <p:cNvPicPr/>
          <p:nvPr/>
        </p:nvPicPr>
        <p:blipFill>
          <a:blip r:embed="rId7"/>
          <a:stretch/>
        </p:blipFill>
        <p:spPr>
          <a:xfrm>
            <a:off x="3814920" y="367200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35440" y="4206960"/>
            <a:ext cx="271440" cy="260280"/>
          </a:xfrm>
          <a:prstGeom prst="rect">
            <a:avLst/>
          </a:prstGeom>
          <a:ln w="0">
            <a:noFill/>
          </a:ln>
        </p:spPr>
      </p:pic>
      <p:sp>
        <p:nvSpPr>
          <p:cNvPr id="366" name="右箭头 2"/>
          <p:cNvSpPr/>
          <p:nvPr/>
        </p:nvSpPr>
        <p:spPr>
          <a:xfrm>
            <a:off x="2665440" y="3746520"/>
            <a:ext cx="714240" cy="719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29"/>
          <p:cNvSpPr/>
          <p:nvPr/>
        </p:nvSpPr>
        <p:spPr>
          <a:xfrm>
            <a:off x="5245200" y="4184640"/>
            <a:ext cx="550800" cy="25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30"/>
          <p:cNvSpPr/>
          <p:nvPr/>
        </p:nvSpPr>
        <p:spPr>
          <a:xfrm>
            <a:off x="5245200" y="3679920"/>
            <a:ext cx="550800" cy="253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31"/>
          <p:cNvSpPr/>
          <p:nvPr/>
        </p:nvSpPr>
        <p:spPr>
          <a:xfrm>
            <a:off x="6300720" y="1914480"/>
            <a:ext cx="549360" cy="252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32"/>
          <p:cNvSpPr/>
          <p:nvPr/>
        </p:nvSpPr>
        <p:spPr>
          <a:xfrm>
            <a:off x="6300720" y="2454120"/>
            <a:ext cx="549360" cy="25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4111560" y="3673440"/>
            <a:ext cx="273240" cy="260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379760" y="3673440"/>
            <a:ext cx="273240" cy="260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http://www.clker.com/cliparts/f/9/8/1/1216181106356570529jean_victor_balin_icon_star.svg.med.png"/>
          <p:cNvPicPr/>
          <p:nvPr/>
        </p:nvPicPr>
        <p:blipFill>
          <a:blip r:embed="rId15"/>
          <a:stretch/>
        </p:blipFill>
        <p:spPr>
          <a:xfrm>
            <a:off x="4659480" y="3673440"/>
            <a:ext cx="272880" cy="260280"/>
          </a:xfrm>
          <a:prstGeom prst="rect">
            <a:avLst/>
          </a:prstGeom>
          <a:ln w="0">
            <a:noFill/>
          </a:ln>
        </p:spPr>
      </p:pic>
      <p:sp>
        <p:nvSpPr>
          <p:cNvPr id="374" name="矩形 26"/>
          <p:cNvSpPr/>
          <p:nvPr/>
        </p:nvSpPr>
        <p:spPr>
          <a:xfrm>
            <a:off x="7667640" y="1920960"/>
            <a:ext cx="550800" cy="253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95F5-7A46-4BA4-B286-5A94A0321B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Rounded Rectangle 24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377" name="Rounded Rectangle 24" descr=""/>
            <p:cNvPicPr/>
            <p:nvPr/>
          </p:nvPicPr>
          <p:blipFill>
            <a:blip r:embed="rId17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9" name="Rounded Rectangle 25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380" name="Rounded Rectangle 25" descr=""/>
            <p:cNvPicPr/>
            <p:nvPr/>
          </p:nvPicPr>
          <p:blipFill>
            <a:blip r:embed="rId18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4145040"/>
            <a:ext cx="366480" cy="3664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363852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http://www.clker.com/cliparts/f/9/8/1/1216181106356570529jean_victor_balin_icon_star.svg.med.png"/>
          <p:cNvPicPr/>
          <p:nvPr/>
        </p:nvPicPr>
        <p:blipFill>
          <a:blip r:embed="rId7"/>
          <a:stretch/>
        </p:blipFill>
        <p:spPr>
          <a:xfrm>
            <a:off x="3814920" y="367200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35440" y="4206960"/>
            <a:ext cx="271440" cy="260280"/>
          </a:xfrm>
          <a:prstGeom prst="rect">
            <a:avLst/>
          </a:prstGeom>
          <a:ln w="0">
            <a:noFill/>
          </a:ln>
        </p:spPr>
      </p:pic>
      <p:sp>
        <p:nvSpPr>
          <p:cNvPr id="395" name="右箭头 2"/>
          <p:cNvSpPr/>
          <p:nvPr/>
        </p:nvSpPr>
        <p:spPr>
          <a:xfrm>
            <a:off x="2665440" y="3746520"/>
            <a:ext cx="714240" cy="719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29"/>
          <p:cNvSpPr/>
          <p:nvPr/>
        </p:nvSpPr>
        <p:spPr>
          <a:xfrm>
            <a:off x="5245200" y="4184640"/>
            <a:ext cx="550800" cy="25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30"/>
          <p:cNvSpPr/>
          <p:nvPr/>
        </p:nvSpPr>
        <p:spPr>
          <a:xfrm>
            <a:off x="5245200" y="3679920"/>
            <a:ext cx="550800" cy="253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31"/>
          <p:cNvSpPr/>
          <p:nvPr/>
        </p:nvSpPr>
        <p:spPr>
          <a:xfrm>
            <a:off x="6300720" y="1914480"/>
            <a:ext cx="549360" cy="252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32"/>
          <p:cNvSpPr/>
          <p:nvPr/>
        </p:nvSpPr>
        <p:spPr>
          <a:xfrm>
            <a:off x="6300720" y="2454120"/>
            <a:ext cx="549360" cy="25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4111560" y="3673440"/>
            <a:ext cx="273240" cy="260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379760" y="3673440"/>
            <a:ext cx="273240" cy="260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www.clker.com/cliparts/f/9/8/1/1216181106356570529jean_victor_balin_icon_star.svg.med.png"/>
          <p:cNvPicPr/>
          <p:nvPr/>
        </p:nvPicPr>
        <p:blipFill>
          <a:blip r:embed="rId15"/>
          <a:stretch/>
        </p:blipFill>
        <p:spPr>
          <a:xfrm>
            <a:off x="4659480" y="3673440"/>
            <a:ext cx="272880" cy="260280"/>
          </a:xfrm>
          <a:prstGeom prst="rect">
            <a:avLst/>
          </a:prstGeom>
          <a:ln w="0">
            <a:noFill/>
          </a:ln>
        </p:spPr>
      </p:pic>
      <p:sp>
        <p:nvSpPr>
          <p:cNvPr id="403" name="矩形 26"/>
          <p:cNvSpPr/>
          <p:nvPr/>
        </p:nvSpPr>
        <p:spPr>
          <a:xfrm>
            <a:off x="7667640" y="1920960"/>
            <a:ext cx="550800" cy="253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23"/>
          <p:cNvSpPr/>
          <p:nvPr/>
        </p:nvSpPr>
        <p:spPr>
          <a:xfrm>
            <a:off x="6300720" y="2997360"/>
            <a:ext cx="549360" cy="252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5928-9F42-4872-9782-B7EA8E969D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6" name="Rounded Rectangle 25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407" name="Rounded Rectangle 25" descr=""/>
            <p:cNvPicPr/>
            <p:nvPr/>
          </p:nvPicPr>
          <p:blipFill>
            <a:blip r:embed="rId18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9" name="Rounded Rectangle 27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410" name="Rounded Rectangle 27" descr=""/>
            <p:cNvPicPr/>
            <p:nvPr/>
          </p:nvPicPr>
          <p:blipFill>
            <a:blip r:embed="rId19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sp>
        <p:nvSpPr>
          <p:cNvPr id="416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493704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443232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www.clker.com/cliparts/f/9/8/1/1216181106356570529jean_victor_balin_icon_star.svg.med.png"/>
          <p:cNvPicPr/>
          <p:nvPr/>
        </p:nvPicPr>
        <p:blipFill>
          <a:blip r:embed="rId7"/>
          <a:stretch/>
        </p:blipFill>
        <p:spPr>
          <a:xfrm>
            <a:off x="3814920" y="446400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35440" y="4998960"/>
            <a:ext cx="271440" cy="260280"/>
          </a:xfrm>
          <a:prstGeom prst="rect">
            <a:avLst/>
          </a:prstGeom>
          <a:ln w="0">
            <a:noFill/>
          </a:ln>
        </p:spPr>
      </p:pic>
      <p:sp>
        <p:nvSpPr>
          <p:cNvPr id="425" name="右箭头 2"/>
          <p:cNvSpPr/>
          <p:nvPr/>
        </p:nvSpPr>
        <p:spPr>
          <a:xfrm>
            <a:off x="2665440" y="4538520"/>
            <a:ext cx="714240" cy="719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矩形 29"/>
          <p:cNvSpPr/>
          <p:nvPr/>
        </p:nvSpPr>
        <p:spPr>
          <a:xfrm>
            <a:off x="5245200" y="4976640"/>
            <a:ext cx="550800" cy="252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矩形 30"/>
          <p:cNvSpPr/>
          <p:nvPr/>
        </p:nvSpPr>
        <p:spPr>
          <a:xfrm>
            <a:off x="5245200" y="4471920"/>
            <a:ext cx="550800" cy="252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矩形 31"/>
          <p:cNvSpPr/>
          <p:nvPr/>
        </p:nvSpPr>
        <p:spPr>
          <a:xfrm>
            <a:off x="6300720" y="1914480"/>
            <a:ext cx="549360" cy="252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矩形 32"/>
          <p:cNvSpPr/>
          <p:nvPr/>
        </p:nvSpPr>
        <p:spPr>
          <a:xfrm>
            <a:off x="6300720" y="2454120"/>
            <a:ext cx="549360" cy="25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4111560" y="4465800"/>
            <a:ext cx="273240" cy="2584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379760" y="4465800"/>
            <a:ext cx="273240" cy="258480"/>
          </a:xfrm>
          <a:prstGeom prst="rect">
            <a:avLst/>
          </a:prstGeom>
          <a:ln w="0">
            <a:noFill/>
          </a:ln>
        </p:spPr>
      </p:pic>
      <p:sp>
        <p:nvSpPr>
          <p:cNvPr id="432" name="矩形 26"/>
          <p:cNvSpPr/>
          <p:nvPr/>
        </p:nvSpPr>
        <p:spPr>
          <a:xfrm>
            <a:off x="7667640" y="1920960"/>
            <a:ext cx="550800" cy="253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3"/>
          <p:cNvSpPr/>
          <p:nvPr/>
        </p:nvSpPr>
        <p:spPr>
          <a:xfrm>
            <a:off x="6300720" y="2997360"/>
            <a:ext cx="549360" cy="25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7C3D-7CB4-4CAE-A82A-7B810D4C10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Rounded Rectangle 24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436" name="Rounded Rectangle 24" descr=""/>
            <p:cNvPicPr/>
            <p:nvPr/>
          </p:nvPicPr>
          <p:blipFill>
            <a:blip r:embed="rId17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Rounded Rectangle 25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439" name="Rounded Rectangle 25" descr=""/>
            <p:cNvPicPr/>
            <p:nvPr/>
          </p:nvPicPr>
          <p:blipFill>
            <a:blip r:embed="rId18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493704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443232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http://www.clker.com/cliparts/f/9/8/1/1216181106356570529jean_victor_balin_icon_star.svg.med.png"/>
          <p:cNvPicPr/>
          <p:nvPr/>
        </p:nvPicPr>
        <p:blipFill>
          <a:blip r:embed="rId7"/>
          <a:stretch/>
        </p:blipFill>
        <p:spPr>
          <a:xfrm>
            <a:off x="3814920" y="446400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35440" y="4998960"/>
            <a:ext cx="271440" cy="260280"/>
          </a:xfrm>
          <a:prstGeom prst="rect">
            <a:avLst/>
          </a:prstGeom>
          <a:ln w="0">
            <a:noFill/>
          </a:ln>
        </p:spPr>
      </p:pic>
      <p:sp>
        <p:nvSpPr>
          <p:cNvPr id="454" name="右箭头 2"/>
          <p:cNvSpPr/>
          <p:nvPr/>
        </p:nvSpPr>
        <p:spPr>
          <a:xfrm>
            <a:off x="2665440" y="4538520"/>
            <a:ext cx="714240" cy="719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29"/>
          <p:cNvSpPr/>
          <p:nvPr/>
        </p:nvSpPr>
        <p:spPr>
          <a:xfrm>
            <a:off x="5245200" y="4976640"/>
            <a:ext cx="550800" cy="252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矩形 30"/>
          <p:cNvSpPr/>
          <p:nvPr/>
        </p:nvSpPr>
        <p:spPr>
          <a:xfrm>
            <a:off x="5245200" y="4471920"/>
            <a:ext cx="550800" cy="252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矩形 31"/>
          <p:cNvSpPr/>
          <p:nvPr/>
        </p:nvSpPr>
        <p:spPr>
          <a:xfrm>
            <a:off x="6300720" y="1914480"/>
            <a:ext cx="549360" cy="252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32"/>
          <p:cNvSpPr/>
          <p:nvPr/>
        </p:nvSpPr>
        <p:spPr>
          <a:xfrm>
            <a:off x="6300720" y="2454120"/>
            <a:ext cx="549360" cy="25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4111560" y="4465800"/>
            <a:ext cx="273240" cy="2584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379760" y="4465800"/>
            <a:ext cx="273240" cy="258480"/>
          </a:xfrm>
          <a:prstGeom prst="rect">
            <a:avLst/>
          </a:prstGeom>
          <a:ln w="0">
            <a:noFill/>
          </a:ln>
        </p:spPr>
      </p:pic>
      <p:sp>
        <p:nvSpPr>
          <p:cNvPr id="461" name="矩形 26"/>
          <p:cNvSpPr/>
          <p:nvPr/>
        </p:nvSpPr>
        <p:spPr>
          <a:xfrm>
            <a:off x="7667640" y="1920960"/>
            <a:ext cx="550800" cy="253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矩形 23"/>
          <p:cNvSpPr/>
          <p:nvPr/>
        </p:nvSpPr>
        <p:spPr>
          <a:xfrm>
            <a:off x="6300720" y="2997360"/>
            <a:ext cx="549360" cy="25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矩形 25"/>
          <p:cNvSpPr/>
          <p:nvPr/>
        </p:nvSpPr>
        <p:spPr>
          <a:xfrm>
            <a:off x="7667640" y="2454120"/>
            <a:ext cx="550800" cy="252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09D6-B5A4-4476-84CC-64129BEC90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Rounded Rectangle 27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466" name="Rounded Rectangle 27" descr=""/>
            <p:cNvPicPr/>
            <p:nvPr/>
          </p:nvPicPr>
          <p:blipFill>
            <a:blip r:embed="rId18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Rounded Rectangle 28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469" name="Rounded Rectangle 28" descr=""/>
            <p:cNvPicPr/>
            <p:nvPr/>
          </p:nvPicPr>
          <p:blipFill>
            <a:blip r:embed="rId19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sp>
        <p:nvSpPr>
          <p:cNvPr id="479" name="矩形 31"/>
          <p:cNvSpPr/>
          <p:nvPr/>
        </p:nvSpPr>
        <p:spPr>
          <a:xfrm>
            <a:off x="6300720" y="1914480"/>
            <a:ext cx="549360" cy="25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矩形 32"/>
          <p:cNvSpPr/>
          <p:nvPr/>
        </p:nvSpPr>
        <p:spPr>
          <a:xfrm>
            <a:off x="6300720" y="2454120"/>
            <a:ext cx="549360" cy="252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矩形 26"/>
          <p:cNvSpPr/>
          <p:nvPr/>
        </p:nvSpPr>
        <p:spPr>
          <a:xfrm>
            <a:off x="7667640" y="1920960"/>
            <a:ext cx="550800" cy="253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矩形 23"/>
          <p:cNvSpPr/>
          <p:nvPr/>
        </p:nvSpPr>
        <p:spPr>
          <a:xfrm>
            <a:off x="6300720" y="2997360"/>
            <a:ext cx="549360" cy="25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矩形 25"/>
          <p:cNvSpPr/>
          <p:nvPr/>
        </p:nvSpPr>
        <p:spPr>
          <a:xfrm>
            <a:off x="7667640" y="2454120"/>
            <a:ext cx="550800" cy="252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2987640" y="422604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umpt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user’s profile is constructed bas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 reviews of other users who sha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similar opinions on the examp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gges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4DB5-0685-41B5-B32B-25380B537F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7" name="Rounded Rectangle 20"/>
          <p:cNvGrpSpPr/>
          <p:nvPr/>
        </p:nvGrpSpPr>
        <p:grpSpPr>
          <a:xfrm>
            <a:off x="6102360" y="1378080"/>
            <a:ext cx="1189080" cy="474480"/>
            <a:chOff x="6102360" y="1378080"/>
            <a:chExt cx="1189080" cy="474480"/>
          </a:xfrm>
        </p:grpSpPr>
        <p:pic>
          <p:nvPicPr>
            <p:cNvPr id="488" name="Rounded Rectangle 20" descr=""/>
            <p:cNvPicPr/>
            <p:nvPr/>
          </p:nvPicPr>
          <p:blipFill>
            <a:blip r:embed="rId10"/>
            <a:stretch/>
          </p:blipFill>
          <p:spPr>
            <a:xfrm>
              <a:off x="6102360" y="1378080"/>
              <a:ext cx="118908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6173640" y="1430280"/>
              <a:ext cx="1044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0" name="Rounded Rectangle 21"/>
          <p:cNvGrpSpPr/>
          <p:nvPr/>
        </p:nvGrpSpPr>
        <p:grpSpPr>
          <a:xfrm>
            <a:off x="7467480" y="1378080"/>
            <a:ext cx="1195560" cy="474480"/>
            <a:chOff x="7467480" y="1378080"/>
            <a:chExt cx="1195560" cy="474480"/>
          </a:xfrm>
        </p:grpSpPr>
        <p:pic>
          <p:nvPicPr>
            <p:cNvPr id="491" name="Rounded Rectangle 21" descr=""/>
            <p:cNvPicPr/>
            <p:nvPr/>
          </p:nvPicPr>
          <p:blipFill>
            <a:blip r:embed="rId11"/>
            <a:stretch/>
          </p:blipFill>
          <p:spPr>
            <a:xfrm>
              <a:off x="7467480" y="137808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7542360" y="1430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圆角矩形 6"/>
          <p:cNvSpPr/>
          <p:nvPr/>
        </p:nvSpPr>
        <p:spPr>
          <a:xfrm>
            <a:off x="6012000" y="1268280"/>
            <a:ext cx="2952720" cy="221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658800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User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8" descr="http://wikieducator.org/images/1/16/Dummy_user.png"/>
          <p:cNvPicPr/>
          <p:nvPr/>
        </p:nvPicPr>
        <p:blipFill>
          <a:blip r:embed="rId1"/>
          <a:stretch/>
        </p:blipFill>
        <p:spPr>
          <a:xfrm>
            <a:off x="96840" y="1243080"/>
            <a:ext cx="927000" cy="9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"/>
          <p:cNvGraphicFramePr/>
          <p:nvPr/>
        </p:nvGraphicFramePr>
        <p:xfrm>
          <a:off x="5292720" y="1004760"/>
          <a:ext cx="3743280" cy="2899080"/>
        </p:xfrm>
        <a:graphic>
          <a:graphicData uri="http://schemas.openxmlformats.org/drawingml/2006/table">
            <a:tbl>
              <a:tblPr/>
              <a:tblGrid>
                <a:gridCol w="2735280"/>
                <a:gridCol w="100800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7" name="Picture 4" descr="http://s3-media1.ak.yelpcdn.com/bphoto/lh6zfssV52srIqLOS_fqyg/l.jpg"/>
          <p:cNvPicPr/>
          <p:nvPr/>
        </p:nvPicPr>
        <p:blipFill>
          <a:blip r:embed="rId2"/>
          <a:stretch/>
        </p:blipFill>
        <p:spPr>
          <a:xfrm>
            <a:off x="6804000" y="3236760"/>
            <a:ext cx="1027080" cy="568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8" descr="http://s3-media3.ak.yelpcdn.com/bphoto/6FbcKxDcZCnHQD8qqOcq-A/l.jpg"/>
          <p:cNvPicPr/>
          <p:nvPr/>
        </p:nvPicPr>
        <p:blipFill>
          <a:blip r:embed="rId3"/>
          <a:stretch/>
        </p:blipFill>
        <p:spPr>
          <a:xfrm>
            <a:off x="6804000" y="2552760"/>
            <a:ext cx="1027080" cy="5396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2" descr="http://nycxplorer.com/wp-content/uploads/2012/02/MetropolitanMuseumOfArtAtDusk1.jpg"/>
          <p:cNvPicPr/>
          <p:nvPr/>
        </p:nvPicPr>
        <p:blipFill>
          <a:blip r:embed="rId4"/>
          <a:stretch/>
        </p:blipFill>
        <p:spPr>
          <a:xfrm>
            <a:off x="6804000" y="1797120"/>
            <a:ext cx="1027080" cy="576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"/>
          <p:cNvPicPr/>
          <p:nvPr/>
        </p:nvPicPr>
        <p:blipFill>
          <a:blip r:embed="rId5"/>
          <a:stretch/>
        </p:blipFill>
        <p:spPr>
          <a:xfrm>
            <a:off x="6804000" y="1076400"/>
            <a:ext cx="1027080" cy="5950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30"/>
          <p:cNvSpPr/>
          <p:nvPr/>
        </p:nvSpPr>
        <p:spPr>
          <a:xfrm>
            <a:off x="6372360" y="54936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6" descr="http://findicons.com/files/icons/1609/ose_png/256/error.png"/>
          <p:cNvPicPr/>
          <p:nvPr/>
        </p:nvPicPr>
        <p:blipFill>
          <a:blip r:embed="rId6"/>
          <a:stretch/>
        </p:blipFill>
        <p:spPr>
          <a:xfrm>
            <a:off x="8163000" y="175896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http://png-3.findicons.com/files/icons/1609/ose_png/256/tick.png"/>
          <p:cNvPicPr/>
          <p:nvPr/>
        </p:nvPicPr>
        <p:blipFill>
          <a:blip r:embed="rId7"/>
          <a:stretch/>
        </p:blipFill>
        <p:spPr>
          <a:xfrm>
            <a:off x="8147160" y="1020600"/>
            <a:ext cx="739800" cy="738360"/>
          </a:xfrm>
          <a:prstGeom prst="rect">
            <a:avLst/>
          </a:prstGeom>
          <a:ln w="0">
            <a:noFill/>
          </a:ln>
        </p:spPr>
      </p:pic>
      <p:sp>
        <p:nvSpPr>
          <p:cNvPr id="504" name="云形标注 39"/>
          <p:cNvSpPr/>
          <p:nvPr/>
        </p:nvSpPr>
        <p:spPr>
          <a:xfrm>
            <a:off x="1187280" y="692280"/>
            <a:ext cx="3529080" cy="3457440"/>
          </a:xfrm>
          <a:prstGeom prst="cloudCallout">
            <a:avLst>
              <a:gd name="adj1" fmla="val -60763"/>
              <a:gd name="adj2" fmla="val -26342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Calibri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4" descr="http://png-3.findicons.com/files/icons/1609/ose_png/256/tick.png"/>
          <p:cNvPicPr/>
          <p:nvPr/>
        </p:nvPicPr>
        <p:blipFill>
          <a:blip r:embed="rId8"/>
          <a:stretch/>
        </p:blipFill>
        <p:spPr>
          <a:xfrm>
            <a:off x="8147160" y="24526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6" descr="http://findicons.com/files/icons/1609/ose_png/256/error.png"/>
          <p:cNvPicPr/>
          <p:nvPr/>
        </p:nvPicPr>
        <p:blipFill>
          <a:blip r:embed="rId9"/>
          <a:stretch/>
        </p:blipFill>
        <p:spPr>
          <a:xfrm>
            <a:off x="8163000" y="3166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"/>
          <p:cNvSpPr/>
          <p:nvPr/>
        </p:nvSpPr>
        <p:spPr>
          <a:xfrm>
            <a:off x="34920" y="2790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3"/>
          <p:cNvSpPr/>
          <p:nvPr/>
        </p:nvSpPr>
        <p:spPr>
          <a:xfrm>
            <a:off x="1619280" y="4581360"/>
            <a:ext cx="1579680" cy="42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Ran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右箭头 4"/>
          <p:cNvSpPr/>
          <p:nvPr/>
        </p:nvSpPr>
        <p:spPr>
          <a:xfrm rot="5400000">
            <a:off x="2204640" y="4009680"/>
            <a:ext cx="404640" cy="68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右箭头 25"/>
          <p:cNvSpPr/>
          <p:nvPr/>
        </p:nvSpPr>
        <p:spPr>
          <a:xfrm rot="16200000">
            <a:off x="2220120" y="4843800"/>
            <a:ext cx="374760" cy="68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6"/>
          <p:cNvSpPr/>
          <p:nvPr/>
        </p:nvSpPr>
        <p:spPr>
          <a:xfrm>
            <a:off x="1692360" y="1052640"/>
            <a:ext cx="27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in the center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downtown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of NYC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Japanese inspired decor, dim lighting, and a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clean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setting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it is fantastic but some areas are crowd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The cocktails are very well craf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8"/>
          <p:cNvSpPr/>
          <p:nvPr/>
        </p:nvSpPr>
        <p:spPr>
          <a:xfrm>
            <a:off x="1187280" y="2492280"/>
            <a:ext cx="35290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79280" y="5491080"/>
          <a:ext cx="5905440" cy="1251000"/>
        </p:xfrm>
        <a:graphic>
          <a:graphicData uri="http://schemas.openxmlformats.org/drawingml/2006/table">
            <a:tbl>
              <a:tblPr/>
              <a:tblGrid>
                <a:gridCol w="1087560"/>
                <a:gridCol w="4817880"/>
              </a:tblGrid>
              <a:tr h="609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…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 little bit </a:t>
                      </a:r>
                      <a:r>
                        <a:rPr b="1" lang="en-US" sz="1700" spc="-1" strike="noStrike">
                          <a:solidFill>
                            <a:srgbClr val="c00000"/>
                          </a:solidFill>
                          <a:latin typeface="Calibri"/>
                          <a:ea typeface="宋体"/>
                        </a:rPr>
                        <a:t>far away from downtow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…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it is crowd and you need to </a:t>
                      </a:r>
                      <a:r>
                        <a:rPr b="1" lang="en-US" sz="1700" spc="-1" strike="noStrike">
                          <a:solidFill>
                            <a:srgbClr val="c00000"/>
                          </a:solidFill>
                          <a:latin typeface="Calibri"/>
                          <a:ea typeface="宋体"/>
                        </a:rPr>
                        <a:t>take bus to there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…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hotel is very </a:t>
                      </a: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宋体"/>
                        </a:rPr>
                        <a:t>close to the train stati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neat and </a:t>
                      </a: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宋体"/>
                        </a:rPr>
                        <a:t>clea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environment is desirable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4" name="Picture 2" descr="http://mermaidsofearth.com/wp-content/uploads/2012/09/Rodolfo-Puig3L.jpg"/>
          <p:cNvPicPr/>
          <p:nvPr/>
        </p:nvPicPr>
        <p:blipFill>
          <a:blip r:embed="rId10"/>
          <a:stretch/>
        </p:blipFill>
        <p:spPr>
          <a:xfrm>
            <a:off x="324000" y="5516640"/>
            <a:ext cx="758520" cy="5094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http://media-cdn.tripadvisor.com/media/photo-s/01/f4/75/d1/early-morning-from-the.jpg"/>
          <p:cNvPicPr/>
          <p:nvPr/>
        </p:nvPicPr>
        <p:blipFill>
          <a:blip r:embed="rId11"/>
          <a:stretch/>
        </p:blipFill>
        <p:spPr>
          <a:xfrm>
            <a:off x="324000" y="6237360"/>
            <a:ext cx="75852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"/>
          <p:cNvGraphicFramePr/>
          <p:nvPr/>
        </p:nvGraphicFramePr>
        <p:xfrm>
          <a:off x="5076720" y="4227480"/>
          <a:ext cx="3205440" cy="1081080"/>
        </p:xfrm>
        <a:graphic>
          <a:graphicData uri="http://schemas.openxmlformats.org/drawingml/2006/table">
            <a:tbl>
              <a:tblPr/>
              <a:tblGrid>
                <a:gridCol w="416160"/>
                <a:gridCol w="27892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Nimb Hot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Little Merm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7" name="Picture 4" descr="http://media-cdn.tripadvisor.com/media/photo-s/01/f4/75/d1/early-morning-from-the.jpg"/>
          <p:cNvPicPr/>
          <p:nvPr/>
        </p:nvPicPr>
        <p:blipFill>
          <a:blip r:embed="rId12"/>
          <a:stretch/>
        </p:blipFill>
        <p:spPr>
          <a:xfrm>
            <a:off x="7413480" y="4294080"/>
            <a:ext cx="758880" cy="432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http://png-3.findicons.com/files/icons/1609/ose_png/256/tick.png"/>
          <p:cNvPicPr/>
          <p:nvPr/>
        </p:nvPicPr>
        <p:blipFill>
          <a:blip r:embed="rId13"/>
          <a:stretch/>
        </p:blipFill>
        <p:spPr>
          <a:xfrm>
            <a:off x="8283600" y="4149720"/>
            <a:ext cx="609480" cy="6080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http://findicons.com/files/icons/1609/ose_png/256/error.png"/>
          <p:cNvPicPr/>
          <p:nvPr/>
        </p:nvPicPr>
        <p:blipFill>
          <a:blip r:embed="rId14"/>
          <a:stretch/>
        </p:blipFill>
        <p:spPr>
          <a:xfrm>
            <a:off x="8282160" y="4710240"/>
            <a:ext cx="590400" cy="5918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http://mermaidsofearth.com/wp-content/uploads/2012/09/Rodolfo-Puig3L.jpg"/>
          <p:cNvPicPr/>
          <p:nvPr/>
        </p:nvPicPr>
        <p:blipFill>
          <a:blip r:embed="rId15"/>
          <a:stretch/>
        </p:blipFill>
        <p:spPr>
          <a:xfrm>
            <a:off x="7413480" y="4808520"/>
            <a:ext cx="758880" cy="420840"/>
          </a:xfrm>
          <a:prstGeom prst="rect">
            <a:avLst/>
          </a:prstGeom>
          <a:ln w="0">
            <a:noFill/>
          </a:ln>
        </p:spPr>
      </p:pic>
      <p:sp>
        <p:nvSpPr>
          <p:cNvPr id="5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0384-19E2-4181-9EC3-2A576D4AA6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标题 1"/>
          <p:cNvSpPr/>
          <p:nvPr/>
        </p:nvSpPr>
        <p:spPr>
          <a:xfrm>
            <a:off x="34920" y="44280"/>
            <a:ext cx="9001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Opinion-based Profile Model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3" name="Rounded Rectangle 37"/>
          <p:cNvGrpSpPr/>
          <p:nvPr/>
        </p:nvGrpSpPr>
        <p:grpSpPr>
          <a:xfrm>
            <a:off x="341280" y="731880"/>
            <a:ext cx="1189080" cy="468360"/>
            <a:chOff x="341280" y="731880"/>
            <a:chExt cx="1189080" cy="468360"/>
          </a:xfrm>
        </p:grpSpPr>
        <p:pic>
          <p:nvPicPr>
            <p:cNvPr id="524" name="Rounded Rectangle 37" descr=""/>
            <p:cNvPicPr/>
            <p:nvPr/>
          </p:nvPicPr>
          <p:blipFill>
            <a:blip r:embed="rId16"/>
            <a:stretch/>
          </p:blipFill>
          <p:spPr>
            <a:xfrm>
              <a:off x="341280" y="731880"/>
              <a:ext cx="11890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412920" y="782640"/>
              <a:ext cx="1044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Rounded Rectangle 38"/>
          <p:cNvGrpSpPr/>
          <p:nvPr/>
        </p:nvGrpSpPr>
        <p:grpSpPr>
          <a:xfrm>
            <a:off x="341280" y="3468600"/>
            <a:ext cx="1189080" cy="470160"/>
            <a:chOff x="341280" y="3468600"/>
            <a:chExt cx="1189080" cy="470160"/>
          </a:xfrm>
        </p:grpSpPr>
        <p:pic>
          <p:nvPicPr>
            <p:cNvPr id="527" name="Rounded Rectangle 38" descr=""/>
            <p:cNvPicPr/>
            <p:nvPr/>
          </p:nvPicPr>
          <p:blipFill>
            <a:blip r:embed="rId17"/>
            <a:stretch/>
          </p:blipFill>
          <p:spPr>
            <a:xfrm>
              <a:off x="341280" y="3468600"/>
              <a:ext cx="118908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412920" y="351792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9" name="虚尾箭头 17"/>
          <p:cNvSpPr/>
          <p:nvPr/>
        </p:nvSpPr>
        <p:spPr>
          <a:xfrm rot="10800000">
            <a:off x="4643280" y="1717560"/>
            <a:ext cx="611280" cy="1495440"/>
          </a:xfrm>
          <a:custGeom>
            <a:avLst/>
            <a:gdLst/>
            <a:ahLst/>
            <a:rect l="l" t="t" r="r" b="b"/>
            <a:pathLst>
              <a:path w="1188133" h="1495520">
                <a:moveTo>
                  <a:pt x="0" y="373880"/>
                </a:moveTo>
                <a:lnTo>
                  <a:pt x="37129" y="373880"/>
                </a:lnTo>
                <a:lnTo>
                  <a:pt x="37129" y="1121640"/>
                </a:lnTo>
                <a:lnTo>
                  <a:pt x="0" y="1121640"/>
                </a:lnTo>
                <a:lnTo>
                  <a:pt x="0" y="373880"/>
                </a:lnTo>
                <a:close/>
                <a:moveTo>
                  <a:pt x="74258" y="373880"/>
                </a:moveTo>
                <a:lnTo>
                  <a:pt x="148517" y="373880"/>
                </a:lnTo>
                <a:lnTo>
                  <a:pt x="148517" y="1121640"/>
                </a:lnTo>
                <a:lnTo>
                  <a:pt x="74258" y="1121640"/>
                </a:lnTo>
                <a:lnTo>
                  <a:pt x="74258" y="373880"/>
                </a:lnTo>
                <a:close/>
                <a:moveTo>
                  <a:pt x="185646" y="373880"/>
                </a:moveTo>
                <a:lnTo>
                  <a:pt x="594067" y="373880"/>
                </a:lnTo>
                <a:lnTo>
                  <a:pt x="594067" y="0"/>
                </a:lnTo>
                <a:lnTo>
                  <a:pt x="1188133" y="747760"/>
                </a:lnTo>
                <a:lnTo>
                  <a:pt x="594067" y="1495520"/>
                </a:lnTo>
                <a:lnTo>
                  <a:pt x="594067" y="1121640"/>
                </a:lnTo>
                <a:lnTo>
                  <a:pt x="185646" y="1121640"/>
                </a:lnTo>
                <a:lnTo>
                  <a:pt x="185646" y="373880"/>
                </a:lnTo>
                <a:close/>
              </a:path>
            </a:pathLst>
          </a:cu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右箭头 4"/>
          <p:cNvSpPr/>
          <p:nvPr/>
        </p:nvSpPr>
        <p:spPr>
          <a:xfrm>
            <a:off x="3708360" y="4508640"/>
            <a:ext cx="996840" cy="46800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Representation of User Prof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39640" y="3716280"/>
          <a:ext cx="8317080" cy="2195640"/>
        </p:xfrm>
        <a:graphic>
          <a:graphicData uri="http://schemas.openxmlformats.org/drawingml/2006/table">
            <a:tbl>
              <a:tblPr/>
              <a:tblGrid>
                <a:gridCol w="1908360"/>
                <a:gridCol w="6408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alibri"/>
                          <a:ea typeface="宋体"/>
                        </a:rPr>
                        <a:t>Full Re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alibri"/>
                          <a:ea typeface="宋体"/>
                        </a:rPr>
                        <a:t>(all term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(As the same as above, excluding stop word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alibri"/>
                          <a:ea typeface="宋体"/>
                        </a:rPr>
                        <a:t>Short Re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alibri"/>
                          <a:ea typeface="宋体"/>
                        </a:rPr>
                        <a:t>(high frequency term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rchitecture architecture food food oyster oyster 100 amazing ask ate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alibri"/>
                          <a:ea typeface="宋体"/>
                        </a:rPr>
                        <a:t>Noun-based Re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rchitecture food court downstairs place train stations tracks bar pots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30C3-2D0C-4C8C-BD73-3D851FBC0F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ounded Rectangle 1"/>
          <p:cNvSpPr/>
          <p:nvPr/>
        </p:nvSpPr>
        <p:spPr>
          <a:xfrm>
            <a:off x="1979640" y="1197000"/>
            <a:ext cx="655308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…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From the stunning architecture to the croissant and latte served up in the food court downstairs. Go to this place and ask why all train stations can't be like thi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Wow, over 100 tracks. Unbelievable architecture. Shopping, food. Etc. it is amazing. We ate at the oyster bar last time and that was a treat. The oyster pots are quite somet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2"/>
          <p:cNvSpPr/>
          <p:nvPr/>
        </p:nvSpPr>
        <p:spPr>
          <a:xfrm>
            <a:off x="324000" y="205092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iginal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Traditional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Information Retrie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vector.me/files/images/7/1/715218/user_symbol_blue_clip_art.jpg"/>
          <p:cNvPicPr/>
          <p:nvPr/>
        </p:nvPicPr>
        <p:blipFill>
          <a:blip r:embed="rId1"/>
          <a:stretch/>
        </p:blipFill>
        <p:spPr>
          <a:xfrm>
            <a:off x="34920" y="1700280"/>
            <a:ext cx="636480" cy="86508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6"/>
          <p:cNvGrpSpPr/>
          <p:nvPr/>
        </p:nvGrpSpPr>
        <p:grpSpPr>
          <a:xfrm>
            <a:off x="610920" y="1700280"/>
            <a:ext cx="3792960" cy="649080"/>
            <a:chOff x="610920" y="1700280"/>
            <a:chExt cx="3792960" cy="649080"/>
          </a:xfrm>
        </p:grpSpPr>
        <p:sp>
          <p:nvSpPr>
            <p:cNvPr id="55" name="圆角矩形 4"/>
            <p:cNvSpPr/>
            <p:nvPr/>
          </p:nvSpPr>
          <p:spPr>
            <a:xfrm>
              <a:off x="1179720" y="1725840"/>
              <a:ext cx="1988640" cy="55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ICTIR 201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圆角矩形 5"/>
            <p:cNvGrpSpPr/>
            <p:nvPr/>
          </p:nvGrpSpPr>
          <p:grpSpPr>
            <a:xfrm>
              <a:off x="3255480" y="1700280"/>
              <a:ext cx="1148400" cy="649080"/>
              <a:chOff x="3255480" y="1700280"/>
              <a:chExt cx="1148400" cy="649080"/>
            </a:xfrm>
          </p:grpSpPr>
          <p:pic>
            <p:nvPicPr>
              <p:cNvPr id="57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55480" y="1700280"/>
                <a:ext cx="114840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3341880" y="1753560"/>
                <a:ext cx="978840" cy="50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Searc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59" name="直接箭头连接符 7"/>
            <p:cNvCxnSpPr/>
            <p:nvPr/>
          </p:nvCxnSpPr>
          <p:spPr>
            <a:xfrm>
              <a:off x="610920" y="2035080"/>
              <a:ext cx="589320" cy="10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60" name="标题 1"/>
          <p:cNvSpPr/>
          <p:nvPr/>
        </p:nvSpPr>
        <p:spPr>
          <a:xfrm>
            <a:off x="4595760" y="212760"/>
            <a:ext cx="404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ontextual Sug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vector.me/files/images/7/1/715218/user_symbol_blue_clip_art.jpg"/>
          <p:cNvPicPr/>
          <p:nvPr/>
        </p:nvPicPr>
        <p:blipFill>
          <a:blip r:embed="rId3"/>
          <a:stretch/>
        </p:blipFill>
        <p:spPr>
          <a:xfrm>
            <a:off x="4595760" y="3409920"/>
            <a:ext cx="638280" cy="865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4"/>
          <a:stretch/>
        </p:blipFill>
        <p:spPr>
          <a:xfrm>
            <a:off x="1116000" y="2604960"/>
            <a:ext cx="3214800" cy="37134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26"/>
          <p:cNvGrpSpPr/>
          <p:nvPr/>
        </p:nvGrpSpPr>
        <p:grpSpPr>
          <a:xfrm>
            <a:off x="6191280" y="1398600"/>
            <a:ext cx="2616120" cy="5150160"/>
            <a:chOff x="6191280" y="1398600"/>
            <a:chExt cx="2616120" cy="5150160"/>
          </a:xfrm>
        </p:grpSpPr>
        <p:pic>
          <p:nvPicPr>
            <p:cNvPr id="64" name="Picture 6" descr="stock vector : schedule icon - office clock with calendar"/>
            <p:cNvPicPr/>
            <p:nvPr/>
          </p:nvPicPr>
          <p:blipFill>
            <a:blip r:embed="rId5"/>
            <a:stretch/>
          </p:blipFill>
          <p:spPr>
            <a:xfrm>
              <a:off x="7869240" y="1398600"/>
              <a:ext cx="650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6" descr="http://openclipart.org/image/800px/svg_to_png/177208/location_icon.png"/>
            <p:cNvPicPr/>
            <p:nvPr/>
          </p:nvPicPr>
          <p:blipFill>
            <a:blip r:embed="rId6"/>
            <a:stretch/>
          </p:blipFill>
          <p:spPr>
            <a:xfrm>
              <a:off x="6516720" y="1438200"/>
              <a:ext cx="6714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9"/>
            <p:cNvSpPr/>
            <p:nvPr/>
          </p:nvSpPr>
          <p:spPr>
            <a:xfrm>
              <a:off x="6191280" y="207468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Geographi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17"/>
            <p:cNvSpPr/>
            <p:nvPr/>
          </p:nvSpPr>
          <p:spPr>
            <a:xfrm>
              <a:off x="7637400" y="2076480"/>
              <a:ext cx="11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Calibri"/>
                </a:rPr>
                <a:t>Tempor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" name="Picture 18" descr="http://arguzsoft.com/aplications/imagenes/icon_shopcart.png"/>
            <p:cNvPicPr/>
            <p:nvPr/>
          </p:nvPicPr>
          <p:blipFill>
            <a:blip r:embed="rId7"/>
            <a:stretch/>
          </p:blipFill>
          <p:spPr>
            <a:xfrm>
              <a:off x="7290720" y="5742720"/>
              <a:ext cx="33516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4" descr="http://www.cookcenter.us/new-images/MuseumIconWords.gif"/>
            <p:cNvPicPr/>
            <p:nvPr/>
          </p:nvPicPr>
          <p:blipFill>
            <a:blip r:embed="rId8"/>
            <a:stretch/>
          </p:blipFill>
          <p:spPr>
            <a:xfrm>
              <a:off x="7290720" y="5316120"/>
              <a:ext cx="36576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4" descr="http://statefairofwv.com/files/2011/03/ferris-wheel-icon.png"/>
            <p:cNvPicPr/>
            <p:nvPr/>
          </p:nvPicPr>
          <p:blipFill>
            <a:blip r:embed="rId9"/>
            <a:stretch/>
          </p:blipFill>
          <p:spPr>
            <a:xfrm>
              <a:off x="7672320" y="5310360"/>
              <a:ext cx="3553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6" descr="Hotel Icon Restaurant Clip Art"/>
            <p:cNvPicPr/>
            <p:nvPr/>
          </p:nvPicPr>
          <p:blipFill>
            <a:blip r:embed="rId10"/>
            <a:stretch/>
          </p:blipFill>
          <p:spPr>
            <a:xfrm>
              <a:off x="7699320" y="5748840"/>
              <a:ext cx="3290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22"/>
            <p:cNvSpPr/>
            <p:nvPr/>
          </p:nvSpPr>
          <p:spPr>
            <a:xfrm>
              <a:off x="7270560" y="618048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0a0"/>
                  </a:solidFill>
                  <a:latin typeface="Calibri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圆角矩形 2"/>
            <p:cNvSpPr/>
            <p:nvPr/>
          </p:nvSpPr>
          <p:spPr>
            <a:xfrm>
              <a:off x="6754680" y="3084480"/>
              <a:ext cx="1811520" cy="144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eeff"/>
                </a:gs>
                <a:gs pos="100000">
                  <a:srgbClr val="a3c4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Calibri"/>
                  <a:ea typeface="宋体"/>
                </a:rPr>
                <a:t>Suggestion Sourc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虚尾箭头 3"/>
            <p:cNvSpPr/>
            <p:nvPr/>
          </p:nvSpPr>
          <p:spPr>
            <a:xfrm rot="16200000">
              <a:off x="7358040" y="4580280"/>
              <a:ext cx="627120" cy="576000"/>
            </a:xfrm>
            <a:custGeom>
              <a:avLst/>
              <a:gdLst/>
              <a:ahLst/>
              <a:rect l="l" t="t" r="r" b="b"/>
              <a:pathLst>
                <a:path w="626267" h="576064">
                  <a:moveTo>
                    <a:pt x="0" y="144016"/>
                  </a:moveTo>
                  <a:lnTo>
                    <a:pt x="18002" y="144016"/>
                  </a:lnTo>
                  <a:lnTo>
                    <a:pt x="18002" y="432048"/>
                  </a:lnTo>
                  <a:lnTo>
                    <a:pt x="0" y="432048"/>
                  </a:lnTo>
                  <a:lnTo>
                    <a:pt x="0" y="144016"/>
                  </a:lnTo>
                  <a:close/>
                  <a:moveTo>
                    <a:pt x="36004" y="144016"/>
                  </a:moveTo>
                  <a:lnTo>
                    <a:pt x="72008" y="144016"/>
                  </a:lnTo>
                  <a:lnTo>
                    <a:pt x="72008" y="432048"/>
                  </a:lnTo>
                  <a:lnTo>
                    <a:pt x="36004" y="432048"/>
                  </a:lnTo>
                  <a:lnTo>
                    <a:pt x="36004" y="144016"/>
                  </a:lnTo>
                  <a:close/>
                  <a:moveTo>
                    <a:pt x="90010" y="144016"/>
                  </a:moveTo>
                  <a:lnTo>
                    <a:pt x="338235" y="144016"/>
                  </a:lnTo>
                  <a:lnTo>
                    <a:pt x="338235" y="0"/>
                  </a:lnTo>
                  <a:lnTo>
                    <a:pt x="626267" y="288032"/>
                  </a:lnTo>
                  <a:lnTo>
                    <a:pt x="338235" y="576064"/>
                  </a:lnTo>
                  <a:lnTo>
                    <a:pt x="338235" y="432048"/>
                  </a:lnTo>
                  <a:lnTo>
                    <a:pt x="90010" y="432048"/>
                  </a:lnTo>
                  <a:lnTo>
                    <a:pt x="90010" y="144016"/>
                  </a:lnTo>
                  <a:close/>
                </a:path>
              </a:pathLst>
            </a:custGeom>
            <a:gradFill rotWithShape="0">
              <a:gsLst>
                <a:gs pos="0">
                  <a:srgbClr val="f0eaf9"/>
                </a:gs>
                <a:gs pos="100000">
                  <a:srgbClr val="c9b5e8"/>
                </a:gs>
              </a:gsLst>
              <a:lin ang="10800000"/>
            </a:gradFill>
            <a:ln w="9360">
              <a:solidFill>
                <a:srgbClr val="7d60a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虚尾箭头 25"/>
            <p:cNvSpPr/>
            <p:nvPr/>
          </p:nvSpPr>
          <p:spPr>
            <a:xfrm rot="5400000">
              <a:off x="7365240" y="2471040"/>
              <a:ext cx="627120" cy="574560"/>
            </a:xfrm>
            <a:custGeom>
              <a:avLst/>
              <a:gdLst/>
              <a:ahLst/>
              <a:rect l="l" t="t" r="r" b="b"/>
              <a:pathLst>
                <a:path w="626267" h="576064">
                  <a:moveTo>
                    <a:pt x="0" y="144016"/>
                  </a:moveTo>
                  <a:lnTo>
                    <a:pt x="18002" y="144016"/>
                  </a:lnTo>
                  <a:lnTo>
                    <a:pt x="18002" y="432048"/>
                  </a:lnTo>
                  <a:lnTo>
                    <a:pt x="0" y="432048"/>
                  </a:lnTo>
                  <a:lnTo>
                    <a:pt x="0" y="144016"/>
                  </a:lnTo>
                  <a:close/>
                  <a:moveTo>
                    <a:pt x="36004" y="144016"/>
                  </a:moveTo>
                  <a:lnTo>
                    <a:pt x="72008" y="144016"/>
                  </a:lnTo>
                  <a:lnTo>
                    <a:pt x="72008" y="432048"/>
                  </a:lnTo>
                  <a:lnTo>
                    <a:pt x="36004" y="432048"/>
                  </a:lnTo>
                  <a:lnTo>
                    <a:pt x="36004" y="144016"/>
                  </a:lnTo>
                  <a:close/>
                  <a:moveTo>
                    <a:pt x="90010" y="144016"/>
                  </a:moveTo>
                  <a:lnTo>
                    <a:pt x="338235" y="144016"/>
                  </a:lnTo>
                  <a:lnTo>
                    <a:pt x="338235" y="0"/>
                  </a:lnTo>
                  <a:lnTo>
                    <a:pt x="626267" y="288032"/>
                  </a:lnTo>
                  <a:lnTo>
                    <a:pt x="338235" y="576064"/>
                  </a:lnTo>
                  <a:lnTo>
                    <a:pt x="338235" y="432048"/>
                  </a:lnTo>
                  <a:lnTo>
                    <a:pt x="90010" y="432048"/>
                  </a:lnTo>
                  <a:lnTo>
                    <a:pt x="90010" y="144016"/>
                  </a:lnTo>
                  <a:close/>
                </a:path>
              </a:pathLst>
            </a:custGeom>
            <a:gradFill rotWithShape="0">
              <a:gsLst>
                <a:gs pos="0">
                  <a:srgbClr val="f0eaf9"/>
                </a:gs>
                <a:gs pos="100000">
                  <a:srgbClr val="c9b5e8"/>
                </a:gs>
              </a:gsLst>
              <a:lin ang="0"/>
            </a:gradFill>
            <a:ln w="9360">
              <a:solidFill>
                <a:srgbClr val="7d60a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2048"/>
          <p:cNvGrpSpPr/>
          <p:nvPr/>
        </p:nvGrpSpPr>
        <p:grpSpPr>
          <a:xfrm>
            <a:off x="5268600" y="2951280"/>
            <a:ext cx="1714680" cy="1296720"/>
            <a:chOff x="5268600" y="2951280"/>
            <a:chExt cx="1714680" cy="1296720"/>
          </a:xfrm>
        </p:grpSpPr>
        <p:grpSp>
          <p:nvGrpSpPr>
            <p:cNvPr id="77" name="Group 2047"/>
            <p:cNvGrpSpPr/>
            <p:nvPr/>
          </p:nvGrpSpPr>
          <p:grpSpPr>
            <a:xfrm>
              <a:off x="5268600" y="2951280"/>
              <a:ext cx="1714680" cy="1296720"/>
              <a:chOff x="5268600" y="2951280"/>
              <a:chExt cx="1714680" cy="1296720"/>
            </a:xfrm>
          </p:grpSpPr>
          <p:sp>
            <p:nvSpPr>
              <p:cNvPr id="78" name="虚尾箭头 24"/>
              <p:cNvSpPr/>
              <p:nvPr/>
            </p:nvSpPr>
            <p:spPr>
              <a:xfrm rot="10800000">
                <a:off x="5268600" y="3470400"/>
                <a:ext cx="1368360" cy="777600"/>
              </a:xfrm>
              <a:custGeom>
                <a:avLst/>
                <a:gdLst/>
                <a:ahLst/>
                <a:rect l="l" t="t" r="r" b="b"/>
                <a:pathLst>
                  <a:path w="1368151" h="777345">
                    <a:moveTo>
                      <a:pt x="0" y="194336"/>
                    </a:moveTo>
                    <a:lnTo>
                      <a:pt x="24292" y="194336"/>
                    </a:lnTo>
                    <a:lnTo>
                      <a:pt x="24292" y="583009"/>
                    </a:lnTo>
                    <a:lnTo>
                      <a:pt x="0" y="583009"/>
                    </a:lnTo>
                    <a:lnTo>
                      <a:pt x="0" y="194336"/>
                    </a:lnTo>
                    <a:close/>
                    <a:moveTo>
                      <a:pt x="48584" y="194336"/>
                    </a:moveTo>
                    <a:lnTo>
                      <a:pt x="97168" y="194336"/>
                    </a:lnTo>
                    <a:lnTo>
                      <a:pt x="97168" y="583009"/>
                    </a:lnTo>
                    <a:lnTo>
                      <a:pt x="48584" y="583009"/>
                    </a:lnTo>
                    <a:lnTo>
                      <a:pt x="48584" y="194336"/>
                    </a:lnTo>
                    <a:close/>
                    <a:moveTo>
                      <a:pt x="121460" y="194336"/>
                    </a:moveTo>
                    <a:lnTo>
                      <a:pt x="979479" y="194336"/>
                    </a:lnTo>
                    <a:lnTo>
                      <a:pt x="979479" y="0"/>
                    </a:lnTo>
                    <a:lnTo>
                      <a:pt x="1368151" y="388673"/>
                    </a:lnTo>
                    <a:lnTo>
                      <a:pt x="979479" y="777345"/>
                    </a:lnTo>
                    <a:lnTo>
                      <a:pt x="979479" y="583009"/>
                    </a:lnTo>
                    <a:lnTo>
                      <a:pt x="121460" y="583009"/>
                    </a:lnTo>
                    <a:lnTo>
                      <a:pt x="121460" y="1943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5e5"/>
                  </a:gs>
                  <a:gs pos="100000">
                    <a:srgbClr val="ffa2a1"/>
                  </a:gs>
                </a:gsLst>
                <a:lin ang="16200000"/>
              </a:gradFill>
              <a:ln w="9360">
                <a:solidFill>
                  <a:srgbClr val="be4b48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TextBox 30"/>
              <p:cNvSpPr/>
              <p:nvPr/>
            </p:nvSpPr>
            <p:spPr>
              <a:xfrm>
                <a:off x="5657760" y="2951280"/>
                <a:ext cx="132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e6b9b8"/>
                    </a:solidFill>
                    <a:latin typeface="Calibri"/>
                    <a:ea typeface="宋体"/>
                  </a:rPr>
                  <a:t>No query submitte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" name="TextBox 6"/>
            <p:cNvSpPr/>
            <p:nvPr/>
          </p:nvSpPr>
          <p:spPr>
            <a:xfrm>
              <a:off x="5614920" y="3668760"/>
              <a:ext cx="11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Rank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10"/>
          <p:cNvSpPr/>
          <p:nvPr/>
        </p:nvSpPr>
        <p:spPr>
          <a:xfrm>
            <a:off x="4948200" y="151128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penha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/01/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5435640" y="558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R resear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5435640" y="4233960"/>
            <a:ext cx="18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ttend ICTIR2013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4462560" y="-47520"/>
            <a:ext cx="0" cy="6858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15"/>
          <p:cNvSpPr/>
          <p:nvPr/>
        </p:nvSpPr>
        <p:spPr>
          <a:xfrm>
            <a:off x="6443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1832-9D43-4AB7-95C3-15C90D6E7C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Ranking for the candidate sugg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3" descr="C:\Users\ypeilin\Desktop\图片1.png"/>
          <p:cNvPicPr/>
          <p:nvPr/>
        </p:nvPicPr>
        <p:blipFill>
          <a:blip r:embed="rId1"/>
          <a:stretch/>
        </p:blipFill>
        <p:spPr>
          <a:xfrm>
            <a:off x="36360" y="1222200"/>
            <a:ext cx="9069480" cy="2998800"/>
          </a:xfrm>
          <a:prstGeom prst="rect">
            <a:avLst/>
          </a:prstGeom>
          <a:ln w="0">
            <a:noFill/>
          </a:ln>
        </p:spPr>
      </p:pic>
      <p:cxnSp>
        <p:nvCxnSpPr>
          <p:cNvPr id="538" name="直接箭头连接符 5"/>
          <p:cNvCxnSpPr/>
          <p:nvPr/>
        </p:nvCxnSpPr>
        <p:spPr>
          <a:xfrm>
            <a:off x="4427640" y="2060280"/>
            <a:ext cx="1224720" cy="10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39" name="直接箭头连接符 14"/>
          <p:cNvCxnSpPr/>
          <p:nvPr/>
        </p:nvCxnSpPr>
        <p:spPr>
          <a:xfrm flipV="1">
            <a:off x="4427280" y="2133000"/>
            <a:ext cx="1261080" cy="8643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40" name="直接箭头连接符 18"/>
          <p:cNvCxnSpPr/>
          <p:nvPr/>
        </p:nvCxnSpPr>
        <p:spPr>
          <a:xfrm>
            <a:off x="4355640" y="2133360"/>
            <a:ext cx="1369080" cy="8643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9DF7-A001-4FD2-941F-554739385A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3059280" y="4437000"/>
                <a:ext cx="36493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10"/>
              <p:cNvSpPr txBox="1"/>
              <p:nvPr/>
            </p:nvSpPr>
            <p:spPr>
              <a:xfrm>
                <a:off x="4332240" y="4941720"/>
                <a:ext cx="2543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11"/>
              <p:cNvSpPr txBox="1"/>
              <p:nvPr/>
            </p:nvSpPr>
            <p:spPr>
              <a:xfrm>
                <a:off x="4356000" y="5445000"/>
                <a:ext cx="2519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Group 4"/>
          <p:cNvGrpSpPr/>
          <p:nvPr/>
        </p:nvGrpSpPr>
        <p:grpSpPr>
          <a:xfrm>
            <a:off x="4356000" y="3068280"/>
            <a:ext cx="2519640" cy="3486600"/>
            <a:chOff x="4356000" y="3068280"/>
            <a:chExt cx="2519640" cy="3486600"/>
          </a:xfrm>
        </p:grpSpPr>
        <p:cxnSp>
          <p:nvCxnSpPr>
            <p:cNvPr id="546" name="直接箭头连接符 13"/>
            <p:cNvCxnSpPr/>
            <p:nvPr/>
          </p:nvCxnSpPr>
          <p:spPr>
            <a:xfrm>
              <a:off x="4463640" y="3068280"/>
              <a:ext cx="1224720" cy="1080"/>
            </a:xfrm>
            <a:prstGeom prst="straightConnector1">
              <a:avLst/>
            </a:prstGeom>
            <a:ln w="28440">
              <a:solidFill>
                <a:srgbClr val="00b050"/>
              </a:solidFill>
              <a:miter/>
              <a:headEnd len="med" type="arrow" w="med"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547" name="Object 12"/>
                <p:cNvSpPr txBox="1"/>
                <p:nvPr/>
              </p:nvSpPr>
              <p:spPr>
                <a:xfrm>
                  <a:off x="4356000" y="5949360"/>
                  <a:ext cx="2519640" cy="60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η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SIM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CS</m:t>
                      </m:r>
                      <m:sSub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g</m:t>
                              </m:r>
                            </m:e>
                          </m:eqArr>
                        </m:e>
                        <m:sub/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Ranking candidate sugg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9" name="直接箭头连接符 5"/>
          <p:cNvCxnSpPr/>
          <p:nvPr/>
        </p:nvCxnSpPr>
        <p:spPr>
          <a:xfrm>
            <a:off x="3456000" y="2204640"/>
            <a:ext cx="122472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50" name="直接箭头连接符 14"/>
          <p:cNvCxnSpPr/>
          <p:nvPr/>
        </p:nvCxnSpPr>
        <p:spPr>
          <a:xfrm flipV="1">
            <a:off x="3455640" y="2277360"/>
            <a:ext cx="1261080" cy="8643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51" name="直接箭头连接符 18"/>
          <p:cNvCxnSpPr/>
          <p:nvPr/>
        </p:nvCxnSpPr>
        <p:spPr>
          <a:xfrm>
            <a:off x="3384360" y="2277720"/>
            <a:ext cx="1369080" cy="8643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sp>
        <p:nvSpPr>
          <p:cNvPr id="5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4662-6CAA-42DF-86DD-5EF6EED818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3"/>
              <p:cNvSpPr txBox="1"/>
              <p:nvPr/>
            </p:nvSpPr>
            <p:spPr>
              <a:xfrm>
                <a:off x="2340000" y="4695840"/>
                <a:ext cx="3649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10"/>
              <p:cNvSpPr txBox="1"/>
              <p:nvPr/>
            </p:nvSpPr>
            <p:spPr>
              <a:xfrm>
                <a:off x="3468600" y="5200560"/>
                <a:ext cx="2543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11"/>
              <p:cNvSpPr txBox="1"/>
              <p:nvPr/>
            </p:nvSpPr>
            <p:spPr>
              <a:xfrm>
                <a:off x="3492360" y="5703840"/>
                <a:ext cx="2519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6" name="Group 4"/>
          <p:cNvGrpSpPr/>
          <p:nvPr/>
        </p:nvGrpSpPr>
        <p:grpSpPr>
          <a:xfrm>
            <a:off x="3492360" y="3212640"/>
            <a:ext cx="2519640" cy="3601080"/>
            <a:chOff x="3492360" y="3212640"/>
            <a:chExt cx="2519640" cy="3601080"/>
          </a:xfrm>
        </p:grpSpPr>
        <p:cxnSp>
          <p:nvCxnSpPr>
            <p:cNvPr id="557" name="直接箭头连接符 13"/>
            <p:cNvCxnSpPr/>
            <p:nvPr/>
          </p:nvCxnSpPr>
          <p:spPr>
            <a:xfrm>
              <a:off x="3492360" y="3212640"/>
              <a:ext cx="1224720" cy="108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558" name="Object 12"/>
                <p:cNvSpPr txBox="1"/>
                <p:nvPr/>
              </p:nvSpPr>
              <p:spPr>
                <a:xfrm>
                  <a:off x="3493080" y="6207840"/>
                  <a:ext cx="2518920" cy="60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η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SIM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g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CS</m:t>
                      </m:r>
                      <m:sSub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g</m:t>
                              </m:r>
                            </m:e>
                          </m:eqArr>
                        </m:e>
                        <m:sub/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59" name="Picture 8" descr="http://wikieducator.org/images/1/16/Dummy_user.png"/>
          <p:cNvPicPr/>
          <p:nvPr/>
        </p:nvPicPr>
        <p:blipFill>
          <a:blip r:embed="rId1"/>
          <a:stretch/>
        </p:blipFill>
        <p:spPr>
          <a:xfrm>
            <a:off x="-73080" y="2152800"/>
            <a:ext cx="865080" cy="871560"/>
          </a:xfrm>
          <a:prstGeom prst="rect">
            <a:avLst/>
          </a:prstGeom>
          <a:ln w="0">
            <a:noFill/>
          </a:ln>
        </p:spPr>
      </p:pic>
      <p:sp>
        <p:nvSpPr>
          <p:cNvPr id="560" name="矩形标注 21"/>
          <p:cNvSpPr/>
          <p:nvPr/>
        </p:nvSpPr>
        <p:spPr>
          <a:xfrm>
            <a:off x="1042920" y="3716280"/>
            <a:ext cx="2772000" cy="720720"/>
          </a:xfrm>
          <a:prstGeom prst="wedgeRectCallout">
            <a:avLst>
              <a:gd name="adj1" fmla="val -33134"/>
              <a:gd name="adj2" fmla="val -9081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hy the user dislikes  example suggestion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矩形标注 22"/>
          <p:cNvSpPr/>
          <p:nvPr/>
        </p:nvSpPr>
        <p:spPr>
          <a:xfrm>
            <a:off x="1042920" y="907920"/>
            <a:ext cx="2772000" cy="720720"/>
          </a:xfrm>
          <a:prstGeom prst="wedgeRectCallout">
            <a:avLst>
              <a:gd name="adj1" fmla="val -33074"/>
              <a:gd name="adj2" fmla="val 9121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hy the user likes example suggestion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23"/>
          <p:cNvSpPr/>
          <p:nvPr/>
        </p:nvSpPr>
        <p:spPr>
          <a:xfrm>
            <a:off x="7632720" y="2409840"/>
            <a:ext cx="1332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0"/>
                </a:solidFill>
                <a:latin typeface="Calibri"/>
                <a:ea typeface="宋体"/>
              </a:rPr>
              <a:t>Candidate Sugg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3" name="直接箭头连接符 24"/>
          <p:cNvCxnSpPr/>
          <p:nvPr/>
        </p:nvCxnSpPr>
        <p:spPr>
          <a:xfrm flipH="1">
            <a:off x="7055640" y="2876040"/>
            <a:ext cx="577080" cy="266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4" name="直接箭头连接符 25"/>
          <p:cNvCxnSpPr/>
          <p:nvPr/>
        </p:nvCxnSpPr>
        <p:spPr>
          <a:xfrm flipH="1" flipV="1">
            <a:off x="7055640" y="2161440"/>
            <a:ext cx="57708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5" name="矩形标注 28"/>
          <p:cNvSpPr/>
          <p:nvPr/>
        </p:nvSpPr>
        <p:spPr>
          <a:xfrm>
            <a:off x="5038560" y="3716280"/>
            <a:ext cx="2413080" cy="720720"/>
          </a:xfrm>
          <a:prstGeom prst="wedgeRectCallout">
            <a:avLst>
              <a:gd name="adj1" fmla="val -20365"/>
              <a:gd name="adj2" fmla="val -8728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hy other users dislike example suggestion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标注 29"/>
          <p:cNvSpPr/>
          <p:nvPr/>
        </p:nvSpPr>
        <p:spPr>
          <a:xfrm>
            <a:off x="4965840" y="907920"/>
            <a:ext cx="2414520" cy="720720"/>
          </a:xfrm>
          <a:prstGeom prst="wedgeRectCallout">
            <a:avLst>
              <a:gd name="adj1" fmla="val -17976"/>
              <a:gd name="adj2" fmla="val 8868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hy other users like example suggestion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7" name="Rounded Rectangle 31"/>
          <p:cNvGrpSpPr/>
          <p:nvPr/>
        </p:nvGrpSpPr>
        <p:grpSpPr>
          <a:xfrm>
            <a:off x="950760" y="1884240"/>
            <a:ext cx="2054520" cy="614520"/>
            <a:chOff x="950760" y="1884240"/>
            <a:chExt cx="2054520" cy="614520"/>
          </a:xfrm>
        </p:grpSpPr>
        <p:pic>
          <p:nvPicPr>
            <p:cNvPr id="568" name="Rounded Rectangle 31" descr=""/>
            <p:cNvPicPr/>
            <p:nvPr/>
          </p:nvPicPr>
          <p:blipFill>
            <a:blip r:embed="rId2"/>
            <a:stretch/>
          </p:blipFill>
          <p:spPr>
            <a:xfrm>
              <a:off x="950760" y="1884240"/>
              <a:ext cx="205452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1033560" y="1941480"/>
              <a:ext cx="1893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 profi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0" name="Rounded Rectangle 32"/>
          <p:cNvGrpSpPr/>
          <p:nvPr/>
        </p:nvGrpSpPr>
        <p:grpSpPr>
          <a:xfrm>
            <a:off x="950760" y="2895480"/>
            <a:ext cx="2054520" cy="609840"/>
            <a:chOff x="950760" y="2895480"/>
            <a:chExt cx="2054520" cy="609840"/>
          </a:xfrm>
        </p:grpSpPr>
        <p:pic>
          <p:nvPicPr>
            <p:cNvPr id="571" name="Rounded Rectangle 32" descr=""/>
            <p:cNvPicPr/>
            <p:nvPr/>
          </p:nvPicPr>
          <p:blipFill>
            <a:blip r:embed="rId3"/>
            <a:stretch/>
          </p:blipFill>
          <p:spPr>
            <a:xfrm>
              <a:off x="950760" y="2895480"/>
              <a:ext cx="20545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033560" y="2949480"/>
              <a:ext cx="1893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 profi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3" name="Rounded Rectangle 33"/>
          <p:cNvSpPr/>
          <p:nvPr/>
        </p:nvSpPr>
        <p:spPr>
          <a:xfrm>
            <a:off x="4968720" y="1916280"/>
            <a:ext cx="19432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 revi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ounded Rectangle 34"/>
          <p:cNvSpPr/>
          <p:nvPr/>
        </p:nvSpPr>
        <p:spPr>
          <a:xfrm>
            <a:off x="4968720" y="2924280"/>
            <a:ext cx="19432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gative revi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Experi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C2012 Contextual Suggestions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49 sugg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ning (60%), Validating (20%), Testing (20%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-fold cross valid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1 and 0 viewed as irrelevant, 1 as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31CE-4982-45E6-BD71-9F8DC8ED5C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49200" y="340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The proposed opinion-based profile modeling is more effective on the TREC2012 contextual suggestion colle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图表 8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5962680" cy="2889360"/>
          </a:xfrm>
          <a:prstGeom prst="rect">
            <a:avLst/>
          </a:prstGeom>
          <a:ln w="0">
            <a:noFill/>
          </a:ln>
        </p:spPr>
      </p:pic>
      <p:sp>
        <p:nvSpPr>
          <p:cNvPr id="580" name="TextBox 9"/>
          <p:cNvSpPr/>
          <p:nvPr/>
        </p:nvSpPr>
        <p:spPr>
          <a:xfrm>
            <a:off x="539640" y="2492280"/>
            <a:ext cx="11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 Average Pr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2"/>
          <p:cNvSpPr/>
          <p:nvPr/>
        </p:nvSpPr>
        <p:spPr>
          <a:xfrm>
            <a:off x="4356000" y="2349360"/>
            <a:ext cx="3311640" cy="2664000"/>
          </a:xfrm>
          <a:prstGeom prst="rect">
            <a:avLst/>
          </a:prstGeom>
          <a:noFill/>
          <a:ln w="2844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4572000" y="1844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Opinion-based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10"/>
          <p:cNvSpPr/>
          <p:nvPr/>
        </p:nvSpPr>
        <p:spPr>
          <a:xfrm>
            <a:off x="2340000" y="2781360"/>
            <a:ext cx="1727280" cy="2232000"/>
          </a:xfrm>
          <a:prstGeom prst="rect">
            <a:avLst/>
          </a:prstGeom>
          <a:noFill/>
          <a:ln w="2844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1"/>
          <p:cNvSpPr/>
          <p:nvPr/>
        </p:nvSpPr>
        <p:spPr>
          <a:xfrm>
            <a:off x="250920" y="5157720"/>
            <a:ext cx="30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alibri"/>
              </a:rPr>
              <a:t>Baselines were top runs in TREC2012 CS Trac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62FB-735C-47AC-82D7-1FC7B4A31C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矩形 3"/>
          <p:cNvSpPr/>
          <p:nvPr/>
        </p:nvSpPr>
        <p:spPr>
          <a:xfrm>
            <a:off x="1979640" y="5516640"/>
            <a:ext cx="576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-fold cross validation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4 users and 49 suggestion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Experi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lp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awled 01/15/2013 – 02/14/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users, 13,880 suggestions in tot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-fold cross valid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ngs of 1 and 2 are viewed as irrelevant, 4 and 5 as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4C5C-35B8-4A94-8BCC-22039C79EA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he proposed opinion-based methods are still more effective on a larger Yelp data set.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图表 7" descr=""/>
          <p:cNvPicPr/>
          <p:nvPr/>
        </p:nvPicPr>
        <p:blipFill>
          <a:blip r:embed="rId1"/>
          <a:stretch/>
        </p:blipFill>
        <p:spPr>
          <a:xfrm>
            <a:off x="2048040" y="1627200"/>
            <a:ext cx="4829040" cy="3895560"/>
          </a:xfrm>
          <a:prstGeom prst="rect">
            <a:avLst/>
          </a:prstGeom>
          <a:ln w="0">
            <a:noFill/>
          </a:ln>
        </p:spPr>
      </p:pic>
      <p:sp>
        <p:nvSpPr>
          <p:cNvPr id="59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2148-4C22-4D82-AEDA-F0C9D542E0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2"/>
          <p:cNvSpPr/>
          <p:nvPr/>
        </p:nvSpPr>
        <p:spPr>
          <a:xfrm>
            <a:off x="3995640" y="1989000"/>
            <a:ext cx="3168720" cy="3527640"/>
          </a:xfrm>
          <a:prstGeom prst="rect">
            <a:avLst/>
          </a:prstGeom>
          <a:noFill/>
          <a:ln w="7632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16"/>
          <p:cNvSpPr/>
          <p:nvPr/>
        </p:nvSpPr>
        <p:spPr>
          <a:xfrm>
            <a:off x="414036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Opinion-based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3"/>
          <p:cNvSpPr/>
          <p:nvPr/>
        </p:nvSpPr>
        <p:spPr>
          <a:xfrm>
            <a:off x="1979640" y="5516640"/>
            <a:ext cx="576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0-fold cross validation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00 users and 13,880 suggestion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he observations are consistent when using less or more training dat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图表 5" descr=""/>
          <p:cNvPicPr/>
          <p:nvPr/>
        </p:nvPicPr>
        <p:blipFill>
          <a:blip r:embed="rId1"/>
          <a:stretch/>
        </p:blipFill>
        <p:spPr>
          <a:xfrm>
            <a:off x="176040" y="2273400"/>
            <a:ext cx="2957760" cy="2384280"/>
          </a:xfrm>
          <a:prstGeom prst="rect">
            <a:avLst/>
          </a:prstGeom>
          <a:ln w="0">
            <a:noFill/>
          </a:ln>
        </p:spPr>
      </p:pic>
      <p:pic>
        <p:nvPicPr>
          <p:cNvPr id="598" name="图表 7" descr=""/>
          <p:cNvPicPr/>
          <p:nvPr/>
        </p:nvPicPr>
        <p:blipFill>
          <a:blip r:embed="rId2"/>
          <a:stretch/>
        </p:blipFill>
        <p:spPr>
          <a:xfrm>
            <a:off x="3127320" y="2273400"/>
            <a:ext cx="2962440" cy="2384280"/>
          </a:xfrm>
          <a:prstGeom prst="rect">
            <a:avLst/>
          </a:prstGeom>
          <a:ln w="0">
            <a:noFill/>
          </a:ln>
        </p:spPr>
      </p:pic>
      <p:pic>
        <p:nvPicPr>
          <p:cNvPr id="599" name="图表 8" descr=""/>
          <p:cNvPicPr/>
          <p:nvPr/>
        </p:nvPicPr>
        <p:blipFill>
          <a:blip r:embed="rId3"/>
          <a:stretch/>
        </p:blipFill>
        <p:spPr>
          <a:xfrm>
            <a:off x="6029280" y="2273400"/>
            <a:ext cx="3084480" cy="238428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"/>
          <p:cNvSpPr/>
          <p:nvPr/>
        </p:nvSpPr>
        <p:spPr>
          <a:xfrm>
            <a:off x="1042920" y="45831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0%, 25%, 2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0"/>
          <p:cNvSpPr/>
          <p:nvPr/>
        </p:nvSpPr>
        <p:spPr>
          <a:xfrm>
            <a:off x="3995640" y="460368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0%, 20%, 2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1"/>
          <p:cNvSpPr/>
          <p:nvPr/>
        </p:nvSpPr>
        <p:spPr>
          <a:xfrm>
            <a:off x="6948360" y="45655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0%, 15%, 1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12"/>
          <p:cNvSpPr/>
          <p:nvPr/>
        </p:nvSpPr>
        <p:spPr>
          <a:xfrm>
            <a:off x="4427640" y="2533680"/>
            <a:ext cx="1584360" cy="2070000"/>
          </a:xfrm>
          <a:prstGeom prst="rect">
            <a:avLst/>
          </a:prstGeom>
          <a:noFill/>
          <a:ln w="2844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13"/>
          <p:cNvSpPr/>
          <p:nvPr/>
        </p:nvSpPr>
        <p:spPr>
          <a:xfrm>
            <a:off x="7435800" y="2533680"/>
            <a:ext cx="1528920" cy="2070000"/>
          </a:xfrm>
          <a:prstGeom prst="rect">
            <a:avLst/>
          </a:prstGeom>
          <a:noFill/>
          <a:ln w="2844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14"/>
          <p:cNvSpPr/>
          <p:nvPr/>
        </p:nvSpPr>
        <p:spPr>
          <a:xfrm>
            <a:off x="1547640" y="2511360"/>
            <a:ext cx="1440000" cy="2071800"/>
          </a:xfrm>
          <a:prstGeom prst="rect">
            <a:avLst/>
          </a:prstGeom>
          <a:noFill/>
          <a:ln w="2844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1890-9EA3-4FD2-8307-BADAF82163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1"/>
          <p:cNvSpPr/>
          <p:nvPr/>
        </p:nvSpPr>
        <p:spPr>
          <a:xfrm>
            <a:off x="250920" y="5732640"/>
            <a:ext cx="892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* Baseline ALS comes from: Y. Zhou, D. Wilkinson, R. Schreiber, and R. Pan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rge-scale parallel collaborative filtering for the netflix prize. In Proceedings of the 4th international conference on Algorithmic Aspects in Information and Management,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AIM ’08, pages 337–348, Berlin, Heidelberg, 2008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ringer-Verla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More Experiments on Yelp’s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341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ways hold 20% testing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see whether less training data can lead good performa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内容占位符 2"/>
          <p:cNvSpPr/>
          <p:nvPr/>
        </p:nvSpPr>
        <p:spPr>
          <a:xfrm>
            <a:off x="539640" y="587700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Conclus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宋体"/>
              </a:rPr>
              <a:t>: Less training data also lead to good resul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图表 5" descr=""/>
          <p:cNvPicPr/>
          <p:nvPr/>
        </p:nvPicPr>
        <p:blipFill>
          <a:blip r:embed="rId1"/>
          <a:stretch/>
        </p:blipFill>
        <p:spPr>
          <a:xfrm>
            <a:off x="347760" y="2852640"/>
            <a:ext cx="8613720" cy="2773440"/>
          </a:xfrm>
          <a:prstGeom prst="rect">
            <a:avLst/>
          </a:prstGeom>
          <a:ln w="0">
            <a:noFill/>
          </a:ln>
        </p:spPr>
      </p:pic>
      <p:sp>
        <p:nvSpPr>
          <p:cNvPr id="612" name="TextBox 6"/>
          <p:cNvSpPr/>
          <p:nvPr/>
        </p:nvSpPr>
        <p:spPr>
          <a:xfrm>
            <a:off x="1258920" y="5538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7"/>
          <p:cNvSpPr/>
          <p:nvPr/>
        </p:nvSpPr>
        <p:spPr>
          <a:xfrm>
            <a:off x="3492360" y="5538960"/>
            <a:ext cx="5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8"/>
          <p:cNvSpPr/>
          <p:nvPr/>
        </p:nvSpPr>
        <p:spPr>
          <a:xfrm>
            <a:off x="5580000" y="5538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9"/>
          <p:cNvSpPr/>
          <p:nvPr/>
        </p:nvSpPr>
        <p:spPr>
          <a:xfrm>
            <a:off x="7667640" y="5538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10"/>
          <p:cNvSpPr/>
          <p:nvPr/>
        </p:nvSpPr>
        <p:spPr>
          <a:xfrm>
            <a:off x="1403280" y="3141720"/>
            <a:ext cx="1081080" cy="1800000"/>
          </a:xfrm>
          <a:prstGeom prst="rect">
            <a:avLst/>
          </a:prstGeom>
          <a:noFill/>
          <a:ln w="2844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11"/>
          <p:cNvSpPr/>
          <p:nvPr/>
        </p:nvSpPr>
        <p:spPr>
          <a:xfrm>
            <a:off x="3492360" y="3141720"/>
            <a:ext cx="1079640" cy="1800000"/>
          </a:xfrm>
          <a:prstGeom prst="rect">
            <a:avLst/>
          </a:prstGeom>
          <a:noFill/>
          <a:ln w="2844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12"/>
          <p:cNvSpPr/>
          <p:nvPr/>
        </p:nvSpPr>
        <p:spPr>
          <a:xfrm>
            <a:off x="5651640" y="3141720"/>
            <a:ext cx="1081080" cy="1800000"/>
          </a:xfrm>
          <a:prstGeom prst="rect">
            <a:avLst/>
          </a:prstGeom>
          <a:noFill/>
          <a:ln w="2844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13"/>
          <p:cNvSpPr/>
          <p:nvPr/>
        </p:nvSpPr>
        <p:spPr>
          <a:xfrm>
            <a:off x="7740720" y="3141720"/>
            <a:ext cx="1079280" cy="1800000"/>
          </a:xfrm>
          <a:prstGeom prst="rect">
            <a:avLst/>
          </a:prstGeom>
          <a:noFill/>
          <a:ln w="2844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0F73-E02D-4DF6-BB38-92133FE2DF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8920" y="124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Parameter sensitivity curves indicate that the positive profile is more effective than the negative on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1581-6640-486F-832D-FBA735BB74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4" descr="C:\Users\ypeilin\Downloads\Screenshot from 2013-08-29 16_43_02.png"/>
          <p:cNvPicPr/>
          <p:nvPr/>
        </p:nvPicPr>
        <p:blipFill>
          <a:blip r:embed="rId1"/>
          <a:stretch/>
        </p:blipFill>
        <p:spPr>
          <a:xfrm>
            <a:off x="1258920" y="1484280"/>
            <a:ext cx="6195960" cy="4229280"/>
          </a:xfrm>
          <a:prstGeom prst="rect">
            <a:avLst/>
          </a:prstGeom>
          <a:ln w="0">
            <a:noFill/>
          </a:ln>
        </p:spPr>
      </p:pic>
      <p:sp>
        <p:nvSpPr>
          <p:cNvPr id="624" name="Oval 1"/>
          <p:cNvSpPr/>
          <p:nvPr/>
        </p:nvSpPr>
        <p:spPr>
          <a:xfrm>
            <a:off x="5508720" y="2852640"/>
            <a:ext cx="1584360" cy="505080"/>
          </a:xfrm>
          <a:prstGeom prst="ellipse">
            <a:avLst/>
          </a:prstGeom>
          <a:noFill/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ounded Rectangle 2"/>
          <p:cNvSpPr/>
          <p:nvPr/>
        </p:nvSpPr>
        <p:spPr>
          <a:xfrm>
            <a:off x="5292720" y="1628640"/>
            <a:ext cx="194328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24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Conclusions and Future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proposed an opinion-based approach to user profile modeling for the contextual suggestion probl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mental results show that the proposed methods are more effective than the state of the art metho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n intergrated ranking aproach to consider both profile and contextual requireme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the approach to other application such as the personalized local search probl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236C-BEC1-4B5A-9DBD-6BB8E93A47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Commonly used two-step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99640" y="2276640"/>
            <a:ext cx="79520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candidate suggestions based on contextual requir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k candidates based on the user profi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-b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egory-bas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spcBef>
                <a:spcPts val="700"/>
              </a:spcBef>
              <a:buClr>
                <a:srgbClr val="000000"/>
              </a:buClr>
              <a:buFont typeface="Calibri"/>
              <a:buChar char="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3A83-3135-434E-9E73-3E145F7921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2"/>
          <p:cNvSpPr/>
          <p:nvPr/>
        </p:nvSpPr>
        <p:spPr>
          <a:xfrm>
            <a:off x="755640" y="3860640"/>
            <a:ext cx="7848720" cy="720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843280" y="5877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an we do bett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410920" y="1413000"/>
            <a:ext cx="4681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Questions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52EE-8365-4C0B-AB3A-964994773D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http://wikieducator.org/images/1/16/Dummy_user.png"/>
          <p:cNvPicPr/>
          <p:nvPr/>
        </p:nvPicPr>
        <p:blipFill>
          <a:blip r:embed="rId1"/>
          <a:stretch/>
        </p:blipFill>
        <p:spPr>
          <a:xfrm>
            <a:off x="96840" y="1243080"/>
            <a:ext cx="927000" cy="9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292720" y="604800"/>
          <a:ext cx="3743280" cy="2898720"/>
        </p:xfrm>
        <a:graphic>
          <a:graphicData uri="http://schemas.openxmlformats.org/drawingml/2006/table">
            <a:tbl>
              <a:tblPr/>
              <a:tblGrid>
                <a:gridCol w="2735280"/>
                <a:gridCol w="100800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4" descr="http://s3-media1.ak.yelpcdn.com/bphoto/lh6zfssV52srIqLOS_fqyg/l.jpg"/>
          <p:cNvPicPr/>
          <p:nvPr/>
        </p:nvPicPr>
        <p:blipFill>
          <a:blip r:embed="rId2"/>
          <a:stretch/>
        </p:blipFill>
        <p:spPr>
          <a:xfrm>
            <a:off x="6804000" y="2836800"/>
            <a:ext cx="1027080" cy="56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s3-media3.ak.yelpcdn.com/bphoto/6FbcKxDcZCnHQD8qqOcq-A/l.jpg"/>
          <p:cNvPicPr/>
          <p:nvPr/>
        </p:nvPicPr>
        <p:blipFill>
          <a:blip r:embed="rId3"/>
          <a:stretch/>
        </p:blipFill>
        <p:spPr>
          <a:xfrm>
            <a:off x="6804000" y="2152800"/>
            <a:ext cx="1027080" cy="53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http://nycxplorer.com/wp-content/uploads/2012/02/MetropolitanMuseumOfArtAtDusk1.jpg"/>
          <p:cNvPicPr/>
          <p:nvPr/>
        </p:nvPicPr>
        <p:blipFill>
          <a:blip r:embed="rId4"/>
          <a:stretch/>
        </p:blipFill>
        <p:spPr>
          <a:xfrm>
            <a:off x="6804000" y="1397160"/>
            <a:ext cx="1027080" cy="57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5"/>
          <a:stretch/>
        </p:blipFill>
        <p:spPr>
          <a:xfrm>
            <a:off x="6804000" y="676440"/>
            <a:ext cx="1027080" cy="595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0"/>
          <p:cNvSpPr/>
          <p:nvPr/>
        </p:nvSpPr>
        <p:spPr>
          <a:xfrm>
            <a:off x="6372360" y="1494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http://findicons.com/files/icons/1609/ose_png/256/error.png"/>
          <p:cNvPicPr/>
          <p:nvPr/>
        </p:nvPicPr>
        <p:blipFill>
          <a:blip r:embed="rId6"/>
          <a:stretch/>
        </p:blipFill>
        <p:spPr>
          <a:xfrm>
            <a:off x="8163000" y="13590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png-3.findicons.com/files/icons/1609/ose_png/256/tick.png"/>
          <p:cNvPicPr/>
          <p:nvPr/>
        </p:nvPicPr>
        <p:blipFill>
          <a:blip r:embed="rId7"/>
          <a:stretch/>
        </p:blipFill>
        <p:spPr>
          <a:xfrm>
            <a:off x="8147160" y="620640"/>
            <a:ext cx="739800" cy="738360"/>
          </a:xfrm>
          <a:prstGeom prst="rect">
            <a:avLst/>
          </a:prstGeom>
          <a:ln w="0">
            <a:noFill/>
          </a:ln>
        </p:spPr>
      </p:pic>
      <p:sp>
        <p:nvSpPr>
          <p:cNvPr id="100" name="云形标注 39"/>
          <p:cNvSpPr/>
          <p:nvPr/>
        </p:nvSpPr>
        <p:spPr>
          <a:xfrm>
            <a:off x="1398600" y="942840"/>
            <a:ext cx="1800360" cy="2054520"/>
          </a:xfrm>
          <a:prstGeom prst="cloudCallout">
            <a:avLst>
              <a:gd name="adj1" fmla="val -74175"/>
              <a:gd name="adj2" fmla="val 456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Calibri"/>
                <a:ea typeface="宋体"/>
              </a:rPr>
              <a:t> </a:t>
            </a:r>
            <a:r>
              <a:rPr b="1" lang="en-US" sz="7200" spc="-1" strike="noStrike">
                <a:solidFill>
                  <a:srgbClr val="0070c0"/>
                </a:solidFill>
                <a:latin typeface="Calibri"/>
                <a:ea typeface="宋体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http://png-3.findicons.com/files/icons/1609/ose_png/256/tick.png"/>
          <p:cNvPicPr/>
          <p:nvPr/>
        </p:nvPicPr>
        <p:blipFill>
          <a:blip r:embed="rId8"/>
          <a:stretch/>
        </p:blipFill>
        <p:spPr>
          <a:xfrm>
            <a:off x="8147160" y="205272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findicons.com/files/icons/1609/ose_png/256/error.png"/>
          <p:cNvPicPr/>
          <p:nvPr/>
        </p:nvPicPr>
        <p:blipFill>
          <a:blip r:embed="rId9"/>
          <a:stretch/>
        </p:blipFill>
        <p:spPr>
          <a:xfrm>
            <a:off x="8163000" y="276696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103" name="虚尾箭头 17"/>
          <p:cNvSpPr/>
          <p:nvPr/>
        </p:nvSpPr>
        <p:spPr>
          <a:xfrm rot="10800000">
            <a:off x="3347640" y="829800"/>
            <a:ext cx="1800360" cy="1862280"/>
          </a:xfrm>
          <a:custGeom>
            <a:avLst/>
            <a:gdLst/>
            <a:ahLst/>
            <a:rect l="l" t="t" r="r" b="b"/>
            <a:pathLst>
              <a:path w="1800199" h="1863207">
                <a:moveTo>
                  <a:pt x="0" y="465802"/>
                </a:moveTo>
                <a:lnTo>
                  <a:pt x="56256" y="465802"/>
                </a:lnTo>
                <a:lnTo>
                  <a:pt x="56256" y="1397405"/>
                </a:lnTo>
                <a:lnTo>
                  <a:pt x="0" y="1397405"/>
                </a:lnTo>
                <a:lnTo>
                  <a:pt x="0" y="465802"/>
                </a:lnTo>
                <a:close/>
                <a:moveTo>
                  <a:pt x="112512" y="465802"/>
                </a:moveTo>
                <a:lnTo>
                  <a:pt x="225025" y="465802"/>
                </a:lnTo>
                <a:lnTo>
                  <a:pt x="225025" y="1397405"/>
                </a:lnTo>
                <a:lnTo>
                  <a:pt x="112512" y="1397405"/>
                </a:lnTo>
                <a:lnTo>
                  <a:pt x="112512" y="465802"/>
                </a:lnTo>
                <a:close/>
                <a:moveTo>
                  <a:pt x="281281" y="465802"/>
                </a:moveTo>
                <a:lnTo>
                  <a:pt x="900100" y="465802"/>
                </a:lnTo>
                <a:lnTo>
                  <a:pt x="900100" y="0"/>
                </a:lnTo>
                <a:lnTo>
                  <a:pt x="1800199" y="931604"/>
                </a:lnTo>
                <a:lnTo>
                  <a:pt x="900100" y="1863207"/>
                </a:lnTo>
                <a:lnTo>
                  <a:pt x="900100" y="1397405"/>
                </a:lnTo>
                <a:lnTo>
                  <a:pt x="281281" y="1397405"/>
                </a:lnTo>
                <a:lnTo>
                  <a:pt x="281281" y="465802"/>
                </a:lnTo>
                <a:close/>
              </a:path>
            </a:pathLst>
          </a:cu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3564000" y="1341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User Profile Model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324000" y="2492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圆角矩形 2"/>
          <p:cNvSpPr/>
          <p:nvPr/>
        </p:nvSpPr>
        <p:spPr>
          <a:xfrm>
            <a:off x="250920" y="5732640"/>
            <a:ext cx="46814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  <a:ea typeface="宋体"/>
              </a:rPr>
              <a:t>Candidate sugg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  <a:ea typeface="宋体"/>
              </a:rPr>
              <a:t> </a:t>
            </a:r>
            <a:r>
              <a:rPr b="1" lang="en-US" sz="2200" spc="-1" strike="noStrike">
                <a:solidFill>
                  <a:srgbClr val="e46c0a"/>
                </a:solidFill>
                <a:latin typeface="Calibri"/>
                <a:ea typeface="宋体"/>
              </a:rPr>
              <a:t>satisfying contextual requiremen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1403280" y="4149720"/>
            <a:ext cx="2016360" cy="79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Ran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右箭头 4"/>
          <p:cNvSpPr/>
          <p:nvPr/>
        </p:nvSpPr>
        <p:spPr>
          <a:xfrm rot="5400000">
            <a:off x="1980720" y="3296880"/>
            <a:ext cx="852480" cy="68436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右箭头 25"/>
          <p:cNvSpPr/>
          <p:nvPr/>
        </p:nvSpPr>
        <p:spPr>
          <a:xfrm rot="16200000">
            <a:off x="2083680" y="4994640"/>
            <a:ext cx="647640" cy="68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364000" y="4097160"/>
            <a:ext cx="2880000" cy="46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31"/>
          <p:cNvSpPr/>
          <p:nvPr/>
        </p:nvSpPr>
        <p:spPr>
          <a:xfrm>
            <a:off x="5364000" y="4560840"/>
            <a:ext cx="2880000" cy="46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2"/>
          <p:cNvSpPr/>
          <p:nvPr/>
        </p:nvSpPr>
        <p:spPr>
          <a:xfrm>
            <a:off x="5364000" y="5022720"/>
            <a:ext cx="2880000" cy="46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5"/>
          <p:cNvSpPr/>
          <p:nvPr/>
        </p:nvSpPr>
        <p:spPr>
          <a:xfrm>
            <a:off x="5364000" y="5486400"/>
            <a:ext cx="2880000" cy="46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A161-324B-462C-A038-4C7E56D89E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右箭头 4"/>
          <p:cNvSpPr/>
          <p:nvPr/>
        </p:nvSpPr>
        <p:spPr>
          <a:xfrm>
            <a:off x="3503520" y="4221000"/>
            <a:ext cx="997200" cy="68436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176800" y="6093000"/>
            <a:ext cx="323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anked List of Sugg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313080" y="44280"/>
            <a:ext cx="6083280" cy="378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34671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roblem Set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Rounded Rectangle 34"/>
          <p:cNvGrpSpPr/>
          <p:nvPr/>
        </p:nvGrpSpPr>
        <p:grpSpPr>
          <a:xfrm>
            <a:off x="1706400" y="1238400"/>
            <a:ext cx="1195560" cy="468000"/>
            <a:chOff x="1706400" y="1238400"/>
            <a:chExt cx="1195560" cy="468000"/>
          </a:xfrm>
        </p:grpSpPr>
        <p:pic>
          <p:nvPicPr>
            <p:cNvPr id="120" name="Rounded Rectangle 34" descr=""/>
            <p:cNvPicPr/>
            <p:nvPr/>
          </p:nvPicPr>
          <p:blipFill>
            <a:blip r:embed="rId10"/>
            <a:stretch/>
          </p:blipFill>
          <p:spPr>
            <a:xfrm>
              <a:off x="1706400" y="1238400"/>
              <a:ext cx="119556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781280" y="128592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Rounded Rectangle 36"/>
          <p:cNvGrpSpPr/>
          <p:nvPr/>
        </p:nvGrpSpPr>
        <p:grpSpPr>
          <a:xfrm>
            <a:off x="1706400" y="2243160"/>
            <a:ext cx="1195560" cy="469800"/>
            <a:chOff x="1706400" y="2243160"/>
            <a:chExt cx="1195560" cy="469800"/>
          </a:xfrm>
        </p:grpSpPr>
        <p:pic>
          <p:nvPicPr>
            <p:cNvPr id="123" name="Rounded Rectangle 36" descr=""/>
            <p:cNvPicPr/>
            <p:nvPr/>
          </p:nvPicPr>
          <p:blipFill>
            <a:blip r:embed="rId11"/>
            <a:stretch/>
          </p:blipFill>
          <p:spPr>
            <a:xfrm>
              <a:off x="1706400" y="2243160"/>
              <a:ext cx="1195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781280" y="229392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http://wikieducator.org/images/1/16/Dummy_user.png"/>
          <p:cNvPicPr/>
          <p:nvPr/>
        </p:nvPicPr>
        <p:blipFill>
          <a:blip r:embed="rId1"/>
          <a:stretch/>
        </p:blipFill>
        <p:spPr>
          <a:xfrm>
            <a:off x="96840" y="1243080"/>
            <a:ext cx="927000" cy="9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5292720" y="604800"/>
          <a:ext cx="3743280" cy="2898720"/>
        </p:xfrm>
        <a:graphic>
          <a:graphicData uri="http://schemas.openxmlformats.org/drawingml/2006/table">
            <a:tbl>
              <a:tblPr/>
              <a:tblGrid>
                <a:gridCol w="2735280"/>
                <a:gridCol w="100800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4" descr="http://s3-media1.ak.yelpcdn.com/bphoto/lh6zfssV52srIqLOS_fqyg/l.jpg"/>
          <p:cNvPicPr/>
          <p:nvPr/>
        </p:nvPicPr>
        <p:blipFill>
          <a:blip r:embed="rId2"/>
          <a:stretch/>
        </p:blipFill>
        <p:spPr>
          <a:xfrm>
            <a:off x="6804000" y="2836800"/>
            <a:ext cx="1027080" cy="568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http://s3-media3.ak.yelpcdn.com/bphoto/6FbcKxDcZCnHQD8qqOcq-A/l.jpg"/>
          <p:cNvPicPr/>
          <p:nvPr/>
        </p:nvPicPr>
        <p:blipFill>
          <a:blip r:embed="rId3"/>
          <a:stretch/>
        </p:blipFill>
        <p:spPr>
          <a:xfrm>
            <a:off x="6804000" y="2152800"/>
            <a:ext cx="1027080" cy="53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http://nycxplorer.com/wp-content/uploads/2012/02/MetropolitanMuseumOfArtAtDusk1.jpg"/>
          <p:cNvPicPr/>
          <p:nvPr/>
        </p:nvPicPr>
        <p:blipFill>
          <a:blip r:embed="rId4"/>
          <a:stretch/>
        </p:blipFill>
        <p:spPr>
          <a:xfrm>
            <a:off x="6804000" y="1397160"/>
            <a:ext cx="1027080" cy="57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5"/>
          <a:stretch/>
        </p:blipFill>
        <p:spPr>
          <a:xfrm>
            <a:off x="6804000" y="676440"/>
            <a:ext cx="1027080" cy="5950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0"/>
          <p:cNvSpPr/>
          <p:nvPr/>
        </p:nvSpPr>
        <p:spPr>
          <a:xfrm>
            <a:off x="6372360" y="1494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6" descr="http://findicons.com/files/icons/1609/ose_png/256/error.png"/>
          <p:cNvPicPr/>
          <p:nvPr/>
        </p:nvPicPr>
        <p:blipFill>
          <a:blip r:embed="rId6"/>
          <a:stretch/>
        </p:blipFill>
        <p:spPr>
          <a:xfrm>
            <a:off x="8163000" y="13590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png-3.findicons.com/files/icons/1609/ose_png/256/tick.png"/>
          <p:cNvPicPr/>
          <p:nvPr/>
        </p:nvPicPr>
        <p:blipFill>
          <a:blip r:embed="rId7"/>
          <a:stretch/>
        </p:blipFill>
        <p:spPr>
          <a:xfrm>
            <a:off x="8147160" y="620640"/>
            <a:ext cx="739800" cy="738360"/>
          </a:xfrm>
          <a:prstGeom prst="rect">
            <a:avLst/>
          </a:prstGeom>
          <a:ln w="0">
            <a:noFill/>
          </a:ln>
        </p:spPr>
      </p:pic>
      <p:sp>
        <p:nvSpPr>
          <p:cNvPr id="134" name="云形标注 39"/>
          <p:cNvSpPr/>
          <p:nvPr/>
        </p:nvSpPr>
        <p:spPr>
          <a:xfrm>
            <a:off x="1398600" y="942840"/>
            <a:ext cx="1800360" cy="2054520"/>
          </a:xfrm>
          <a:prstGeom prst="cloudCallout">
            <a:avLst>
              <a:gd name="adj1" fmla="val -74175"/>
              <a:gd name="adj2" fmla="val 456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Calibri"/>
                <a:ea typeface="宋体"/>
              </a:rPr>
              <a:t> </a:t>
            </a:r>
            <a:r>
              <a:rPr b="1" lang="en-US" sz="7200" spc="-1" strike="noStrike">
                <a:solidFill>
                  <a:srgbClr val="0070c0"/>
                </a:solidFill>
                <a:latin typeface="Calibri"/>
                <a:ea typeface="宋体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http://png-3.findicons.com/files/icons/1609/ose_png/256/tick.png"/>
          <p:cNvPicPr/>
          <p:nvPr/>
        </p:nvPicPr>
        <p:blipFill>
          <a:blip r:embed="rId8"/>
          <a:stretch/>
        </p:blipFill>
        <p:spPr>
          <a:xfrm>
            <a:off x="8147160" y="205272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findicons.com/files/icons/1609/ose_png/256/error.png"/>
          <p:cNvPicPr/>
          <p:nvPr/>
        </p:nvPicPr>
        <p:blipFill>
          <a:blip r:embed="rId9"/>
          <a:stretch/>
        </p:blipFill>
        <p:spPr>
          <a:xfrm>
            <a:off x="8163000" y="276696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137" name="虚尾箭头 17"/>
          <p:cNvSpPr/>
          <p:nvPr/>
        </p:nvSpPr>
        <p:spPr>
          <a:xfrm rot="10800000">
            <a:off x="3347640" y="829800"/>
            <a:ext cx="1800360" cy="1862280"/>
          </a:xfrm>
          <a:custGeom>
            <a:avLst/>
            <a:gdLst/>
            <a:ahLst/>
            <a:rect l="l" t="t" r="r" b="b"/>
            <a:pathLst>
              <a:path w="1800199" h="1863207">
                <a:moveTo>
                  <a:pt x="0" y="465802"/>
                </a:moveTo>
                <a:lnTo>
                  <a:pt x="56256" y="465802"/>
                </a:lnTo>
                <a:lnTo>
                  <a:pt x="56256" y="1397405"/>
                </a:lnTo>
                <a:lnTo>
                  <a:pt x="0" y="1397405"/>
                </a:lnTo>
                <a:lnTo>
                  <a:pt x="0" y="465802"/>
                </a:lnTo>
                <a:close/>
                <a:moveTo>
                  <a:pt x="112512" y="465802"/>
                </a:moveTo>
                <a:lnTo>
                  <a:pt x="225025" y="465802"/>
                </a:lnTo>
                <a:lnTo>
                  <a:pt x="225025" y="1397405"/>
                </a:lnTo>
                <a:lnTo>
                  <a:pt x="112512" y="1397405"/>
                </a:lnTo>
                <a:lnTo>
                  <a:pt x="112512" y="465802"/>
                </a:lnTo>
                <a:close/>
                <a:moveTo>
                  <a:pt x="281281" y="465802"/>
                </a:moveTo>
                <a:lnTo>
                  <a:pt x="900100" y="465802"/>
                </a:lnTo>
                <a:lnTo>
                  <a:pt x="900100" y="0"/>
                </a:lnTo>
                <a:lnTo>
                  <a:pt x="1800199" y="931604"/>
                </a:lnTo>
                <a:lnTo>
                  <a:pt x="900100" y="1863207"/>
                </a:lnTo>
                <a:lnTo>
                  <a:pt x="900100" y="1397405"/>
                </a:lnTo>
                <a:lnTo>
                  <a:pt x="281281" y="1397405"/>
                </a:lnTo>
                <a:lnTo>
                  <a:pt x="281281" y="465802"/>
                </a:lnTo>
                <a:close/>
              </a:path>
            </a:pathLst>
          </a:cu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3564000" y="1341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User Profile Model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324000" y="2492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圆角矩形 2"/>
          <p:cNvSpPr/>
          <p:nvPr/>
        </p:nvSpPr>
        <p:spPr>
          <a:xfrm>
            <a:off x="179280" y="4292640"/>
            <a:ext cx="489744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  <a:ea typeface="宋体"/>
              </a:rPr>
              <a:t>Places from Copenha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4865-D934-483C-918A-919D0B61D5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3923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 Motivating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Rounded Rectangle 34"/>
          <p:cNvGrpSpPr/>
          <p:nvPr/>
        </p:nvGrpSpPr>
        <p:grpSpPr>
          <a:xfrm>
            <a:off x="1706400" y="1238400"/>
            <a:ext cx="1195560" cy="468000"/>
            <a:chOff x="1706400" y="1238400"/>
            <a:chExt cx="1195560" cy="468000"/>
          </a:xfrm>
        </p:grpSpPr>
        <p:pic>
          <p:nvPicPr>
            <p:cNvPr id="144" name="Rounded Rectangle 34" descr=""/>
            <p:cNvPicPr/>
            <p:nvPr/>
          </p:nvPicPr>
          <p:blipFill>
            <a:blip r:embed="rId10"/>
            <a:stretch/>
          </p:blipFill>
          <p:spPr>
            <a:xfrm>
              <a:off x="1706400" y="1238400"/>
              <a:ext cx="119556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781280" y="128592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Rounded Rectangle 36"/>
          <p:cNvGrpSpPr/>
          <p:nvPr/>
        </p:nvGrpSpPr>
        <p:grpSpPr>
          <a:xfrm>
            <a:off x="1706400" y="2243160"/>
            <a:ext cx="1195560" cy="469800"/>
            <a:chOff x="1706400" y="2243160"/>
            <a:chExt cx="1195560" cy="469800"/>
          </a:xfrm>
        </p:grpSpPr>
        <p:pic>
          <p:nvPicPr>
            <p:cNvPr id="147" name="Rounded Rectangle 36" descr=""/>
            <p:cNvPicPr/>
            <p:nvPr/>
          </p:nvPicPr>
          <p:blipFill>
            <a:blip r:embed="rId11"/>
            <a:stretch/>
          </p:blipFill>
          <p:spPr>
            <a:xfrm>
              <a:off x="1706400" y="2243160"/>
              <a:ext cx="1195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781280" y="229392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684360" y="5091120"/>
          <a:ext cx="3887640" cy="1081080"/>
        </p:xfrm>
        <a:graphic>
          <a:graphicData uri="http://schemas.openxmlformats.org/drawingml/2006/table">
            <a:tbl>
              <a:tblPr/>
              <a:tblGrid>
                <a:gridCol w="3024000"/>
                <a:gridCol w="863640"/>
              </a:tblGrid>
              <a:tr h="514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Nimb Hot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Little Merm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Picture 4" descr="http://media-cdn.tripadvisor.com/media/photo-s/01/f4/75/d1/early-morning-from-the.jpg"/>
          <p:cNvPicPr/>
          <p:nvPr/>
        </p:nvPicPr>
        <p:blipFill>
          <a:blip r:embed="rId12"/>
          <a:stretch/>
        </p:blipFill>
        <p:spPr>
          <a:xfrm>
            <a:off x="2700360" y="5146560"/>
            <a:ext cx="758880" cy="432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png-3.findicons.com/files/icons/1609/ose_png/256/tick.png"/>
          <p:cNvPicPr/>
          <p:nvPr/>
        </p:nvPicPr>
        <p:blipFill>
          <a:blip r:embed="rId13"/>
          <a:stretch/>
        </p:blipFill>
        <p:spPr>
          <a:xfrm>
            <a:off x="3890880" y="5013360"/>
            <a:ext cx="609840" cy="608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findicons.com/files/icons/1609/ose_png/256/error.png"/>
          <p:cNvPicPr/>
          <p:nvPr/>
        </p:nvPicPr>
        <p:blipFill>
          <a:blip r:embed="rId14"/>
          <a:stretch/>
        </p:blipFill>
        <p:spPr>
          <a:xfrm>
            <a:off x="3889440" y="5573880"/>
            <a:ext cx="590400" cy="591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mermaidsofearth.com/wp-content/uploads/2012/09/Rodolfo-Puig3L.jpg"/>
          <p:cNvPicPr/>
          <p:nvPr/>
        </p:nvPicPr>
        <p:blipFill>
          <a:blip r:embed="rId15"/>
          <a:stretch/>
        </p:blipFill>
        <p:spPr>
          <a:xfrm>
            <a:off x="2700360" y="5661000"/>
            <a:ext cx="75888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-27360"/>
            <a:ext cx="73090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Description-based Profile Model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8" descr="http://wikieducator.org/images/1/16/Dummy_user.png"/>
          <p:cNvPicPr/>
          <p:nvPr/>
        </p:nvPicPr>
        <p:blipFill>
          <a:blip r:embed="rId1"/>
          <a:stretch/>
        </p:blipFill>
        <p:spPr>
          <a:xfrm>
            <a:off x="96840" y="1243080"/>
            <a:ext cx="927000" cy="9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5292720" y="817560"/>
          <a:ext cx="3743280" cy="2898720"/>
        </p:xfrm>
        <a:graphic>
          <a:graphicData uri="http://schemas.openxmlformats.org/drawingml/2006/table">
            <a:tbl>
              <a:tblPr/>
              <a:tblGrid>
                <a:gridCol w="2735280"/>
                <a:gridCol w="100800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4" descr="http://s3-media1.ak.yelpcdn.com/bphoto/lh6zfssV52srIqLOS_fqyg/l.jpg"/>
          <p:cNvPicPr/>
          <p:nvPr/>
        </p:nvPicPr>
        <p:blipFill>
          <a:blip r:embed="rId2"/>
          <a:stretch/>
        </p:blipFill>
        <p:spPr>
          <a:xfrm>
            <a:off x="6804000" y="3049560"/>
            <a:ext cx="1027080" cy="568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http://s3-media3.ak.yelpcdn.com/bphoto/6FbcKxDcZCnHQD8qqOcq-A/l.jpg"/>
          <p:cNvPicPr/>
          <p:nvPr/>
        </p:nvPicPr>
        <p:blipFill>
          <a:blip r:embed="rId3"/>
          <a:stretch/>
        </p:blipFill>
        <p:spPr>
          <a:xfrm>
            <a:off x="6804000" y="2365200"/>
            <a:ext cx="1027080" cy="54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http://nycxplorer.com/wp-content/uploads/2012/02/MetropolitanMuseumOfArtAtDusk1.jpg"/>
          <p:cNvPicPr/>
          <p:nvPr/>
        </p:nvPicPr>
        <p:blipFill>
          <a:blip r:embed="rId4"/>
          <a:stretch/>
        </p:blipFill>
        <p:spPr>
          <a:xfrm>
            <a:off x="6804000" y="1609560"/>
            <a:ext cx="1027080" cy="5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5"/>
          <a:stretch/>
        </p:blipFill>
        <p:spPr>
          <a:xfrm>
            <a:off x="6804000" y="888840"/>
            <a:ext cx="1027080" cy="595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0"/>
          <p:cNvSpPr/>
          <p:nvPr/>
        </p:nvSpPr>
        <p:spPr>
          <a:xfrm>
            <a:off x="6372360" y="3618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http://findicons.com/files/icons/1609/ose_png/256/error.png"/>
          <p:cNvPicPr/>
          <p:nvPr/>
        </p:nvPicPr>
        <p:blipFill>
          <a:blip r:embed="rId6"/>
          <a:stretch/>
        </p:blipFill>
        <p:spPr>
          <a:xfrm>
            <a:off x="8163000" y="157176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http://png-3.findicons.com/files/icons/1609/ose_png/256/tick.png"/>
          <p:cNvPicPr/>
          <p:nvPr/>
        </p:nvPicPr>
        <p:blipFill>
          <a:blip r:embed="rId7"/>
          <a:stretch/>
        </p:blipFill>
        <p:spPr>
          <a:xfrm>
            <a:off x="8147160" y="833400"/>
            <a:ext cx="739800" cy="738360"/>
          </a:xfrm>
          <a:prstGeom prst="rect">
            <a:avLst/>
          </a:prstGeom>
          <a:ln w="0">
            <a:noFill/>
          </a:ln>
        </p:spPr>
      </p:pic>
      <p:sp>
        <p:nvSpPr>
          <p:cNvPr id="164" name="云形标注 39"/>
          <p:cNvSpPr/>
          <p:nvPr/>
        </p:nvSpPr>
        <p:spPr>
          <a:xfrm>
            <a:off x="1187280" y="942840"/>
            <a:ext cx="3240360" cy="3206880"/>
          </a:xfrm>
          <a:prstGeom prst="cloudCallout">
            <a:avLst>
              <a:gd name="adj1" fmla="val -60763"/>
              <a:gd name="adj2" fmla="val -26342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Calibri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http://png-3.findicons.com/files/icons/1609/ose_png/256/tick.png"/>
          <p:cNvPicPr/>
          <p:nvPr/>
        </p:nvPicPr>
        <p:blipFill>
          <a:blip r:embed="rId8"/>
          <a:stretch/>
        </p:blipFill>
        <p:spPr>
          <a:xfrm>
            <a:off x="8147160" y="226548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findicons.com/files/icons/1609/ose_png/256/error.png"/>
          <p:cNvPicPr/>
          <p:nvPr/>
        </p:nvPicPr>
        <p:blipFill>
          <a:blip r:embed="rId9"/>
          <a:stretch/>
        </p:blipFill>
        <p:spPr>
          <a:xfrm>
            <a:off x="8163000" y="29797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167" name="虚尾箭头 17"/>
          <p:cNvSpPr/>
          <p:nvPr/>
        </p:nvSpPr>
        <p:spPr>
          <a:xfrm rot="10800000">
            <a:off x="4427280" y="1428840"/>
            <a:ext cx="865080" cy="1495440"/>
          </a:xfrm>
          <a:custGeom>
            <a:avLst/>
            <a:gdLst/>
            <a:ahLst/>
            <a:rect l="l" t="t" r="r" b="b"/>
            <a:pathLst>
              <a:path w="1188133" h="1495520">
                <a:moveTo>
                  <a:pt x="0" y="373880"/>
                </a:moveTo>
                <a:lnTo>
                  <a:pt x="37129" y="373880"/>
                </a:lnTo>
                <a:lnTo>
                  <a:pt x="37129" y="1121640"/>
                </a:lnTo>
                <a:lnTo>
                  <a:pt x="0" y="1121640"/>
                </a:lnTo>
                <a:lnTo>
                  <a:pt x="0" y="373880"/>
                </a:lnTo>
                <a:close/>
                <a:moveTo>
                  <a:pt x="74258" y="373880"/>
                </a:moveTo>
                <a:lnTo>
                  <a:pt x="148517" y="373880"/>
                </a:lnTo>
                <a:lnTo>
                  <a:pt x="148517" y="1121640"/>
                </a:lnTo>
                <a:lnTo>
                  <a:pt x="74258" y="1121640"/>
                </a:lnTo>
                <a:lnTo>
                  <a:pt x="74258" y="373880"/>
                </a:lnTo>
                <a:close/>
                <a:moveTo>
                  <a:pt x="185646" y="373880"/>
                </a:moveTo>
                <a:lnTo>
                  <a:pt x="594067" y="373880"/>
                </a:lnTo>
                <a:lnTo>
                  <a:pt x="594067" y="0"/>
                </a:lnTo>
                <a:lnTo>
                  <a:pt x="1188133" y="747760"/>
                </a:lnTo>
                <a:lnTo>
                  <a:pt x="594067" y="1495520"/>
                </a:lnTo>
                <a:lnTo>
                  <a:pt x="594067" y="1121640"/>
                </a:lnTo>
                <a:lnTo>
                  <a:pt x="185646" y="1121640"/>
                </a:lnTo>
                <a:lnTo>
                  <a:pt x="185646" y="373880"/>
                </a:lnTo>
                <a:close/>
              </a:path>
            </a:pathLst>
          </a:cu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34920" y="2790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619280" y="4653000"/>
            <a:ext cx="1579680" cy="42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Ran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右箭头 4"/>
          <p:cNvSpPr/>
          <p:nvPr/>
        </p:nvSpPr>
        <p:spPr>
          <a:xfrm rot="5400000">
            <a:off x="2204640" y="4081320"/>
            <a:ext cx="405000" cy="68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右箭头 25"/>
          <p:cNvSpPr/>
          <p:nvPr/>
        </p:nvSpPr>
        <p:spPr>
          <a:xfrm rot="16200000">
            <a:off x="2220120" y="4915440"/>
            <a:ext cx="374400" cy="68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620720" y="1336680"/>
            <a:ext cx="27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Central Park is a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public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park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… 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remarkable food in unique environ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largest art museum in the US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Jazz music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接连接符 8"/>
          <p:cNvSpPr/>
          <p:nvPr/>
        </p:nvSpPr>
        <p:spPr>
          <a:xfrm flipV="1">
            <a:off x="1187280" y="2545920"/>
            <a:ext cx="3238560" cy="190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076720" y="4299120"/>
          <a:ext cx="3205440" cy="1081080"/>
        </p:xfrm>
        <a:graphic>
          <a:graphicData uri="http://schemas.openxmlformats.org/drawingml/2006/table">
            <a:tbl>
              <a:tblPr/>
              <a:tblGrid>
                <a:gridCol w="416160"/>
                <a:gridCol w="2789280"/>
              </a:tblGrid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Little Merm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Nimb Ho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5" name="Picture 2" descr="http://mermaidsofearth.com/wp-content/uploads/2012/09/Rodolfo-Puig3L.jpg"/>
          <p:cNvPicPr/>
          <p:nvPr/>
        </p:nvPicPr>
        <p:blipFill>
          <a:blip r:embed="rId10"/>
          <a:stretch/>
        </p:blipFill>
        <p:spPr>
          <a:xfrm>
            <a:off x="7413480" y="4370400"/>
            <a:ext cx="758880" cy="420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http://media-cdn.tripadvisor.com/media/photo-s/01/f4/75/d1/early-morning-from-the.jpg"/>
          <p:cNvPicPr/>
          <p:nvPr/>
        </p:nvPicPr>
        <p:blipFill>
          <a:blip r:embed="rId11"/>
          <a:stretch/>
        </p:blipFill>
        <p:spPr>
          <a:xfrm>
            <a:off x="7413480" y="4869000"/>
            <a:ext cx="758880" cy="43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png-3.findicons.com/files/icons/1609/ose_png/256/tick.png"/>
          <p:cNvPicPr/>
          <p:nvPr/>
        </p:nvPicPr>
        <p:blipFill>
          <a:blip r:embed="rId12"/>
          <a:stretch/>
        </p:blipFill>
        <p:spPr>
          <a:xfrm>
            <a:off x="8283600" y="4791240"/>
            <a:ext cx="609480" cy="607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://findicons.com/files/icons/1609/ose_png/256/error.png"/>
          <p:cNvPicPr/>
          <p:nvPr/>
        </p:nvPicPr>
        <p:blipFill>
          <a:blip r:embed="rId13"/>
          <a:stretch/>
        </p:blipFill>
        <p:spPr>
          <a:xfrm>
            <a:off x="8282160" y="4221000"/>
            <a:ext cx="590400" cy="5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250920" y="5511960"/>
          <a:ext cx="5473440" cy="1279440"/>
        </p:xfrm>
        <a:graphic>
          <a:graphicData uri="http://schemas.openxmlformats.org/drawingml/2006/table">
            <a:tbl>
              <a:tblPr/>
              <a:tblGrid>
                <a:gridCol w="1008000"/>
                <a:gridCol w="446544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culpture is on a rock… Downtown </a:t>
                      </a: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宋体"/>
                        </a:rPr>
                        <a:t>public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rt circuit tour 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t Nimb the focus is on detail - and the guest is always at the centre of attention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Picture 2" descr="http://mermaidsofearth.com/wp-content/uploads/2012/09/Rodolfo-Puig3L.jpg"/>
          <p:cNvPicPr/>
          <p:nvPr/>
        </p:nvPicPr>
        <p:blipFill>
          <a:blip r:embed="rId14"/>
          <a:stretch/>
        </p:blipFill>
        <p:spPr>
          <a:xfrm>
            <a:off x="395280" y="5583240"/>
            <a:ext cx="758880" cy="420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media-cdn.tripadvisor.com/media/photo-s/01/f4/75/d1/early-morning-from-the.jpg"/>
          <p:cNvPicPr/>
          <p:nvPr/>
        </p:nvPicPr>
        <p:blipFill>
          <a:blip r:embed="rId15"/>
          <a:stretch/>
        </p:blipFill>
        <p:spPr>
          <a:xfrm>
            <a:off x="395280" y="6237360"/>
            <a:ext cx="758880" cy="4316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5"/>
          <p:cNvSpPr/>
          <p:nvPr/>
        </p:nvSpPr>
        <p:spPr>
          <a:xfrm>
            <a:off x="6372360" y="5818320"/>
            <a:ext cx="20160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n not be generalized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E3DA-2E6C-4ACB-85BD-84192C8A33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右箭头 4"/>
          <p:cNvSpPr/>
          <p:nvPr/>
        </p:nvSpPr>
        <p:spPr>
          <a:xfrm>
            <a:off x="3419640" y="4616280"/>
            <a:ext cx="996840" cy="468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Rounded Rectangle 41"/>
          <p:cNvGrpSpPr/>
          <p:nvPr/>
        </p:nvGrpSpPr>
        <p:grpSpPr>
          <a:xfrm>
            <a:off x="480960" y="731880"/>
            <a:ext cx="1195560" cy="468360"/>
            <a:chOff x="480960" y="731880"/>
            <a:chExt cx="1195560" cy="468360"/>
          </a:xfrm>
        </p:grpSpPr>
        <p:pic>
          <p:nvPicPr>
            <p:cNvPr id="186" name="Rounded Rectangle 41" descr=""/>
            <p:cNvPicPr/>
            <p:nvPr/>
          </p:nvPicPr>
          <p:blipFill>
            <a:blip r:embed="rId16"/>
            <a:stretch/>
          </p:blipFill>
          <p:spPr>
            <a:xfrm>
              <a:off x="480960" y="731880"/>
              <a:ext cx="11955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57280" y="782640"/>
              <a:ext cx="1044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Rounded Rectangle 46"/>
          <p:cNvGrpSpPr/>
          <p:nvPr/>
        </p:nvGrpSpPr>
        <p:grpSpPr>
          <a:xfrm>
            <a:off x="480960" y="3614760"/>
            <a:ext cx="1195560" cy="469800"/>
            <a:chOff x="480960" y="3614760"/>
            <a:chExt cx="1195560" cy="469800"/>
          </a:xfrm>
        </p:grpSpPr>
        <p:pic>
          <p:nvPicPr>
            <p:cNvPr id="189" name="Rounded Rectangle 46" descr=""/>
            <p:cNvPicPr/>
            <p:nvPr/>
          </p:nvPicPr>
          <p:blipFill>
            <a:blip r:embed="rId17"/>
            <a:stretch/>
          </p:blipFill>
          <p:spPr>
            <a:xfrm>
              <a:off x="480960" y="3614760"/>
              <a:ext cx="1195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57280" y="366228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http://wikieducator.org/images/1/16/Dummy_user.png"/>
          <p:cNvPicPr/>
          <p:nvPr/>
        </p:nvPicPr>
        <p:blipFill>
          <a:blip r:embed="rId1"/>
          <a:stretch/>
        </p:blipFill>
        <p:spPr>
          <a:xfrm>
            <a:off x="96840" y="1243080"/>
            <a:ext cx="927000" cy="9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5292720" y="932040"/>
          <a:ext cx="3743280" cy="2898720"/>
        </p:xfrm>
        <a:graphic>
          <a:graphicData uri="http://schemas.openxmlformats.org/drawingml/2006/table">
            <a:tbl>
              <a:tblPr/>
              <a:tblGrid>
                <a:gridCol w="2735280"/>
                <a:gridCol w="100800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Picture 4" descr="http://s3-media1.ak.yelpcdn.com/bphoto/lh6zfssV52srIqLOS_fqyg/l.jpg"/>
          <p:cNvPicPr/>
          <p:nvPr/>
        </p:nvPicPr>
        <p:blipFill>
          <a:blip r:embed="rId2"/>
          <a:stretch/>
        </p:blipFill>
        <p:spPr>
          <a:xfrm>
            <a:off x="6804000" y="3164040"/>
            <a:ext cx="1027080" cy="56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s3-media3.ak.yelpcdn.com/bphoto/6FbcKxDcZCnHQD8qqOcq-A/l.jpg"/>
          <p:cNvPicPr/>
          <p:nvPr/>
        </p:nvPicPr>
        <p:blipFill>
          <a:blip r:embed="rId3"/>
          <a:stretch/>
        </p:blipFill>
        <p:spPr>
          <a:xfrm>
            <a:off x="6804000" y="2479680"/>
            <a:ext cx="1027080" cy="53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http://nycxplorer.com/wp-content/uploads/2012/02/MetropolitanMuseumOfArtAtDusk1.jpg"/>
          <p:cNvPicPr/>
          <p:nvPr/>
        </p:nvPicPr>
        <p:blipFill>
          <a:blip r:embed="rId4"/>
          <a:stretch/>
        </p:blipFill>
        <p:spPr>
          <a:xfrm>
            <a:off x="6804000" y="1724040"/>
            <a:ext cx="1027080" cy="576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5"/>
          <a:stretch/>
        </p:blipFill>
        <p:spPr>
          <a:xfrm>
            <a:off x="6804000" y="1003320"/>
            <a:ext cx="1027080" cy="5954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0"/>
          <p:cNvSpPr/>
          <p:nvPr/>
        </p:nvSpPr>
        <p:spPr>
          <a:xfrm>
            <a:off x="6372360" y="47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6" descr="http://findicons.com/files/icons/1609/ose_png/256/error.png"/>
          <p:cNvPicPr/>
          <p:nvPr/>
        </p:nvPicPr>
        <p:blipFill>
          <a:blip r:embed="rId6"/>
          <a:stretch/>
        </p:blipFill>
        <p:spPr>
          <a:xfrm>
            <a:off x="8163000" y="168588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http://png-3.findicons.com/files/icons/1609/ose_png/256/tick.png"/>
          <p:cNvPicPr/>
          <p:nvPr/>
        </p:nvPicPr>
        <p:blipFill>
          <a:blip r:embed="rId7"/>
          <a:stretch/>
        </p:blipFill>
        <p:spPr>
          <a:xfrm>
            <a:off x="8147160" y="947880"/>
            <a:ext cx="739800" cy="738000"/>
          </a:xfrm>
          <a:prstGeom prst="rect">
            <a:avLst/>
          </a:prstGeom>
          <a:ln w="0">
            <a:noFill/>
          </a:ln>
        </p:spPr>
      </p:pic>
      <p:sp>
        <p:nvSpPr>
          <p:cNvPr id="200" name="云形标注 39"/>
          <p:cNvSpPr/>
          <p:nvPr/>
        </p:nvSpPr>
        <p:spPr>
          <a:xfrm>
            <a:off x="1327320" y="692280"/>
            <a:ext cx="2668320" cy="3206520"/>
          </a:xfrm>
          <a:prstGeom prst="cloudCallout">
            <a:avLst>
              <a:gd name="adj1" fmla="val -66268"/>
              <a:gd name="adj2" fmla="val -12268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Calibri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png-3.findicons.com/files/icons/1609/ose_png/256/tick.png"/>
          <p:cNvPicPr/>
          <p:nvPr/>
        </p:nvPicPr>
        <p:blipFill>
          <a:blip r:embed="rId8"/>
          <a:stretch/>
        </p:blipFill>
        <p:spPr>
          <a:xfrm>
            <a:off x="8147160" y="237960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http://findicons.com/files/icons/1609/ose_png/256/error.png"/>
          <p:cNvPicPr/>
          <p:nvPr/>
        </p:nvPicPr>
        <p:blipFill>
          <a:blip r:embed="rId9"/>
          <a:stretch/>
        </p:blipFill>
        <p:spPr>
          <a:xfrm>
            <a:off x="8163000" y="309420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203" name="虚尾箭头 17"/>
          <p:cNvSpPr/>
          <p:nvPr/>
        </p:nvSpPr>
        <p:spPr>
          <a:xfrm rot="10800000">
            <a:off x="4067280" y="1646280"/>
            <a:ext cx="1187280" cy="1495440"/>
          </a:xfrm>
          <a:custGeom>
            <a:avLst/>
            <a:gdLst/>
            <a:ahLst/>
            <a:rect l="l" t="t" r="r" b="b"/>
            <a:pathLst>
              <a:path w="1188133" h="1495520">
                <a:moveTo>
                  <a:pt x="0" y="373880"/>
                </a:moveTo>
                <a:lnTo>
                  <a:pt x="37129" y="373880"/>
                </a:lnTo>
                <a:lnTo>
                  <a:pt x="37129" y="1121640"/>
                </a:lnTo>
                <a:lnTo>
                  <a:pt x="0" y="1121640"/>
                </a:lnTo>
                <a:lnTo>
                  <a:pt x="0" y="373880"/>
                </a:lnTo>
                <a:close/>
                <a:moveTo>
                  <a:pt x="74258" y="373880"/>
                </a:moveTo>
                <a:lnTo>
                  <a:pt x="148517" y="373880"/>
                </a:lnTo>
                <a:lnTo>
                  <a:pt x="148517" y="1121640"/>
                </a:lnTo>
                <a:lnTo>
                  <a:pt x="74258" y="1121640"/>
                </a:lnTo>
                <a:lnTo>
                  <a:pt x="74258" y="373880"/>
                </a:lnTo>
                <a:close/>
                <a:moveTo>
                  <a:pt x="185646" y="373880"/>
                </a:moveTo>
                <a:lnTo>
                  <a:pt x="594067" y="373880"/>
                </a:lnTo>
                <a:lnTo>
                  <a:pt x="594067" y="0"/>
                </a:lnTo>
                <a:lnTo>
                  <a:pt x="1188133" y="747760"/>
                </a:lnTo>
                <a:lnTo>
                  <a:pt x="594067" y="1495520"/>
                </a:lnTo>
                <a:lnTo>
                  <a:pt x="594067" y="1121640"/>
                </a:lnTo>
                <a:lnTo>
                  <a:pt x="185646" y="1121640"/>
                </a:lnTo>
                <a:lnTo>
                  <a:pt x="185646" y="373880"/>
                </a:lnTo>
                <a:close/>
              </a:path>
            </a:pathLst>
          </a:cu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106200" y="2276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1619280" y="4653000"/>
            <a:ext cx="1579680" cy="42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Ran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右箭头 4"/>
          <p:cNvSpPr/>
          <p:nvPr/>
        </p:nvSpPr>
        <p:spPr>
          <a:xfrm rot="5400000">
            <a:off x="2204640" y="4081320"/>
            <a:ext cx="405000" cy="68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右箭头 25"/>
          <p:cNvSpPr/>
          <p:nvPr/>
        </p:nvSpPr>
        <p:spPr>
          <a:xfrm rot="16200000">
            <a:off x="2220120" y="4915440"/>
            <a:ext cx="374400" cy="68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1619280" y="1085760"/>
            <a:ext cx="27417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Landma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Japanese Restaur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Art Muse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Night B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直接连接符 8"/>
          <p:cNvSpPr/>
          <p:nvPr/>
        </p:nvSpPr>
        <p:spPr>
          <a:xfrm>
            <a:off x="1327320" y="2386080"/>
            <a:ext cx="26589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39640" y="5511960"/>
          <a:ext cx="3240360" cy="1081080"/>
        </p:xfrm>
        <a:graphic>
          <a:graphicData uri="http://schemas.openxmlformats.org/drawingml/2006/table">
            <a:tbl>
              <a:tblPr/>
              <a:tblGrid>
                <a:gridCol w="1152720"/>
                <a:gridCol w="2087640"/>
              </a:tblGrid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Calibri"/>
                          <a:ea typeface="宋体"/>
                        </a:rPr>
                        <a:t>Landmar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Ho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Picture 2" descr="http://mermaidsofearth.com/wp-content/uploads/2012/09/Rodolfo-Puig3L.jpg"/>
          <p:cNvPicPr/>
          <p:nvPr/>
        </p:nvPicPr>
        <p:blipFill>
          <a:blip r:embed="rId10"/>
          <a:stretch/>
        </p:blipFill>
        <p:spPr>
          <a:xfrm>
            <a:off x="684360" y="5583240"/>
            <a:ext cx="758520" cy="420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http://media-cdn.tripadvisor.com/media/photo-s/01/f4/75/d1/early-morning-from-the.jpg"/>
          <p:cNvPicPr/>
          <p:nvPr/>
        </p:nvPicPr>
        <p:blipFill>
          <a:blip r:embed="rId11"/>
          <a:stretch/>
        </p:blipFill>
        <p:spPr>
          <a:xfrm>
            <a:off x="684360" y="6093000"/>
            <a:ext cx="75852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003640" y="4370400"/>
          <a:ext cx="3205440" cy="1081080"/>
        </p:xfrm>
        <a:graphic>
          <a:graphicData uri="http://schemas.openxmlformats.org/drawingml/2006/table">
            <a:tbl>
              <a:tblPr/>
              <a:tblGrid>
                <a:gridCol w="416160"/>
                <a:gridCol w="27892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Little Merm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Nimb Ho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Picture 2" descr="http://mermaidsofearth.com/wp-content/uploads/2012/09/Rodolfo-Puig3L.jpg"/>
          <p:cNvPicPr/>
          <p:nvPr/>
        </p:nvPicPr>
        <p:blipFill>
          <a:blip r:embed="rId12"/>
          <a:stretch/>
        </p:blipFill>
        <p:spPr>
          <a:xfrm>
            <a:off x="7340760" y="4441680"/>
            <a:ext cx="758520" cy="420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media-cdn.tripadvisor.com/media/photo-s/01/f4/75/d1/early-morning-from-the.jpg"/>
          <p:cNvPicPr/>
          <p:nvPr/>
        </p:nvPicPr>
        <p:blipFill>
          <a:blip r:embed="rId13"/>
          <a:stretch/>
        </p:blipFill>
        <p:spPr>
          <a:xfrm>
            <a:off x="7340760" y="4940280"/>
            <a:ext cx="758520" cy="432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ng-3.findicons.com/files/icons/1609/ose_png/256/tick.png"/>
          <p:cNvPicPr/>
          <p:nvPr/>
        </p:nvPicPr>
        <p:blipFill>
          <a:blip r:embed="rId14"/>
          <a:stretch/>
        </p:blipFill>
        <p:spPr>
          <a:xfrm>
            <a:off x="8210520" y="4862520"/>
            <a:ext cx="609480" cy="608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http://findicons.com/files/icons/1609/ose_png/256/error.png"/>
          <p:cNvPicPr/>
          <p:nvPr/>
        </p:nvPicPr>
        <p:blipFill>
          <a:blip r:embed="rId15"/>
          <a:stretch/>
        </p:blipFill>
        <p:spPr>
          <a:xfrm>
            <a:off x="8209080" y="4292640"/>
            <a:ext cx="590400" cy="59040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42B5-0077-4565-B660-58091E9CB2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标题 1"/>
          <p:cNvSpPr/>
          <p:nvPr/>
        </p:nvSpPr>
        <p:spPr>
          <a:xfrm>
            <a:off x="34920" y="-14400"/>
            <a:ext cx="9001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ategory-based Profile Model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Rounded Rectangle 37"/>
          <p:cNvGrpSpPr/>
          <p:nvPr/>
        </p:nvGrpSpPr>
        <p:grpSpPr>
          <a:xfrm>
            <a:off x="480960" y="804960"/>
            <a:ext cx="1195560" cy="469800"/>
            <a:chOff x="480960" y="804960"/>
            <a:chExt cx="1195560" cy="469800"/>
          </a:xfrm>
        </p:grpSpPr>
        <p:pic>
          <p:nvPicPr>
            <p:cNvPr id="221" name="Rounded Rectangle 37" descr=""/>
            <p:cNvPicPr/>
            <p:nvPr/>
          </p:nvPicPr>
          <p:blipFill>
            <a:blip r:embed="rId16"/>
            <a:stretch/>
          </p:blipFill>
          <p:spPr>
            <a:xfrm>
              <a:off x="480960" y="804960"/>
              <a:ext cx="1195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57280" y="853920"/>
              <a:ext cx="1044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Rounded Rectangle 38"/>
          <p:cNvGrpSpPr/>
          <p:nvPr/>
        </p:nvGrpSpPr>
        <p:grpSpPr>
          <a:xfrm>
            <a:off x="480960" y="3322800"/>
            <a:ext cx="1195560" cy="474480"/>
            <a:chOff x="480960" y="3322800"/>
            <a:chExt cx="1195560" cy="474480"/>
          </a:xfrm>
        </p:grpSpPr>
        <p:pic>
          <p:nvPicPr>
            <p:cNvPr id="224" name="Rounded Rectangle 38" descr=""/>
            <p:cNvPicPr/>
            <p:nvPr/>
          </p:nvPicPr>
          <p:blipFill>
            <a:blip r:embed="rId17"/>
            <a:stretch/>
          </p:blipFill>
          <p:spPr>
            <a:xfrm>
              <a:off x="480960" y="3322800"/>
              <a:ext cx="11955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57280" y="3375000"/>
              <a:ext cx="1044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右箭头 4"/>
          <p:cNvSpPr/>
          <p:nvPr/>
        </p:nvSpPr>
        <p:spPr>
          <a:xfrm>
            <a:off x="3419640" y="4616280"/>
            <a:ext cx="996840" cy="468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5219640" y="5908680"/>
            <a:ext cx="2952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ill not quite 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Box 34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6E7C-C0D8-4430-8AE0-06A8925523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rom “What” to “Why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79280" y="2368440"/>
          <a:ext cx="2376720" cy="2898720"/>
        </p:xfrm>
        <a:graphic>
          <a:graphicData uri="http://schemas.openxmlformats.org/drawingml/2006/table">
            <a:tbl>
              <a:tblPr/>
              <a:tblGrid>
                <a:gridCol w="1440000"/>
                <a:gridCol w="9367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entral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he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Sushi Yas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Angel's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Box 8"/>
          <p:cNvSpPr/>
          <p:nvPr/>
        </p:nvSpPr>
        <p:spPr>
          <a:xfrm>
            <a:off x="468360" y="19130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Bd BT"/>
                <a:ea typeface="宋体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6" descr="http://findicons.com/files/icons/1609/ose_png/256/error.png"/>
          <p:cNvPicPr/>
          <p:nvPr/>
        </p:nvPicPr>
        <p:blipFill>
          <a:blip r:embed="rId1"/>
          <a:stretch/>
        </p:blipFill>
        <p:spPr>
          <a:xfrm>
            <a:off x="1760400" y="312264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png-3.findicons.com/files/icons/1609/ose_png/256/tick.png"/>
          <p:cNvPicPr/>
          <p:nvPr/>
        </p:nvPicPr>
        <p:blipFill>
          <a:blip r:embed="rId2"/>
          <a:stretch/>
        </p:blipFill>
        <p:spPr>
          <a:xfrm>
            <a:off x="1744560" y="2384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http://png-3.findicons.com/files/icons/1609/ose_png/256/tick.png"/>
          <p:cNvPicPr/>
          <p:nvPr/>
        </p:nvPicPr>
        <p:blipFill>
          <a:blip r:embed="rId3"/>
          <a:stretch/>
        </p:blipFill>
        <p:spPr>
          <a:xfrm>
            <a:off x="1744560" y="3816360"/>
            <a:ext cx="739800" cy="73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http://findicons.com/files/icons/1609/ose_png/256/error.png"/>
          <p:cNvPicPr/>
          <p:nvPr/>
        </p:nvPicPr>
        <p:blipFill>
          <a:blip r:embed="rId4"/>
          <a:stretch/>
        </p:blipFill>
        <p:spPr>
          <a:xfrm>
            <a:off x="1760400" y="4530600"/>
            <a:ext cx="708120" cy="709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http://wikieducator.org/images/1/16/Dummy_user.png"/>
          <p:cNvPicPr/>
          <p:nvPr/>
        </p:nvPicPr>
        <p:blipFill>
          <a:blip r:embed="rId5"/>
          <a:stretch/>
        </p:blipFill>
        <p:spPr>
          <a:xfrm>
            <a:off x="3419640" y="1481040"/>
            <a:ext cx="366480" cy="366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http://wikieducator.org/images/1/16/Dummy_user.png"/>
          <p:cNvPicPr/>
          <p:nvPr/>
        </p:nvPicPr>
        <p:blipFill>
          <a:blip r:embed="rId6"/>
          <a:stretch/>
        </p:blipFill>
        <p:spPr>
          <a:xfrm>
            <a:off x="3419640" y="201780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://wikieducator.org/images/1/16/Dummy_user.png"/>
          <p:cNvPicPr/>
          <p:nvPr/>
        </p:nvPicPr>
        <p:blipFill>
          <a:blip r:embed="rId7"/>
          <a:stretch/>
        </p:blipFill>
        <p:spPr>
          <a:xfrm>
            <a:off x="3419640" y="2560680"/>
            <a:ext cx="366480" cy="365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ttp://www.clker.com/cliparts/f/9/8/1/1216181106356570529jean_victor_balin_icon_star.svg.med.png"/>
          <p:cNvPicPr/>
          <p:nvPr/>
        </p:nvPicPr>
        <p:blipFill>
          <a:blip r:embed="rId8"/>
          <a:stretch/>
        </p:blipFill>
        <p:spPr>
          <a:xfrm>
            <a:off x="3801960" y="1541520"/>
            <a:ext cx="271440" cy="258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www.clker.com/cliparts/f/9/8/1/1216181106356570529jean_victor_balin_icon_star.svg.med.png"/>
          <p:cNvPicPr/>
          <p:nvPr/>
        </p:nvPicPr>
        <p:blipFill>
          <a:blip r:embed="rId9"/>
          <a:stretch/>
        </p:blipFill>
        <p:spPr>
          <a:xfrm>
            <a:off x="4070520" y="1541520"/>
            <a:ext cx="271440" cy="258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clker.com/cliparts/f/9/8/1/1216181106356570529jean_victor_balin_icon_star.svg.med.png"/>
          <p:cNvPicPr/>
          <p:nvPr/>
        </p:nvPicPr>
        <p:blipFill>
          <a:blip r:embed="rId10"/>
          <a:stretch/>
        </p:blipFill>
        <p:spPr>
          <a:xfrm>
            <a:off x="4338720" y="154152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http://www.clker.com/cliparts/f/9/8/1/1216181106356570529jean_victor_balin_icon_star.svg.med.png"/>
          <p:cNvPicPr/>
          <p:nvPr/>
        </p:nvPicPr>
        <p:blipFill>
          <a:blip r:embed="rId11"/>
          <a:stretch/>
        </p:blipFill>
        <p:spPr>
          <a:xfrm>
            <a:off x="4606920" y="1541520"/>
            <a:ext cx="272880" cy="258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http://www.clker.com/cliparts/f/9/8/1/1216181106356570529jean_victor_balin_icon_star.svg.med.png"/>
          <p:cNvPicPr/>
          <p:nvPr/>
        </p:nvPicPr>
        <p:blipFill>
          <a:blip r:embed="rId12"/>
          <a:stretch/>
        </p:blipFill>
        <p:spPr>
          <a:xfrm>
            <a:off x="4875120" y="1544760"/>
            <a:ext cx="273240" cy="260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ttp://www.clker.com/cliparts/f/9/8/1/1216181106356570529jean_victor_balin_icon_star.svg.med.png"/>
          <p:cNvPicPr/>
          <p:nvPr/>
        </p:nvPicPr>
        <p:blipFill>
          <a:blip r:embed="rId13"/>
          <a:stretch/>
        </p:blipFill>
        <p:spPr>
          <a:xfrm>
            <a:off x="3814920" y="206064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ttp://www.clker.com/cliparts/f/9/8/1/1216181106356570529jean_victor_balin_icon_star.svg.med.png"/>
          <p:cNvPicPr/>
          <p:nvPr/>
        </p:nvPicPr>
        <p:blipFill>
          <a:blip r:embed="rId14"/>
          <a:stretch/>
        </p:blipFill>
        <p:spPr>
          <a:xfrm>
            <a:off x="4083120" y="2060640"/>
            <a:ext cx="272880" cy="260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ttp://www.clker.com/cliparts/f/9/8/1/1216181106356570529jean_victor_balin_icon_star.svg.med.png"/>
          <p:cNvPicPr/>
          <p:nvPr/>
        </p:nvPicPr>
        <p:blipFill>
          <a:blip r:embed="rId15"/>
          <a:stretch/>
        </p:blipFill>
        <p:spPr>
          <a:xfrm>
            <a:off x="4352760" y="2060640"/>
            <a:ext cx="271800" cy="260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http://www.clker.com/cliparts/f/9/8/1/1216181106356570529jean_victor_balin_icon_star.svg.med.png"/>
          <p:cNvPicPr/>
          <p:nvPr/>
        </p:nvPicPr>
        <p:blipFill>
          <a:blip r:embed="rId16"/>
          <a:stretch/>
        </p:blipFill>
        <p:spPr>
          <a:xfrm>
            <a:off x="4621320" y="2060640"/>
            <a:ext cx="271440" cy="260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http://www.clker.com/cliparts/f/9/8/1/1216181106356570529jean_victor_balin_icon_star.svg.med.png"/>
          <p:cNvPicPr/>
          <p:nvPr/>
        </p:nvPicPr>
        <p:blipFill>
          <a:blip r:embed="rId17"/>
          <a:stretch/>
        </p:blipFill>
        <p:spPr>
          <a:xfrm>
            <a:off x="3835440" y="2595600"/>
            <a:ext cx="271440" cy="260280"/>
          </a:xfrm>
          <a:prstGeom prst="rect">
            <a:avLst/>
          </a:prstGeom>
          <a:ln w="0">
            <a:noFill/>
          </a:ln>
        </p:spPr>
      </p:pic>
      <p:sp>
        <p:nvSpPr>
          <p:cNvPr id="256" name="右箭头 2"/>
          <p:cNvSpPr/>
          <p:nvPr/>
        </p:nvSpPr>
        <p:spPr>
          <a:xfrm rot="20058000">
            <a:off x="2665440" y="2134800"/>
            <a:ext cx="714240" cy="719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6942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14"/>
          <p:cNvSpPr/>
          <p:nvPr/>
        </p:nvSpPr>
        <p:spPr>
          <a:xfrm>
            <a:off x="5245200" y="1557360"/>
            <a:ext cx="550800" cy="252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9"/>
          <p:cNvSpPr/>
          <p:nvPr/>
        </p:nvSpPr>
        <p:spPr>
          <a:xfrm>
            <a:off x="5245200" y="2097000"/>
            <a:ext cx="550800" cy="252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30"/>
          <p:cNvSpPr/>
          <p:nvPr/>
        </p:nvSpPr>
        <p:spPr>
          <a:xfrm>
            <a:off x="5245200" y="2600280"/>
            <a:ext cx="550800" cy="2523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41F4-6FBA-4295-A328-26FA749E7D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2:55:41Z</dcterms:created>
  <dc:creator>ypeilin</dc:creator>
  <dc:description/>
  <dc:language>en-US</dc:language>
  <cp:lastModifiedBy>Hui Fang</cp:lastModifiedBy>
  <dcterms:modified xsi:type="dcterms:W3CDTF">2013-11-04T20:15:30Z</dcterms:modified>
  <cp:revision>491</cp:revision>
  <dc:subject/>
  <dc:title>Opinion-based User Profile Modeling for Contextual Suggestions</dc:title>
</cp:coreProperties>
</file>